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16.wmf" ContentType="image/x-wmf"/>
  <Override PartName="/ppt/media/image1.wmf" ContentType="image/x-wmf"/>
  <Override PartName="/ppt/media/image2.jpeg" ContentType="image/jpeg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2980-1E5C-43C6-A6C7-12365C852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6F51-2B95-4168-9B28-D6ABE7B1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F741-3942-44E0-B163-3CB747231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CE1A-B631-44E1-9DA7-7D2D20370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0B40-F3E6-450F-9BB4-038DC559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E019-ABF5-43A5-92CB-0D36EE47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A6E8-65C5-4547-9419-AC700B04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620A-B438-42E7-A1A0-6FC61E3D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3894-3A79-4B44-A39D-2FEF444B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E2DD-FB52-4256-9EC4-1E2471D6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4BD5-BE05-4C58-8EA5-675151A5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9BFC-BF94-4650-851B-0849B173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1A31-6F46-4F8F-A559-7E2B66135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4876920"/>
          </a:xfrm>
          <a:prstGeom prst="horizontalScroll">
            <a:avLst>
              <a:gd name="adj" fmla="val 12500"/>
            </a:avLst>
          </a:prstGeom>
          <a:noFill/>
          <a:ln w="117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00"/>
                </a:solidFill>
                <a:latin typeface="Courier New"/>
              </a:rPr>
              <a:t>CОВРЕМЕННЫЕ ТЕХНОЛОГИИ ПЕРЕДАЧИ АУДИОИНФОРМАЦИИ ЧЕРЕЗ ИНТЕРНЕ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52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Автор: Ефимов А. Е. (с)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Comic Sans MS"/>
              </a:rPr>
              <a:t>Радиовещание в Интерне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4b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4b03"/>
                </a:solidFill>
                <a:latin typeface="Times New Roman"/>
              </a:rPr>
              <a:t>Почти очевидным стало перенесение систем радиовещания из обычного радиоэфира в цифровые сети. Тысячи радиостанций установили у себя потоковые серверы и начали передавать свои обычные “живые” программы в Интерне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ff00"/>
                </a:solidFill>
                <a:latin typeface="Times New Roman"/>
              </a:rPr>
              <a:t>речь желательно передавать в полосе частот до 5-6 кГц, а музыку – до 10-12 кГц, причем в стереофоническом режиме, т. е. передавать два канала одновременно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66"/>
                </a:solidFill>
                <a:latin typeface="Times New Roman"/>
              </a:rPr>
              <a:t>Однако скорости передачи звуковых потоков в Интернет для большинства потенциальных слушателей все еще ограничены, и приходится идти на некоторые компромиссы. Усовершенствование алгоритмов кодирования позволило получить вполне удовлетворительное качество звука при умеренной скорости передачи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30314"/>
            </a:gs>
            <a:gs pos="100000">
              <a:srgbClr val="b6082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581280" y="914400"/>
            <a:ext cx="5562720" cy="4951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2335320" cy="2020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752480" y="228600"/>
            <a:ext cx="1752840" cy="1514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80880" y="2286000"/>
            <a:ext cx="182880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Courier New"/>
              </a:rPr>
              <a:t>Форматы передачи звуко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5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000"/>
                </a:solidFill>
                <a:latin typeface="Times New Roman"/>
              </a:rPr>
              <a:t>WAV</a:t>
            </a:r>
            <a:r>
              <a:rPr b="1" lang="en-US" sz="2400" spc="-1" strike="noStrike">
                <a:solidFill>
                  <a:srgbClr val="005000"/>
                </a:solidFill>
                <a:latin typeface="Times New Roman"/>
              </a:rPr>
              <a:t> (от waveform - форма сигнал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5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000"/>
                </a:solidFill>
                <a:latin typeface="Times New Roman"/>
              </a:rPr>
              <a:t>AU</a:t>
            </a:r>
            <a:r>
              <a:rPr b="1" lang="en-US" sz="2400" spc="-1" strike="noStrike">
                <a:solidFill>
                  <a:srgbClr val="005000"/>
                </a:solidFill>
                <a:latin typeface="Times New Roman"/>
              </a:rPr>
              <a:t> (Sparc-аудио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5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000"/>
                </a:solidFill>
                <a:latin typeface="Times New Roman"/>
              </a:rPr>
              <a:t>AIFF</a:t>
            </a:r>
            <a:r>
              <a:rPr b="1" lang="en-US" sz="2400" spc="-1" strike="noStrike">
                <a:solidFill>
                  <a:srgbClr val="005000"/>
                </a:solidFill>
                <a:latin typeface="Times New Roman"/>
              </a:rPr>
              <a:t> (Audio Interchange Forma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3ff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ff03"/>
                </a:solidFill>
                <a:latin typeface="Times New Roman"/>
              </a:rPr>
              <a:t>MIDI</a:t>
            </a:r>
            <a:r>
              <a:rPr b="1" lang="en-US" sz="2400" spc="-1" strike="noStrike">
                <a:solidFill>
                  <a:srgbClr val="03ff03"/>
                </a:solidFill>
                <a:latin typeface="Times New Roman"/>
              </a:rPr>
              <a:t> (Musical Instrument Digital Interfac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3ff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ff03"/>
                </a:solidFill>
                <a:latin typeface="Times New Roman"/>
              </a:rPr>
              <a:t>MPEG</a:t>
            </a:r>
            <a:r>
              <a:rPr b="1" lang="en-US" sz="2400" spc="-1" strike="noStrike">
                <a:solidFill>
                  <a:srgbClr val="03ff03"/>
                </a:solidFill>
                <a:latin typeface="Times New Roman"/>
              </a:rPr>
              <a:t> - (Moution Picture Enhancing Grou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ahoma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На фоне отвлеченных споров о будущем Интернет, о протоколах и стандартах, призванных обеспечить внедрение новейших технологий, отрадно наблюдать, как одна из них – передача звукоданных – развивается практически. Причем в данном конкретном случае понятно назначение информации и известны ее потребители. Разработанные звуковые технологии масштабируемы, опираются на уже существующие стандарты и готовы к переносу в более скоростные сети, как только те станут реальностью. Тогда по сети будут передаваться звуковые потоки с</a:t>
            </a:r>
            <a:r>
              <a:rPr b="1" lang="en-US" sz="2400" spc="-1" strike="noStrike">
                <a:solidFill>
                  <a:srgbClr val="b00a9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качеством CD и без всяких перерыв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3333ff"/>
                </a:solidFill>
                <a:latin typeface="Comic Sans MS"/>
              </a:rPr>
              <a:t>THE END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122560" y="1752480"/>
            <a:ext cx="4633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urier New"/>
              </a:rPr>
              <a:t>Передача звука в реальном времен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810240" cy="2247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мпания Progressive Networks разработала расширение языка 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истема Real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льзователь инициирует непрерывную передачу пакетов информации с сервера по сети Интерн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lAudio вместе со звуковой картой персонального компьютера превращает этот поток данных в зву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Comic Sans MS"/>
              </a:rPr>
              <a:t>Интерне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6"/>
                </a:solidFill>
                <a:latin typeface="Times New Roman"/>
              </a:rPr>
              <a:t>глобальная компьютерная се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8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6"/>
                </a:solidFill>
                <a:latin typeface="Times New Roman"/>
              </a:rPr>
              <a:t>подчиняющаяся самым передовым в мире законам и нормам информационного пра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8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6"/>
                </a:solidFill>
                <a:latin typeface="Times New Roman"/>
              </a:rPr>
              <a:t>Интернет станет привычной и повседневной рабочей средой для не только для телефонии и видеоконференций, но и для радио- и телевизионного вещ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7526520" cy="720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2590920" cy="2666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76360" y="1295280"/>
            <a:ext cx="5181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Абонент 1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Локальная телефонная сеть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Шлюз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Times New Roman"/>
              </a:rPr>
              <a:t>Интерн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Локальная телефонная сеть 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Абонент 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15000" y="1752480"/>
            <a:ext cx="457200" cy="533520"/>
          </a:xfrm>
          <a:prstGeom prst="upDownArrow">
            <a:avLst>
              <a:gd name="adj1" fmla="val 50000"/>
              <a:gd name="adj2" fmla="val 232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2666880"/>
            <a:ext cx="457200" cy="533520"/>
          </a:xfrm>
          <a:prstGeom prst="upDownArrow">
            <a:avLst>
              <a:gd name="adj1" fmla="val 50000"/>
              <a:gd name="adj2" fmla="val 232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15000" y="3657600"/>
            <a:ext cx="457200" cy="533520"/>
          </a:xfrm>
          <a:prstGeom prst="upDownArrow">
            <a:avLst>
              <a:gd name="adj1" fmla="val 50000"/>
              <a:gd name="adj2" fmla="val 232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4800600"/>
            <a:ext cx="457200" cy="533520"/>
          </a:xfrm>
          <a:prstGeom prst="upDownArrow">
            <a:avLst>
              <a:gd name="adj1" fmla="val 50000"/>
              <a:gd name="adj2" fmla="val 232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5715000"/>
            <a:ext cx="457200" cy="533520"/>
          </a:xfrm>
          <a:prstGeom prst="upDownArrow">
            <a:avLst>
              <a:gd name="adj1" fmla="val 50000"/>
              <a:gd name="adj2" fmla="val 232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1752480"/>
            <a:ext cx="457200" cy="533520"/>
          </a:xfrm>
          <a:prstGeom prst="upDownArrow">
            <a:avLst>
              <a:gd name="adj1" fmla="val 50000"/>
              <a:gd name="adj2" fmla="val 232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15000" y="2666880"/>
            <a:ext cx="457200" cy="533520"/>
          </a:xfrm>
          <a:prstGeom prst="upDownArrow">
            <a:avLst>
              <a:gd name="adj1" fmla="val 50000"/>
              <a:gd name="adj2" fmla="val 232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3657600"/>
            <a:ext cx="457200" cy="533520"/>
          </a:xfrm>
          <a:prstGeom prst="upDownArrow">
            <a:avLst>
              <a:gd name="adj1" fmla="val 50000"/>
              <a:gd name="adj2" fmla="val 232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4800600"/>
            <a:ext cx="457200" cy="533520"/>
          </a:xfrm>
          <a:prstGeom prst="upDownArrow">
            <a:avLst>
              <a:gd name="adj1" fmla="val 50000"/>
              <a:gd name="adj2" fmla="val 232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15000" y="5715000"/>
            <a:ext cx="457200" cy="533520"/>
          </a:xfrm>
          <a:prstGeom prst="upDownArrow">
            <a:avLst>
              <a:gd name="adj1" fmla="val 50000"/>
              <a:gd name="adj2" fmla="val 232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38080" y="533520"/>
            <a:ext cx="7534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2f1af4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Компьютерная телефония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ff0066"/>
                  </a:gs>
                  <a:gs pos="100000">
                    <a:srgbClr val="2f1af4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9db9"/>
                </a:solidFill>
                <a:latin typeface="Times New Roman"/>
              </a:rPr>
              <a:t>Варианты использования интернет-телефон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21337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2514600"/>
            <a:ext cx="7696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Рассмотрим варианты использования интернет-телефона и оценим воздействие Сети в различных случаях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601"/>
              </a:spcBef>
              <a:spcAft>
                <a:spcPts val="601"/>
              </a:spcAft>
              <a:buClr>
                <a:srgbClr val="ff4b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4b03"/>
                </a:solidFill>
                <a:latin typeface="Times New Roman"/>
              </a:rPr>
              <a:t>Компьютер - компьют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4b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4b03"/>
                </a:solidFill>
                <a:latin typeface="Times New Roman"/>
              </a:rPr>
              <a:t>Телефон - телефо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4b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4b03"/>
                </a:solidFill>
                <a:latin typeface="Times New Roman"/>
              </a:rPr>
              <a:t>Компьютер - телефон (телефон - компьютер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4b03"/>
                </a:solidFill>
                <a:latin typeface="Times New Roman"/>
              </a:rPr>
              <a:t>Компьютер - компьютер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Два компьютера, подключенные к сети Интернет, могут общаться без посредник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Нет необходимости преобразования сигнала Данные сразу передаются по стандартным протоколам Интернета, поэтому помехи проникнуть в пакет данных не могу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Негативное воздействие помех – задержка пакетов.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2778120"/>
            <a:ext cx="38098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b03"/>
                </a:solidFill>
                <a:latin typeface="Times New Roman"/>
              </a:rPr>
              <a:t>Телефон - телефо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1905120" cy="19717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Выход на ближайший шлюз интернет-телефон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Переключения телефонного аппарата в тоновый режим, набор номера абонента; вводится  идентификационный номер – и далее следует разгов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Счет за разговор через сеть Интернет окажется значительно меньш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133720" y="3733920"/>
            <a:ext cx="1904760" cy="1971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62120" y="3581280"/>
            <a:ext cx="1981080" cy="2121120"/>
          </a:xfrm>
          <a:custGeom>
            <a:avLst/>
            <a:gdLst/>
            <a:ahLst/>
            <a:rect l="l" t="t" r="r" b="b"/>
            <a:pathLst>
              <a:path w="1248" h="1336">
                <a:moveTo>
                  <a:pt x="96" y="0"/>
                </a:moveTo>
                <a:cubicBezTo>
                  <a:pt x="48" y="212"/>
                  <a:pt x="0" y="424"/>
                  <a:pt x="48" y="480"/>
                </a:cubicBezTo>
                <a:cubicBezTo>
                  <a:pt x="96" y="536"/>
                  <a:pt x="320" y="288"/>
                  <a:pt x="384" y="336"/>
                </a:cubicBezTo>
                <a:cubicBezTo>
                  <a:pt x="448" y="384"/>
                  <a:pt x="376" y="696"/>
                  <a:pt x="432" y="768"/>
                </a:cubicBezTo>
                <a:cubicBezTo>
                  <a:pt x="488" y="840"/>
                  <a:pt x="656" y="688"/>
                  <a:pt x="720" y="768"/>
                </a:cubicBezTo>
                <a:cubicBezTo>
                  <a:pt x="784" y="848"/>
                  <a:pt x="728" y="1160"/>
                  <a:pt x="816" y="1248"/>
                </a:cubicBezTo>
                <a:cubicBezTo>
                  <a:pt x="904" y="1336"/>
                  <a:pt x="1168" y="1288"/>
                  <a:pt x="1248" y="1296"/>
                </a:cubicBezTo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b03"/>
                </a:solidFill>
                <a:latin typeface="Times New Roman"/>
              </a:rPr>
              <a:t>Компьютер - телефо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04280" y="0"/>
            <a:ext cx="1539720" cy="20574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Times New Roman"/>
              </a:rPr>
              <a:t>программу интернет-телефонии(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VocalTec, Net2Ph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Times New Roman"/>
              </a:rPr>
              <a:t>Чтобы в полной мере использовать возможности интернет-телефона, необходимо подписаться на услуги провайдера интернет-телефон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62120" y="182880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6T17:17:23Z</dcterms:created>
  <dc:creator>Angel</dc:creator>
  <dc:description/>
  <dc:language>en-US</dc:language>
  <cp:lastModifiedBy>Angel</cp:lastModifiedBy>
  <dcterms:modified xsi:type="dcterms:W3CDTF">2000-04-24T22:35:08Z</dcterms:modified>
  <cp:revision>10</cp:revision>
  <dc:subject/>
  <dc:title>ВЕЩАТЕЛЬНЫЕ ПРИМЕНЕНИЯ CОВРЕМЕННЫХ ТЕХНОЛОГИЙ ПЕРЕДАЧИ АУДИОИНФОРМАЦИИ ЧЕРЕЗ ИНТЕРНЕТ </dc:title>
</cp:coreProperties>
</file>