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E28D-9C3B-4C69-9A3A-30326B09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C9DE-7C57-4AE3-AF5F-5656DFCE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85D6-A909-4FB1-B0A5-112695E7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6F05-1915-460D-8680-D593A5B5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B906-FE54-4A90-92DC-C36AE6B8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78B1-5E92-41C1-8687-63C59EDE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E079-C262-4EB7-B789-4F8D76CE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91A1-5A40-4B10-895F-25494ED9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ECF2-B3A5-415C-B48E-B565A072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4F64-8B38-496F-9C67-2D04749C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AA13-645D-4AAC-A448-623BB7C5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3A97-3653-4B8A-972D-86407B80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0797-A2D4-4276-BEB7-72C5470C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CA2D-F985-43C9-ADA0-E104A733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382F-A6E8-42B3-8BA7-7F8E36B3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9601-63A6-42DA-B092-6FADD15B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7459-D79C-44CB-8B7C-804E093E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90069-11A6-42AC-A872-19EA9091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E1BE-B60E-4426-B2C2-61B46DCB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5C05-D20E-4FEC-ACBB-780A5E45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DFEB-7F74-488C-9CD2-9E8E9AF7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819F-AEF4-4286-A6B7-169BDC17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E1CD-59F1-40E8-8F6E-E3B2DF4A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0B2D-ABD5-4910-9044-2A43035C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1086-9E86-456F-B08D-198D4E3DA9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F39F-6D26-45AF-AEAA-43B5C2BE8A3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fdef6"/>
                </a:solidFill>
                <a:latin typeface="Arial"/>
              </a:rPr>
              <a:t>Причины кризиса 2008 года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Главная причина мирового финансового кризиса 2008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года - проблемы ипотечного кредитования в СШ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5651640" y="3789360"/>
            <a:ext cx="32382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fdef6"/>
                </a:solidFill>
                <a:latin typeface="Times New Roman"/>
              </a:rPr>
              <a:t>Причины финансового кризиса 2008 года в России: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84360" y="2097720"/>
            <a:ext cx="817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1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ировой финансовый кризи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11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становившийся рост фондовых индексов и их дальнейшее обруш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11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ассовый отток капитала за рубеж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11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зкое падение мировых цен на неф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11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висимость российской экономики от мировых цен на энергоносител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пад промышленности по итогам 2008 г. составил 7,4 проце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наиболее сложной экономической ситуации находятся отрасл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еталлург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ашинострое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имическая промышленнос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втомобилестрое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обыча полезных ископаем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Times New Roman"/>
              </a:rPr>
              <a:t>Инфляция в Росс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нварь 2007 года – 1,7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нварь 2008 года – 2,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нварь 2009 года – 2,4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4648320" y="1600200"/>
          <a:ext cx="4030560" cy="2190600"/>
        </p:xfrm>
        <a:graphic>
          <a:graphicData uri="http://schemas.openxmlformats.org/drawingml/2006/table">
            <a:tbl>
              <a:tblPr/>
              <a:tblGrid>
                <a:gridCol w="4030560"/>
              </a:tblGrid>
              <a:tr h="21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4211640" y="1628640"/>
          <a:ext cx="4932360" cy="3610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11640" y="1628640"/>
                    <a:ext cx="493236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фляция з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квартал 2009 - 5,3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фляция в 2009 г. по предварительным данным составит около 13%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о результатам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вартала 2009 года количество безработных в России составило 7,1 миллионов челове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ef6"/>
                </a:solidFill>
                <a:latin typeface="Times New Roman"/>
              </a:rPr>
              <a:t>Уровень безработицы по России (в тыс. чел.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нварь 2007 года – 17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нварь 2008 года – 146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нварь 2009 года – 28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3995640" y="1844640"/>
          <a:ext cx="5148360" cy="39276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1844640"/>
                    <a:ext cx="514836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6:58:17Z</dcterms:created>
  <dc:creator>Admin</dc:creator>
  <dc:description/>
  <dc:language>en-US</dc:language>
  <cp:lastModifiedBy>Admin</cp:lastModifiedBy>
  <dcterms:modified xsi:type="dcterms:W3CDTF">2009-05-28T07:36:10Z</dcterms:modified>
  <cp:revision>5</cp:revision>
  <dc:subject/>
  <dc:title>Причины кризиса 2008 года</dc:title>
</cp:coreProperties>
</file>