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FBF2-FC54-49E9-99BC-DA48AA77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ED28-127C-4402-919F-E30BF518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2C4F-895E-4921-A6E3-C45671A7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9786-844D-4132-B2C7-CA0ED1B5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3A20-FF51-45CD-AB2E-04847CF8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F5B1-FE32-454C-ABAC-B714DD45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7D9B-E9A0-46B1-BBB7-C8C42F4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34E1-585E-442B-A316-8D7D9BF5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0641-2EA7-4D95-BB2A-CF976DFA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2A66-8E20-46C1-9EAC-03A5087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74C9-723D-42B7-B0A2-30ED5033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780B-CD20-4508-AEF8-8A36780A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0982-5FD9-478E-B81E-20FDA3B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0E82-8BAB-4D85-A231-B737ABF8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A46E-D86D-48BA-BA50-C804C24E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1E6F-BDFA-4810-A8CF-6290DC40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665C-039A-4553-9097-C54C8850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C2CF2-109C-406F-BD9D-EB486C4E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8495-3FBC-4B69-AB95-4575E93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6F41-F710-41CC-BA5D-FFB9A6A7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4F40-E369-4156-9E0E-C7AFCAD2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C749-B626-469A-B0D2-96ED4AC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A2FB-FCA5-4FEE-A88F-64DDC86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4D87-7C3C-4D36-9B2A-B7ADB581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831A-100F-4B4E-A7FD-944EE1D96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8651-A096-4732-A3BA-108E0C0A3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Влияние мирового финансового кризиса 2008 года на Россию и ее регионы</a:t>
            </a:r>
            <a:br>
              <a:rPr sz="3600"/>
            </a:br>
            <a:r>
              <a:rPr b="1" i="1" lang="en-US" sz="2800" spc="-1" strike="noStrike">
                <a:solidFill>
                  <a:srgbClr val="990099"/>
                </a:solidFill>
                <a:latin typeface="Tahoma"/>
              </a:rPr>
              <a:t>(на примере Ульяновской области)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5562360"/>
            <a:ext cx="56386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304560"/>
            <a:ext cx="6933960" cy="61722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1914 год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зван Первой мировой войно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изошел крах на всех рынках, как товарных, так и денежных.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304560"/>
            <a:ext cx="6705720" cy="609588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4 октября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1929 год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именуемый «Черный четверг»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чало  крупнейшего  в истории мирового экономического кризиса –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еликой депрессии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ризис затронул большинство развивающихся стран. Продолжался до 1933 год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304560"/>
            <a:ext cx="6934320" cy="617220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1973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рвый мировой энергетический кризи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который начался с подачи стран -  членов ОПЕК, снизивших объемы добычи нефт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тронул: США, Великобританию, Францию, Японию, Итали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304560"/>
            <a:ext cx="6858000" cy="60958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ahoma"/>
              </a:rPr>
              <a:t>Черный понедельник 1987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год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9 октября 1987 года американский фондовый индекс Dow Jones Industrial обвалился на 22,6%. Вслед за американским рынком рухнули  рынки Австралии, Канады, Гонкон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можная причина кризиса: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ток инвесторов с рынков после сильного снижения капитализации нескольких крупных компани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304560"/>
            <a:ext cx="6629400" cy="60958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1998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‑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оссийский кризис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дин из самых тяжелы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экономических кризисов в истории России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ефолт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чины 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громный государственный долг России,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изкие мировые цены на сырье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ирамида государственных краткосрочных облигац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ировой кризис 1997-1998 гг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тронул и большинство развивающихся стран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Чехию, Малайзию, Таиланд, Индонезию, Южную Корею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28600"/>
            <a:ext cx="7391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сновные вопросы темы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анализ причин современного мирового финансового кризиса в Росс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ценка влияния мирового финансового кризиса на Ульяновскую область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антикризисные меры правительств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1908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ahoma"/>
              </a:rPr>
              <a:t>кризис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Резкий, крутой перелом в чем-либо, тяжелое переходное состояние;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Острое затруднение с чем-либо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Тяжелое положение;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4. 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риод обострения противоречий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ьшой энциклопедический словар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304920"/>
            <a:ext cx="7391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Кризисы подразделяются на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кономически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тически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циальны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нежно-кредитны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ржевые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грарны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ировы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1908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Экономический кризи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рушение  развития экономики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адение производств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догрузка производственных мощностей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ост безработицы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рушение денежно-кредитных и валютно-финансовых отношений и др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ольшой энциклопедический словар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1908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ahoma"/>
              </a:rPr>
              <a:t>Финансовый кризис</a:t>
            </a: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это глубокое расстройство государственной, финансовой, денежной систем.</a:t>
            </a:r>
            <a:br>
              <a:rPr sz="4000"/>
            </a:b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Финансовый словарь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304920"/>
            <a:ext cx="6248520" cy="63244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1857</a:t>
            </a:r>
            <a:r>
              <a:rPr b="1" i="1" lang="en-US" sz="4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ff3300"/>
                </a:solidFill>
                <a:latin typeface="Garamond"/>
              </a:rPr>
              <a:t>год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ы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ировой экономический кризис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нёс удар народному хозяйству и общественной жизни  США, Германии, Англии и Франци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чиной послужили массов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анкротства железнодорожных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мпаний и обвал рынка акций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304920"/>
            <a:ext cx="6019560" cy="64008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1873 год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упный международный финансовый кризи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мериканская и европейская экономика впали в фазу рецессии, экспорт стран Латинской Америки резко сократился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ый продолжительный в истории капитализма кризи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который завершился в 1878 году.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304920"/>
            <a:ext cx="6248520" cy="63244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1900-1903 гг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вились началом упадка в экономической сфере, затронувший большинство развитых стран и сопровождавшийся финансовыми крахами, закрытием предприятий и резким падением уровня производств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России кризис перерос в депрессию, которая длилась вплоть до 1909 года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3:23:07Z</dcterms:created>
  <dc:creator>Елена</dc:creator>
  <dc:description/>
  <dc:language>en-US</dc:language>
  <cp:lastModifiedBy>Елена</cp:lastModifiedBy>
  <dcterms:modified xsi:type="dcterms:W3CDTF">2009-05-28T06:50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