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F672-5D30-4E1C-B620-5BE67539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63C5-CF3E-49A6-A691-19DE12A4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E0EA-E2A6-4B23-BAC9-21C668B4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D72B-080D-4729-81D1-BEBAAC54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538B-0A9F-416A-A201-B0A0EF7C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F82A-5AA5-4CC6-88E0-B8F5CE2D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01DC-96F7-45C6-B93F-3949BB75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7662-B69F-4347-A7F0-70FAE34E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01E2-341C-4EE9-8CA8-AC08807D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16FB-7BB6-46A0-8F4F-80AAAEE4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8DAC-AD14-4002-9E51-3E46A795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B9FE-3568-40D3-9C63-4B940E9A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746D-8BE0-421A-A7F9-40A31287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2682-E80E-4C58-9EE2-B4EFF85C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5DD5-4B87-44A5-93CF-3E9E1255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6EBF-5910-4B27-9C6B-1D844EB1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EBB-A3D9-4CA6-8669-14C51DFD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B775-BE0B-4542-95C3-9036327E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9770-7D28-45ED-8C3C-E0F01D9F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375F-86C4-46F8-915B-13ADB6BD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61D8-85AD-4B22-9195-8F605F22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7B7A-C3F1-42A0-AD87-2395D18D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CFD7-E140-4A66-9244-4778C907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6459-F909-4E33-A888-07E3C011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1C2E-4E8C-4569-A35A-D1EFDD767B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0C4E-391E-4BD4-84A9-91A4A273BF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fdef6"/>
                </a:solidFill>
                <a:latin typeface="Times New Roman"/>
              </a:rPr>
              <a:t>Кризис в Ульяновской области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ризи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это «поворотный момент», точка, после которой вещи не могут оставаться прежними. В экономике кризис проявляетс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значительном спаде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нарушении сложившихся производственных связ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банкротстве предпри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росте безработ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6659640" y="4373640"/>
            <a:ext cx="22334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Наибольшие проблемы в регионе испытывают обрабатывающие отрасли: это машиностроение и металлообработка. Снижение произошло по большому счёту из-за того, что в январе сократили производство автомобилей и оборудования «УАЗ», «Моторный завод» и дру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4392360" cy="29260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92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лияние кризиса распространилось и на социальные показатели. Количество не работающего населения увеличив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ейчас, средняя заработная плата составляет 10100 рублей. По сравнению с январём прошлого года, это больше всего на шесть проц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Times New Roman"/>
              </a:rPr>
              <a:t>Уровень безработицы по Ульяновской обл.(в % к численности экономически активного населения)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03884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январь 2007 года – 2,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январь 2008 года – 1,7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январь 2009 года – 1,6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500720" y="1773360"/>
          <a:ext cx="4643280" cy="4116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1773360"/>
                    <a:ext cx="464328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fdef6"/>
                </a:solidFill>
                <a:latin typeface="Times New Roman"/>
              </a:rPr>
              <a:t>Принятые в 2009 г. антикризисные меры позволили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ти режим жёсткой эконом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кратить бюджетные расходы на содержание органов исполнительной вла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допустить срывов по выплате заработной платы и социальным пособ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ально пройти отопительный сезо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допустить обвального сокращения занят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ать дополнительные меры по поддержки бюджетообразующих предприятий и малого бизнес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билизировать ситуацию в банковской сфер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ять решения о снижении ставок по налогам на имущество и на землю для ЗАО «Авиастар-СП», ОАО «Ульяновский автомобильный завод», НПО «Марс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 четыре месяца 2009 года индекс роста инвестиций в основной капитал составил 138,2%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здано 11,5 тысяч новых рабочих мес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Times New Roman"/>
              </a:rPr>
              <a:t>6 ключевых направлений антикризисных мер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      Эффективная бюджетная полит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      Развитие инвестицион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       Поддержка реального сектора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)     Дополнительные меры по формированию на территории области среднего клас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)      Стабилизация на рынке тр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)      Выполнение социальных обязательств и усиление социальной защиты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Times New Roman"/>
              </a:rPr>
              <a:t>Меры социальной поддержки направлены на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Поддержку ветеранов тр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оказание адресной помощи беременным женщинам и семьи с детьми, из числа безработных или находящихся под риском сокра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организацию летнего отдыха 800 детей сирот и детей, оставшихся без попечения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) помощь студентам в виде областных именных стипенд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Антикризисные меры Ульяновской области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оприятия по реформированию ЖК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держка автомобильной отрасли  через программирование государственных закупок техн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оставление налоговых льг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ализация программ занятости и самозанят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держка малого и среднего бизнес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полнительные меры социальной защи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7:36:14Z</dcterms:created>
  <dc:creator>Admin</dc:creator>
  <dc:description/>
  <dc:language>en-US</dc:language>
  <cp:lastModifiedBy>Admin</cp:lastModifiedBy>
  <dcterms:modified xsi:type="dcterms:W3CDTF">2009-05-28T07:47:51Z</dcterms:modified>
  <cp:revision>8</cp:revision>
  <dc:subject/>
  <dc:title>Кризис в Ульяновской области</dc:title>
</cp:coreProperties>
</file>