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EE23-1EEF-4A10-B338-AF200119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E304-33E8-490D-BA1F-0C6F3426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D008-9F12-490E-9915-043FBC32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0823-853B-4232-8BD2-0C313C4B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4F6-D2EF-43B5-872D-90609D58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585A-02EB-442D-ACD4-17F34C35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35B-9EC7-457A-84BB-04DE7D9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62B-F56E-4E41-91A0-C9DE66B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4FB-A9FF-4353-A989-6AD8EC16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C42-5DF9-4A07-8A6D-4BC6D05B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A389-115B-480C-B64F-AE6CEE9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F867-2AC8-4820-9707-066F0F2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3A57-900B-43A9-9EFA-7642100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8C5-2555-4E5D-B7F1-0E03F7F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71FA-5A3F-4AA2-87F4-A214D32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C1A-A093-42A7-8A38-BC2BC23E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194-9414-450D-AD49-582E927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7AE6-47A7-4B04-9F90-C26011E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A6FF-6CB3-4FE7-9462-478ED56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30BA-9EA4-4A65-B13F-AD68FB2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F01C-ED57-49D5-8847-9594B5FC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6D4C-FB7A-4250-B2C8-EE31170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DF63-5177-411A-AA33-F63B6CB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31EE-EA41-48E3-B968-20C68E5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FCE5-CBB8-4EC8-9264-3E94C24074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A665-5746-4426-BA6F-94BF14B435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Антикризисные меры Российского правительства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 Система рыночных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кономических отношений не является совершенной и саморегулируемой, максимально возможную занятость и экономический рост может обеспечить только </a:t>
            </a: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активное вмешательство государства в экономику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 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Джон  Кейнс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0106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ддержка банковской системы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яты ФЗ –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О дополнительных мерах по поддержке финансовой системы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О внесении изменений в статью 46 ФЗ «О Центральном банке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304920"/>
            <a:ext cx="7162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ддержка строительной отрасли экономи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меньшение сроков регистрации прав на жильё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имулирование развития ипотечного кредитования путём индексации процентных ставок для населения за счёт госбюджет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изить себестоимость строительства жилья путём снижения стоимости подключения новостроек к инфраструктуре и инженерным сетям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грамма поддержки предпринимательства и малого бизнес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мощь в расширении внутреннего спроса на продукцию отечественной промышленност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здание производств в высокотехнологичных областях экономи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армонизация соотношения импортной и отечественной продукц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формирование института банкротства предприят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еден мораторий на все проверки для малого бизнес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ширение видов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нтикризисные меры включают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силение социальной защиты насел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ahoma"/>
              </a:rPr>
              <a:t>финансирование национальных проектов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Образование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Жильё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Развитие АПК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Информационное общество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Энергоэффективность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3049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осударственная поддержка сферы занят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нансирование профессиональной подготовки кадров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ую переподготовку 165 тыс. гражданам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отирование рабочих мест для молодых специалистов и инвалидов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здание 900 тыс. временно рабочих мест (общественные работы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ка для развития собственного бизнеса 55 тыс. человек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мощь с переездом 15 тыс. че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Ипотечное кредитовани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убсидирование ипотечных ставок до 7-11% годовых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срочное использование материнского капитала на погашение кредит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 многое друго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09-05-28T06:53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