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B9E-8D6C-4FCB-9DDF-0788F7E8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4A3-8134-44DB-8E41-AD04B39E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91D-7B7F-44F5-BEE1-96E92313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AB9-C5C0-4156-BA7B-4C2BBA87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34FD-E240-4EA6-94AA-6F2925A14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1972-220C-4062-9417-8E9CE86C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D8B9-597A-4F45-8DF4-DA3715C5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4591-8954-4A63-A61E-82E966B0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6257-D893-47DB-97D8-D6D6BD91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F1F5-0105-4240-9A74-04209C20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1EE-F696-4DB6-86C3-A88306DB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299-F9FE-4DB5-8927-A5A91237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70AD-5A38-424C-8BCF-0D7A56E4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2F60-D53F-4B5D-ACD4-8415F9E6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60F5-8290-40E9-8D3D-E77B9D81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4FA7-4F08-4EDA-96C8-2426FDEA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8A67-D87A-4EAF-8F08-D83A6271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C1E2-39C0-4313-825D-9AF7194C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CE1-3E40-4A32-A52A-CEC6298D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2C2-AD1B-4DC0-BA69-A7DE41D7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5BF9-31D5-477C-A213-15327C55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EFA5-62C8-4684-B6DB-3B1E7781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CF7-4E6D-4B50-9ED6-74D60C82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1B3C-9B7D-4C63-B1F8-EABF439E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4F8D-76DC-4BFF-B1F5-F940859546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B447-76D4-40E7-A581-D9E5BEA141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468360" y="1268280"/>
            <a:ext cx="8351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... до и после 14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4869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ТРУДОВОЕ  ПРАВО  ПОДРОСТ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Organization Chart 7"/>
          <p:cNvGrpSpPr/>
          <p:nvPr/>
        </p:nvGrpSpPr>
        <p:grpSpPr>
          <a:xfrm>
            <a:off x="2684520" y="713520"/>
            <a:ext cx="3917880" cy="1635480"/>
            <a:chOff x="2684520" y="713520"/>
            <a:chExt cx="3917880" cy="1635480"/>
          </a:xfrm>
        </p:grpSpPr>
        <p:cxnSp>
          <p:nvCxnSpPr>
            <p:cNvPr id="94" name="_s1028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48640" y="813240"/>
              <a:ext cx="227520" cy="103572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029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4012200" y="811800"/>
              <a:ext cx="227520" cy="1038600"/>
            </a:xfrm>
            <a:prstGeom prst="bentConnector3">
              <a:avLst>
                <a:gd name="adj1" fmla="val 496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1030"/>
            <p:cNvSpPr/>
            <p:nvPr/>
          </p:nvSpPr>
          <p:spPr>
            <a:xfrm>
              <a:off x="3811680" y="713520"/>
              <a:ext cx="1665360" cy="50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одростки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" name="_s1031"/>
            <p:cNvSpPr/>
            <p:nvPr/>
          </p:nvSpPr>
          <p:spPr>
            <a:xfrm>
              <a:off x="268452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Акт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37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" name="_s1032"/>
            <p:cNvSpPr/>
            <p:nvPr/>
          </p:nvSpPr>
          <p:spPr>
            <a:xfrm>
              <a:off x="4757760" y="1444680"/>
              <a:ext cx="1844640" cy="904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Пассивные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Garamond"/>
                </a:rPr>
                <a:t>63%</a:t>
              </a: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9" name="Text Box 15"/>
          <p:cNvSpPr/>
          <p:nvPr/>
        </p:nvSpPr>
        <p:spPr>
          <a:xfrm>
            <a:off x="395280" y="3284640"/>
            <a:ext cx="3529080" cy="3448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Активные нацелены на поиск работы. Их отличает серьезное, ответственное отношение к своему труду. Такие подростки реально оценивают свои возможности, знают на какую работу они могут рассчитыват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5580000" y="3284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5148360" y="2924280"/>
            <a:ext cx="3744720" cy="4057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ассивные подростки не стремятся найти работу, даже если они очень нуждаются в деньгах. Для них лучше « на улице побегать, к подружкам сходить» Яркий пример отношения к труду- школьный лагерь. Свою работу учащиеся воспринимают , как отработку. По существу она им не нужн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Документы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68360" y="1700280"/>
            <a:ext cx="8207280" cy="61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Заявл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огласие родителей на осуществление трудовой деятельности ребён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видетельство о рождении или паспор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Справка о состоянии здоровья ( за счет работодателя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Трудовой догов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На постоянную работу ( трудовая книжк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труд2"/>
          <p:cNvPicPr/>
          <p:nvPr/>
        </p:nvPicPr>
        <p:blipFill>
          <a:blip r:embed="rId1"/>
          <a:stretch/>
        </p:blipFill>
        <p:spPr>
          <a:xfrm>
            <a:off x="0" y="0"/>
            <a:ext cx="3781440" cy="28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труд5"/>
          <p:cNvPicPr/>
          <p:nvPr/>
        </p:nvPicPr>
        <p:blipFill>
          <a:blip r:embed="rId2"/>
          <a:stretch/>
        </p:blipFill>
        <p:spPr>
          <a:xfrm>
            <a:off x="0" y="4265640"/>
            <a:ext cx="3240000" cy="2592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067280" y="549360"/>
            <a:ext cx="507672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Прием на работу подростков 14 ле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не должна быть противопоказана здоровью несовершеннолетнег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а должна выполняться в свободное от учёбы время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Согласие одного из родител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запрещено применять труд лиц моложе 18 лет на тяжёлых работах, на работах с вредными или опасными условиями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Привлекать к работе в ночное время и сверхурочной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Garamond"/>
              </a:rPr>
              <a:t>работе, в выходные и нерабочие д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18:41:46Z</dcterms:created>
  <dc:creator>Елена</dc:creator>
  <dc:description/>
  <dc:language>en-US</dc:language>
  <cp:lastModifiedBy>Тамара Андреевна</cp:lastModifiedBy>
  <dcterms:modified xsi:type="dcterms:W3CDTF">2008-10-15T05:08:16Z</dcterms:modified>
  <cp:revision>9</cp:revision>
  <dc:subject/>
  <dc:title>Слайд 1</dc:title>
</cp:coreProperties>
</file>