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F413-CE5F-4A66-A031-BD1511DD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EC58-90E5-4685-A9D7-AF6D2072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878D-DB26-4C25-B7C0-AEC700AD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BEE0-3497-46A8-8964-0CC414A9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3473-C010-4875-9C9F-6E1A32C6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188E-F55E-4AA0-A08E-C58E0616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3492-4F5E-464F-A904-D818EEF0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4065-999B-4932-A569-3401D5DA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0FB9-7D20-4878-8439-69D4964E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8FF8-B433-4F47-9E5E-47CB7781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DE1D-CC64-4F34-B219-41EA30CC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A56B-D1D6-4531-8860-161183EF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26A4-9C4B-44B7-BEA7-3D17D82B9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36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ловек неповторим, живет одновременно во внешнем и внутреннем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1341360"/>
            <a:ext cx="68421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Calisto MT"/>
              </a:rPr>
              <a:t>Самопознани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Calisto MT"/>
              <a:ea typeface="Calisto M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flipH="1" rot="21471000">
            <a:off x="6067080" y="3998520"/>
            <a:ext cx="273528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едставим наше сознание («Я») в виде кру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rot="16200000">
            <a:off x="2502000" y="2114640"/>
            <a:ext cx="3311280" cy="363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393372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67280" y="2276640"/>
            <a:ext cx="0" cy="34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7280" y="422100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Я» скрыт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0000" y="314172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1392400">
            <a:off x="2779200" y="2850840"/>
            <a:ext cx="124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         «Я» открыт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301788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Я» слеп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4457880"/>
            <a:ext cx="144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99120" y="4005360"/>
            <a:ext cx="16412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Я» неизвес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060640"/>
            <a:ext cx="24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082960"/>
            <a:ext cx="25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крытое «Я»: знание о себе  и о друг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39424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крытое «Я»: секреты – все, что вы думаете, чувст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уете,скрываете это в с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19840" y="1989000"/>
            <a:ext cx="290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епое «Я»: то, что  инте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сно другим, вам не очень ясно: привычки, мане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щитные мех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64200" y="5033880"/>
            <a:ext cx="275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известное «Я»: то,что не известно никому и проявляется в определен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ых ситуациях;бессозн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льно- мечты,комплек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ы,мистический оп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19840" y="4962600"/>
            <a:ext cx="297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амопознание – это путь от скрытого «Я» к открытому «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но себе представить, что деление «Я» на четыре равных сектора возможно только в книжке, да и то анонимного ав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жизни мы непременно встречаемся   с индивидуальным своеобразием, когда представленные секторы нер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бы вы разделили круг на секторы применительно к собственному «Я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2637000"/>
            <a:ext cx="8229600" cy="37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именно т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27280" y="3068640"/>
            <a:ext cx="3673440" cy="331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03640" y="3833640"/>
            <a:ext cx="24480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2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просы к семинар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самопознание и его фор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место находит самопознание в художественной и философской литературе. Приме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роисходит формирование образа - 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формируется самооценка лич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ль самоисповеди и самопознания в жизни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дивидуальны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найти определения, которые характеризуют ученик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лько характеристик можно отнести к положительным оценка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лько к отрицательны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олько являются нейтральным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оценить себя с точки зрения готовности к учебе и общению с товарища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сформировать цели самовоспит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08:19:26Z</dcterms:created>
  <dc:creator>учитель</dc:creator>
  <dc:description/>
  <dc:language>en-US</dc:language>
  <cp:lastModifiedBy>Тамара Андреевна</cp:lastModifiedBy>
  <dcterms:modified xsi:type="dcterms:W3CDTF">2008-10-15T04:33:15Z</dcterms:modified>
  <cp:revision>5</cp:revision>
  <dc:subject/>
  <dc:title>Слайд 1</dc:title>
</cp:coreProperties>
</file>