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66D-05FD-4CE8-AB16-DE4F5A06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797-1EDF-4D69-89C7-DA8C524E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F63-6F66-4849-A27E-91061FE8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A6A-0057-4934-AFBD-67CDAB53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210-3C53-481A-B5B2-BD43E329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C94-88D9-45BD-8F8E-7F85084F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304-C179-4D3F-A212-598FDFAD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23A-3AB4-412E-B9B8-21AEC949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162-FD9D-4E01-AD5B-B246589D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40A-2358-4DAD-B090-0D696611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0CF2-5E1F-4558-A1BF-E7A5C8F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DB7-12DF-48A5-A8F5-3D557FA2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D0CD-2BCE-4F12-A0CF-7EFC41282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Ы И СНОВИДЕНИЯ В РУССКОЙ ЛИТЕРАТУ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8584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ферат на 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35788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еницы 11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шуковой Алены Дмитри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429160" y="36432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ина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57720" y="60721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астере и Маргарит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571680" y="2214720"/>
            <a:ext cx="35002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ны использованы как «мост» в другую реальность, может быть, в гипнотический транс, наведенный Воландом и его свитой (или самим Булгаковым?). Сон Понтия  Пилата символичен – противостояние добра и зла, в результате которого побеждает добро, приходит прощение и свобода – путь к Истине. Кроме того, сон (а точнее его отсутствие) использован автором как способ более глубокого раскрытия образа прокуратора, а позднее - как наказание Пил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143760" y="142884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В серебристый сон ты бы с ним уше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дороге вечных звезд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д простором строгих гор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 бы перед ним на колени вста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стыдясь ни слов, ни слез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то любил - тот и распял...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. Пушк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572000" y="3000240"/>
            <a:ext cx="4500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вечное противостояние добра и зла (победа доб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тие качеств геро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сознает, в чем его самая большая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раскаивается в казни Иешу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лю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одно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071720" y="185724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сех четырех произведениях сны и сновидения являются одними из важнейших художественных приемов, ибо они помогают автору полномернее донести до читателя сво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000080" y="3571920"/>
            <a:ext cx="507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– это всегда загадка, и, пытаясь ее разгадать, можно прийти к удивительным открытиям. (Недаром же таблица Менделеева приснилась Дмитрию Ивановичу!) Когда я работала над рефератом, мне захотелось перечитать мои любимые книги (ведь в них были сны!) и попытаться разобрать, что они – эти сны – значат. Вдруг я пролистнула, не обратив внимания, целый мир, полный ответов и смы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71680" y="1644480"/>
            <a:ext cx="70005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Евгений Онегин» - А.С. Пушкин, 18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еступление и наказание» - Ф.М. Достоевский, 1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, 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Тихий Дон», М.А. Шолохов, 19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Вещий сон генерала Корнилова. Над страницами Тихого Дон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Петр Ткаченко (Литературный журнал МОЛОКО)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равочник Школьника изд.АСТ-ПРЕСС 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он Татьяны Лариной» (рассылки сайта «Мир сновидений», выпу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29)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Роль онейросферы в художественной системе М.А. Булгаков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Зимнякова В.В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ны Раскольникова» (социальный психоанализ от Серге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Выгонского, выпуск 12)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ая Энциклопедия (Человек),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8977_14.jpg"/>
          <p:cNvPicPr/>
          <p:nvPr/>
        </p:nvPicPr>
        <p:blipFill>
          <a:blip r:embed="rId1"/>
          <a:stretch/>
        </p:blipFill>
        <p:spPr>
          <a:xfrm>
            <a:off x="1981080" y="1530360"/>
            <a:ext cx="5181840" cy="3797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714760" y="1785960"/>
            <a:ext cx="37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гений Оне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ступление и наказ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ий Д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и Маргар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Untitled-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1000080" y="20718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у приснилось, что он стал мотыльком. И, проснувшись, он уже не знал, кто он: мудрый старец, видевший во сне, будто он стал мотыльком, или мотылёк, которому снится, что он — мудрый ста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я выбрала данную тему для своего рефе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7880" y="1714680"/>
            <a:ext cx="77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снов и сновидений издревле интересовал человека как что-то столь же близкое нашему пониманию сколь далекое от него. Бодрствуя, мы видим и понимаем, что происходит вокруг, оцениваем происходящее - наше сознание работает так, как мы этого хотим. Но что происходит с сознанием человека во сне? Тайна, покрытая мраком ноч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785880" y="371484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 снов увлекает. Коснувшись однажды темы сновидений, стремишься изучить ее как можно больше. Так, однажды я заинтересовалась эзотерикой, в частности феноменом гипноза, а гипноз и сон связаны между собой более чем тесно. Мне стало интересно, имеют ли сны и сновидения столь же большую роль в литературе, и поэтому я выбрала именно такую тему для своего рефе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нов и сновидений в русск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40" y="1996920"/>
            <a:ext cx="67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усской литературе сны всегда играли не меньшую, а иногда и большую роль, чем реальная действительность. Многие авторы делали сон полноценным “действующим лицом” своих произведений. Сны позволяют лучше понять характеры их героев, причины их поступков, отношение к людям и к себе. Ведь, по сути, сон — это время, когда освобождается подсознание человека. Оно не сковано внешними условностями, не позволяет лгать, притворяться и прикрываться масками. Наверное, именно по этим причинам авторы так часто прибегают к приему раскрытия личности персонажа  через его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оде работы над рефератом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857160" y="2143080"/>
            <a:ext cx="41436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 я рассмотрела четыре произведения российских класс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вгений Онегин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тупление и наказани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Тихий Дон»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стер и Маргарит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м из этих романов сновидения играют свою, определенную роль – общих канонов нет и бы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680" y="2071800"/>
            <a:ext cx="3357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ександр Сергеевич Пушкин использует сны для раскрытия внутреннего мира героев (Татьяны и Онегина). С помощью большого количества слов-символов, использованных в описании сна Татьяны, автор не только раскрывает образы, но и предоставляет читателю шанс заглянуть за завесу тайны и узнать дальнейшие судьбы героев.  Помимо этого, сон Татьяны является художественным приемом, который делает текст романа красочне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082480" y="15001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И снится чудный сон Татьяне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760" y="23572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-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и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мерть 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нег, ручей, мост, ру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у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двед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ужены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енер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м (шалаш, хижин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ьб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реступлении и наказан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572000" y="1550880"/>
            <a:ext cx="39290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.. напротив, никакой красочности роману сны не придают, а еще больше затуманивают и без того неясные вещи. Так же, как и в «Евгении Онегине», сны здесь помогают лучше понять внутренний мир очень сложного человека – Родиона Раскольникова. Сны Раскольникова символичны (антитеза церкви и кабака в первом сне); их отголоски присутствуют на протяжении всего романа. Кроме того, прием снов помогает лучше понять смысл произведения (третий сон Раскольнико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85840" y="1643040"/>
            <a:ext cx="3714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с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иятие убийства натурой человека (Раскольни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оянная борьба души и раз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знаменование неминуемой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тказаться от “эксперимента над собой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ки совести и страх разобл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сное убийство повлечет за собой наказ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ледствия воплощения теории в жизнь - апокалипси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авственное возрождение Расколь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Тихий Д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5214960" y="1857240"/>
            <a:ext cx="31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генерала Корнилова – вещий. С помощью символов Шолохов как будто сам рассказывает генералу будущее его армии. Через сон автор дает оценку персонажа  – Корнилов – не тот герой, что спасет Россию; и показывает читателю внутренний мир генер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14240" y="1928880"/>
            <a:ext cx="3357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поставления и символы с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 = Росс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осток и Запад = биографи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ценка сложившейся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вещение долгого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рнистого пути генера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абочка = губительна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умолимость обстоятельств,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которую попадает человек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8:35:59Z</dcterms:created>
  <dc:creator>Алёна Гришукова</dc:creator>
  <dc:description/>
  <dc:language>en-US</dc:language>
  <cp:lastModifiedBy>Алёна Гришукова</cp:lastModifiedBy>
  <dcterms:modified xsi:type="dcterms:W3CDTF">2008-06-01T11:52:38Z</dcterms:modified>
  <cp:revision>33</cp:revision>
  <dc:subject/>
  <dc:title>Слайд 1</dc:title>
</cp:coreProperties>
</file>