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C1F-1223-446C-9E09-12BBBECE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737-D67F-4A69-AB8B-A9F4120F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86CB9-361B-44E3-8A5C-1A31A01A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F8991-EF9D-4133-B87F-69290DF8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A8BA7-4E5F-4D0E-A6C3-C736F114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933DA-42D1-46A8-BD41-2B229EB3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FA45-9B1F-4CA5-8937-1CDF8C7F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76B3D-C3B7-443C-9ABC-CEDF890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42D91-F371-466F-9652-CB567B0D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068E6-1EB5-4818-ACCE-0B1CCDC8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B6698-403E-4BE6-B47D-DA4FFC8D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F93B6-F80B-437B-B841-D62A8328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F54-EA25-4E33-A7D8-02B32570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CD5D8-96CB-49C5-8B07-6BF0F081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4838E-AD73-49C0-8F23-441F74F4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8A7D6-2823-41FA-B293-EF1E46AE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01D0E-A434-4C40-B13D-03AC1A6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89CEA-C35C-48B5-AA0B-AAE9549C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9B60A-C2EA-4B4A-92CA-28DFD7A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AD174-23DC-4C3A-9B7D-E56F92E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F6C0C-3D26-4A67-ACA8-4D509CF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7A246-CEBB-4C1A-B90D-E8AABDBC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EE8DC-D7BC-47E2-8DCE-FA9EF04F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990-9D32-4985-87B4-AA872179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320B0-87A1-40D1-AC02-EC520187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EE448-FB1C-41A5-B4A1-0B6BF3AC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74100-129E-4AA6-AD7A-306D19A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3F5ED-BE1F-400B-9B13-79CA7EFE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F2438-BBB5-4C55-94F9-3E8DD6AC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9DA9F-0823-4B19-B8C4-2299C7F1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9F60F-EAEC-4F5C-93A7-E1A2222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3AB4D-5BFD-45AB-8415-C320F2D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FFAA2-22A6-456A-B9E0-3BACE71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82745-E4C5-4609-979F-E2900B17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0E4A-0748-4D1C-ADE0-DF95656F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8A969-D143-47F2-8780-8F3A7925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DE011-36C7-4322-99D6-99EB4435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D0687-7F7F-4E2B-B9CB-FC8D84DF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0F80-428D-48F8-B11B-D7B05234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EAB7-A33E-49FD-9191-D7CEBAAC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FC05-AEA1-4DBC-9932-7F042CCE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64ED-E425-415D-BF41-B202E53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883A-DFA4-4914-8983-2E50485F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C86C-8480-4176-B582-2011D4F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BB1-51F7-41AA-9339-EC009637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88BA-F0A6-49C3-8D92-C7D40059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7CF3-1ACC-4891-A4BF-F0BC03B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AD18-89B1-442B-8F19-0374D5AA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97A9-DB6E-4619-A2C7-7AC1985B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FCCD-8334-41C9-A7DF-412C23F6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294C7-0109-4B93-8ECF-AC81A9DA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212C5-B381-4576-93B6-BD2743DC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D4288-7C8D-4C44-88D6-9025D1BA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4D0CD-4B6A-4B58-8274-AA07AA89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59086-E263-48DF-B606-FD79DC5A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21B-3078-4AA4-9170-A973FB8D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8A739-32E5-4892-986B-41F5F025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5E8D3-7FC7-4B32-B6BE-1D1BC80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14D67-C7C4-4E69-8FA3-60A0AEA6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EC310-1745-4397-A631-91BF291B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32ABD-FC46-4818-A8C0-77A77FF8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F0C52-A9F9-419B-94ED-E4D4711A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58DC7-4CF1-4BFF-BAD5-0A72DA47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E715D-8C46-49B7-9B45-A1461641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C9AED-6B9E-4823-88A4-FDFCC50C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6DE8D-DCB8-4202-BE8A-A144776D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F37-7372-42AB-B374-37A3D270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25C0D-6FB4-40C7-AEAA-386043D6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DDAA2-B4D6-4A77-8ED7-674EA80A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5B77E-E4D7-48F0-9059-751B65F5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FF6A8-8F43-4CF1-A3BC-9C65C0A5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34C64-77D9-4550-889B-E5B9FB00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02FD1-A2F4-4D6C-9963-BCD76C7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BA672-212F-4AEC-BFFD-C2D30D5F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6571C-8504-4B64-B4C6-740CE6AA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4B99F-6EE4-4819-AA57-1863B131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92978-2E32-4B49-B02C-6C034991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461-0214-4E74-8C6E-A841F6EF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A65C4-3F1A-46F5-84F4-B8C51A58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0C9A6-BC48-423F-9B3C-6C86BA2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ED798-F569-46F2-ABDC-408AA64C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6CACC-1A9C-4EB0-83DF-C4C05A11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2B354-8EFC-4C3F-804C-885CB1C7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5359B-559F-43B3-93B2-729E678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353D4-7622-4364-8B4C-36111E2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51080-3EA9-443B-ABB2-241ABD4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DC77-A07A-4EFA-BD35-9BD41476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B6736-7C58-456A-A69E-34C809C4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31F-4C79-46C9-B8B0-EC0CEB4C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BECD5-EF81-4E83-AFC9-0776663C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3FA03-F9E4-44A8-B4DF-03658C40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62A8D-07CF-407E-9357-71B1669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70F46-90D0-4963-9381-50B35063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A260-DD6E-4B83-A458-B115A355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38C5-10B4-4C4E-8FC8-14D6C770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A8365-4CD0-43E5-A007-48340E66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2A414-25E4-4BBB-BB86-CD7D831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5BD5-1DBC-49E9-9642-A31E367B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4E399-EB36-44D2-94A0-AEAF6CB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D1F-1515-4015-A32E-D5DB841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F743A-45EC-4053-AD73-2026FFF4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EAE08-752D-4125-B38A-B9D4E629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23C93-0D91-4465-A0E6-55EAC017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5D9DD-0B8F-4D42-805F-53FBF229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65A65-0454-4218-BD63-B2EAFBD0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A8B64-C030-4EBD-91FC-FEA3857A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F2732-0AF0-4291-AC42-512A2B6F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51883-CBA0-4978-A333-EA26D98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3C237-8DAE-4B53-87C5-A01B7118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61546-074E-4FD3-895E-6C8F1946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C75-6BE5-4AFB-AB31-27673D1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5A62E-916F-484C-99E0-C86943F2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9566-6771-48BC-931F-B42E3380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7F031-2A62-477F-9329-B3F68AE0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213C-1A2B-4FD1-8BAE-752DD859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EFCFA-46B1-4124-8A61-E9531359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1BE40-22D9-4A51-83D3-C80EB261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5B990-8B87-439A-9A0A-566106FB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9D280-5244-4803-873B-1686DD8C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A2305-972A-4C33-8614-E5726C4D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EC66E-FDF1-4E61-8DBF-76D5ABAF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9CD-ED94-4A64-8EBE-2EACFB64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6DED7-3957-4403-8B37-A4B1A563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80913-4639-4DE6-8E19-272CD6C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224BC-30C0-4AF4-B278-FE8660E3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71BB4-1D91-49FB-BC56-AB207E6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00CA-166B-4980-8622-3A0D6387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5D0E-CB88-4B6A-811B-8E1DD8EA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0E1CE-A421-46A6-96CE-73DC8379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5D80C-58CF-4229-AADE-A0A4C465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68B9D-D9FD-4863-B519-7F9572EF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02984-100D-4310-9234-2E75A227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slideLayout" Target="../slideLayouts/slideLayout109.xml"/><Relationship Id="rId24" Type="http://schemas.openxmlformats.org/officeDocument/2006/relationships/slideLayout" Target="../slideLayouts/slideLayout110.xml"/><Relationship Id="rId25" Type="http://schemas.openxmlformats.org/officeDocument/2006/relationships/slideLayout" Target="../slideLayouts/slideLayout111.xml"/><Relationship Id="rId26" Type="http://schemas.openxmlformats.org/officeDocument/2006/relationships/slideLayout" Target="../slideLayouts/slideLayout112.xml"/><Relationship Id="rId27" Type="http://schemas.openxmlformats.org/officeDocument/2006/relationships/slideLayout" Target="../slideLayouts/slideLayout113.xml"/><Relationship Id="rId28" Type="http://schemas.openxmlformats.org/officeDocument/2006/relationships/slideLayout" Target="../slideLayouts/slideLayout114.xml"/><Relationship Id="rId29" Type="http://schemas.openxmlformats.org/officeDocument/2006/relationships/slideLayout" Target="../slideLayouts/slideLayout115.xml"/><Relationship Id="rId30" Type="http://schemas.openxmlformats.org/officeDocument/2006/relationships/slideLayout" Target="../slideLayouts/slideLayout116.xml"/><Relationship Id="rId31" Type="http://schemas.openxmlformats.org/officeDocument/2006/relationships/slideLayout" Target="../slideLayouts/slideLayout117.xml"/><Relationship Id="rId32" Type="http://schemas.openxmlformats.org/officeDocument/2006/relationships/slideLayout" Target="../slideLayouts/slideLayout118.xml"/><Relationship Id="rId33" Type="http://schemas.openxmlformats.org/officeDocument/2006/relationships/slideLayout" Target="../slideLayouts/slideLayout119.xml"/><Relationship Id="rId3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21.xml"/><Relationship Id="rId19" Type="http://schemas.openxmlformats.org/officeDocument/2006/relationships/slideLayout" Target="../slideLayouts/slideLayout122.xml"/><Relationship Id="rId20" Type="http://schemas.openxmlformats.org/officeDocument/2006/relationships/slideLayout" Target="../slideLayouts/slideLayout123.xml"/><Relationship Id="rId21" Type="http://schemas.openxmlformats.org/officeDocument/2006/relationships/slideLayout" Target="../slideLayouts/slideLayout124.xml"/><Relationship Id="rId22" Type="http://schemas.openxmlformats.org/officeDocument/2006/relationships/slideLayout" Target="../slideLayouts/slideLayout125.xml"/><Relationship Id="rId23" Type="http://schemas.openxmlformats.org/officeDocument/2006/relationships/slideLayout" Target="../slideLayouts/slideLayout126.xml"/><Relationship Id="rId24" Type="http://schemas.openxmlformats.org/officeDocument/2006/relationships/slideLayout" Target="../slideLayouts/slideLayout127.xml"/><Relationship Id="rId25" Type="http://schemas.openxmlformats.org/officeDocument/2006/relationships/slideLayout" Target="../slideLayouts/slideLayout128.xml"/><Relationship Id="rId26" Type="http://schemas.openxmlformats.org/officeDocument/2006/relationships/slideLayout" Target="../slideLayouts/slideLayout129.xml"/><Relationship Id="rId27" Type="http://schemas.openxmlformats.org/officeDocument/2006/relationships/slideLayout" Target="../slideLayouts/slideLayout130.xml"/><Relationship Id="rId28" Type="http://schemas.openxmlformats.org/officeDocument/2006/relationships/slideLayout" Target="../slideLayouts/slideLayout131.xml"/><Relationship Id="rId2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15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slideLayout" Target="../slideLayouts/slideLayout25.xml"/><Relationship Id="rId22" Type="http://schemas.openxmlformats.org/officeDocument/2006/relationships/slideLayout" Target="../slideLayouts/slideLayout26.xml"/><Relationship Id="rId23" Type="http://schemas.openxmlformats.org/officeDocument/2006/relationships/slideLayout" Target="../slideLayouts/slideLayout27.xml"/><Relationship Id="rId24" Type="http://schemas.openxmlformats.org/officeDocument/2006/relationships/slideLayout" Target="../slideLayouts/slideLayout28.xml"/><Relationship Id="rId25" Type="http://schemas.openxmlformats.org/officeDocument/2006/relationships/slideLayout" Target="../slideLayouts/slideLayout29.xml"/><Relationship Id="rId26" Type="http://schemas.openxmlformats.org/officeDocument/2006/relationships/slideLayout" Target="../slideLayouts/slideLayout30.xml"/><Relationship Id="rId27" Type="http://schemas.openxmlformats.org/officeDocument/2006/relationships/slideLayout" Target="../slideLayouts/slideLayout31.xml"/><Relationship Id="rId28" Type="http://schemas.openxmlformats.org/officeDocument/2006/relationships/slideLayout" Target="../slideLayouts/slideLayout32.xml"/><Relationship Id="rId29" Type="http://schemas.openxmlformats.org/officeDocument/2006/relationships/slideLayout" Target="../slideLayouts/slideLayout33.xml"/><Relationship Id="rId30" Type="http://schemas.openxmlformats.org/officeDocument/2006/relationships/slideLayout" Target="../slideLayouts/slideLayout34.xml"/><Relationship Id="rId31" Type="http://schemas.openxmlformats.org/officeDocument/2006/relationships/slideLayout" Target="../slideLayouts/slideLayout35.xml"/><Relationship Id="rId3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73.xml"/><Relationship Id="rId19" Type="http://schemas.openxmlformats.org/officeDocument/2006/relationships/slideLayout" Target="../slideLayouts/slideLayout74.xml"/><Relationship Id="rId20" Type="http://schemas.openxmlformats.org/officeDocument/2006/relationships/slideLayout" Target="../slideLayouts/slideLayout75.xml"/><Relationship Id="rId21" Type="http://schemas.openxmlformats.org/officeDocument/2006/relationships/slideLayout" Target="../slideLayouts/slideLayout76.xml"/><Relationship Id="rId22" Type="http://schemas.openxmlformats.org/officeDocument/2006/relationships/slideLayout" Target="../slideLayouts/slideLayout77.xml"/><Relationship Id="rId23" Type="http://schemas.openxmlformats.org/officeDocument/2006/relationships/slideLayout" Target="../slideLayouts/slideLayout78.xml"/><Relationship Id="rId24" Type="http://schemas.openxmlformats.org/officeDocument/2006/relationships/slideLayout" Target="../slideLayouts/slideLayout79.xml"/><Relationship Id="rId25" Type="http://schemas.openxmlformats.org/officeDocument/2006/relationships/slideLayout" Target="../slideLayouts/slideLayout80.xml"/><Relationship Id="rId26" Type="http://schemas.openxmlformats.org/officeDocument/2006/relationships/slideLayout" Target="../slideLayouts/slideLayout81.xml"/><Relationship Id="rId27" Type="http://schemas.openxmlformats.org/officeDocument/2006/relationships/slideLayout" Target="../slideLayouts/slideLayout82.xml"/><Relationship Id="rId28" Type="http://schemas.openxmlformats.org/officeDocument/2006/relationships/slideLayout" Target="../slideLayouts/slideLayout83.xml"/><Relationship Id="rId2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slideLayout" Target="../slideLayouts/slideLayout97.xml"/><Relationship Id="rId21" Type="http://schemas.openxmlformats.org/officeDocument/2006/relationships/slideLayout" Target="../slideLayouts/slideLayout98.xml"/><Relationship Id="rId22" Type="http://schemas.openxmlformats.org/officeDocument/2006/relationships/slideLayout" Target="../slideLayouts/slideLayout99.xml"/><Relationship Id="rId23" Type="http://schemas.openxmlformats.org/officeDocument/2006/relationships/slideLayout" Target="../slideLayouts/slideLayout100.xml"/><Relationship Id="rId24" Type="http://schemas.openxmlformats.org/officeDocument/2006/relationships/slideLayout" Target="../slideLayouts/slideLayout101.xml"/><Relationship Id="rId25" Type="http://schemas.openxmlformats.org/officeDocument/2006/relationships/slideLayout" Target="../slideLayouts/slideLayout102.xml"/><Relationship Id="rId26" Type="http://schemas.openxmlformats.org/officeDocument/2006/relationships/slideLayout" Target="../slideLayouts/slideLayout103.xml"/><Relationship Id="rId27" Type="http://schemas.openxmlformats.org/officeDocument/2006/relationships/slideLayout" Target="../slideLayouts/slideLayout104.xml"/><Relationship Id="rId28" Type="http://schemas.openxmlformats.org/officeDocument/2006/relationships/slideLayout" Target="../slideLayouts/slideLayout105.xml"/><Relationship Id="rId29" Type="http://schemas.openxmlformats.org/officeDocument/2006/relationships/slideLayout" Target="../slideLayouts/slideLayout106.xml"/><Relationship Id="rId30" Type="http://schemas.openxmlformats.org/officeDocument/2006/relationships/slideLayout" Target="../slideLayouts/slideLayout107.xml"/><Relationship Id="rId3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ABB0-059D-462B-8452-FAACD1A561A0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67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6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71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3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74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5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77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80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2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83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5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86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8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89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90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93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96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8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99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1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02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4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05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7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08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10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811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13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814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815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816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798480" cy="5000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28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2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D1AD-6D20-4D49-94AD-59A940A14D65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3"/>
    <p:sldLayoutId id="2147483767" r:id="rId24"/>
    <p:sldLayoutId id="2147483768" r:id="rId25"/>
    <p:sldLayoutId id="2147483769" r:id="rId26"/>
    <p:sldLayoutId id="2147483770" r:id="rId27"/>
    <p:sldLayoutId id="2147483771" r:id="rId28"/>
    <p:sldLayoutId id="2147483772" r:id="rId29"/>
    <p:sldLayoutId id="2147483773" r:id="rId30"/>
    <p:sldLayoutId id="2147483774" r:id="rId31"/>
    <p:sldLayoutId id="2147483775" r:id="rId32"/>
    <p:sldLayoutId id="2147483776" r:id="rId33"/>
    <p:sldLayoutId id="2147483777" r:id="rId3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6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6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6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7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7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7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7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8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8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8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8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8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9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9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9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90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3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904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23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ftr" idx="3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dt" idx="3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395E-063D-4A3D-B633-EB63FCE6020F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8"/>
    <p:sldLayoutId id="2147483780" r:id="rId19"/>
    <p:sldLayoutId id="2147483781" r:id="rId20"/>
    <p:sldLayoutId id="2147483782" r:id="rId21"/>
    <p:sldLayoutId id="2147483783" r:id="rId22"/>
    <p:sldLayoutId id="2147483784" r:id="rId23"/>
    <p:sldLayoutId id="2147483785" r:id="rId24"/>
    <p:sldLayoutId id="2147483786" r:id="rId25"/>
    <p:sldLayoutId id="2147483787" r:id="rId26"/>
    <p:sldLayoutId id="2147483788" r:id="rId27"/>
    <p:sldLayoutId id="2147483789" r:id="rId28"/>
    <p:sldLayoutId id="2147483790" r:id="rId2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Rectangle 1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3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954" name="Rectangle 20"/>
            <p:cNvSpPr/>
            <p:nvPr/>
          </p:nvSpPr>
          <p:spPr>
            <a:xfrm>
              <a:off x="457200" y="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 flipH="1">
              <a:off x="457200" y="38088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8686800" y="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23"/>
            <p:cNvSpPr/>
            <p:nvPr/>
          </p:nvSpPr>
          <p:spPr>
            <a:xfrm>
              <a:off x="304920" y="38412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Rectangle 24"/>
            <p:cNvSpPr/>
            <p:nvPr/>
          </p:nvSpPr>
          <p:spPr>
            <a:xfrm>
              <a:off x="457200" y="647712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25"/>
            <p:cNvSpPr/>
            <p:nvPr/>
          </p:nvSpPr>
          <p:spPr>
            <a:xfrm flipH="1">
              <a:off x="304200" y="3110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1" name="Rectangle 6" descr=""/>
            <p:cNvPicPr/>
            <p:nvPr/>
          </p:nvPicPr>
          <p:blipFill>
            <a:blip r:embed="rId4"/>
            <a:stretch/>
          </p:blipFill>
          <p:spPr>
            <a:xfrm>
              <a:off x="5760" y="0"/>
              <a:ext cx="9132120" cy="685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2" name="Rectangle 15"/>
            <p:cNvGrpSpPr/>
            <p:nvPr/>
          </p:nvGrpSpPr>
          <p:grpSpPr>
            <a:xfrm>
              <a:off x="0" y="5177160"/>
              <a:ext cx="9144000" cy="1680840"/>
              <a:chOff x="0" y="5177160"/>
              <a:chExt cx="9144000" cy="1680840"/>
            </a:xfrm>
          </p:grpSpPr>
          <p:pic>
            <p:nvPicPr>
              <p:cNvPr id="963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177160"/>
                <a:ext cx="9144000" cy="16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"/>
              <p:cNvSpPr/>
              <p:nvPr/>
            </p:nvSpPr>
            <p:spPr>
              <a:xfrm>
                <a:off x="5760" y="5180040"/>
                <a:ext cx="9132120" cy="167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5" name="Rectangle 13"/>
            <p:cNvSpPr/>
            <p:nvPr/>
          </p:nvSpPr>
          <p:spPr>
            <a:xfrm>
              <a:off x="5760" y="5253120"/>
              <a:ext cx="9132120" cy="15987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25098"/>
                  </a:srgbClr>
                </a:gs>
                <a:gs pos="100000">
                  <a:srgbClr val="a46721">
                    <a:alpha val="2509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7"/>
            <p:cNvSpPr/>
            <p:nvPr/>
          </p:nvSpPr>
          <p:spPr>
            <a:xfrm>
              <a:off x="5760" y="3349800"/>
              <a:ext cx="9132120" cy="18255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Straight Connector 10"/>
            <p:cNvSpPr/>
            <p:nvPr/>
          </p:nvSpPr>
          <p:spPr>
            <a:xfrm>
              <a:off x="5760" y="5177160"/>
              <a:ext cx="913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e3c4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efe3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7" name="Rectangle 6" descr=""/>
            <p:cNvPicPr/>
            <p:nvPr/>
          </p:nvPicPr>
          <p:blipFill>
            <a:blip r:embed="rId3"/>
            <a:stretch/>
          </p:blipFill>
          <p:spPr>
            <a:xfrm>
              <a:off x="5760" y="0"/>
              <a:ext cx="913212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8" name="Rectangle 8"/>
            <p:cNvGrpSpPr/>
            <p:nvPr/>
          </p:nvGrpSpPr>
          <p:grpSpPr>
            <a:xfrm>
              <a:off x="0" y="335160"/>
              <a:ext cx="9144000" cy="6187680"/>
              <a:chOff x="0" y="335160"/>
              <a:chExt cx="9144000" cy="6187680"/>
            </a:xfrm>
          </p:grpSpPr>
          <p:pic>
            <p:nvPicPr>
              <p:cNvPr id="100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5160"/>
                <a:ext cx="9144000" cy="61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"/>
              <p:cNvSpPr/>
              <p:nvPr/>
            </p:nvSpPr>
            <p:spPr>
              <a:xfrm>
                <a:off x="5760" y="342720"/>
                <a:ext cx="9132120" cy="617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Rectangle 12"/>
            <p:cNvSpPr/>
            <p:nvPr/>
          </p:nvSpPr>
          <p:spPr>
            <a:xfrm>
              <a:off x="5760" y="457200"/>
              <a:ext cx="9132120" cy="594360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25098"/>
                  </a:srgbClr>
                </a:gs>
                <a:gs pos="100000">
                  <a:srgbClr val="a46721">
                    <a:alpha val="2509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Straight Connector 10"/>
            <p:cNvSpPr/>
            <p:nvPr/>
          </p:nvSpPr>
          <p:spPr>
            <a:xfrm>
              <a:off x="5760" y="341280"/>
              <a:ext cx="913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Straight Connector 11"/>
            <p:cNvSpPr/>
            <p:nvPr/>
          </p:nvSpPr>
          <p:spPr>
            <a:xfrm>
              <a:off x="5760" y="6505560"/>
              <a:ext cx="913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e3c4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efe3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Rectangle 1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3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1054" name="Rectangle 20"/>
            <p:cNvSpPr/>
            <p:nvPr/>
          </p:nvSpPr>
          <p:spPr>
            <a:xfrm>
              <a:off x="457200" y="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21"/>
            <p:cNvSpPr/>
            <p:nvPr/>
          </p:nvSpPr>
          <p:spPr>
            <a:xfrm flipH="1">
              <a:off x="457200" y="38088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22"/>
            <p:cNvSpPr/>
            <p:nvPr/>
          </p:nvSpPr>
          <p:spPr>
            <a:xfrm>
              <a:off x="8686800" y="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Rectangle 23"/>
            <p:cNvSpPr/>
            <p:nvPr/>
          </p:nvSpPr>
          <p:spPr>
            <a:xfrm>
              <a:off x="304920" y="38412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24"/>
            <p:cNvSpPr/>
            <p:nvPr/>
          </p:nvSpPr>
          <p:spPr>
            <a:xfrm>
              <a:off x="457200" y="647712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25"/>
            <p:cNvSpPr/>
            <p:nvPr/>
          </p:nvSpPr>
          <p:spPr>
            <a:xfrm flipH="1">
              <a:off x="304200" y="3110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e3c4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efe3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1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90" name="Rectangle 20"/>
            <p:cNvSpPr/>
            <p:nvPr/>
          </p:nvSpPr>
          <p:spPr>
            <a:xfrm>
              <a:off x="457200" y="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21"/>
            <p:cNvSpPr/>
            <p:nvPr/>
          </p:nvSpPr>
          <p:spPr>
            <a:xfrm flipH="1">
              <a:off x="457200" y="38088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22"/>
            <p:cNvSpPr/>
            <p:nvPr/>
          </p:nvSpPr>
          <p:spPr>
            <a:xfrm>
              <a:off x="8686800" y="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23"/>
            <p:cNvSpPr/>
            <p:nvPr/>
          </p:nvSpPr>
          <p:spPr>
            <a:xfrm>
              <a:off x="304920" y="38412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24"/>
            <p:cNvSpPr/>
            <p:nvPr/>
          </p:nvSpPr>
          <p:spPr>
            <a:xfrm>
              <a:off x="457200" y="647712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25"/>
            <p:cNvSpPr/>
            <p:nvPr/>
          </p:nvSpPr>
          <p:spPr>
            <a:xfrm flipH="1">
              <a:off x="304200" y="3110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e3c4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efe3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533520" y="61034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fe3c4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fe3c4"/>
                </a:solidFill>
                <a:latin typeface="Bookman Old Sty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1034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477120" y="61034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fe3c4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5E79-C6AB-417E-B1DC-40D3063B61E6}" type="slidenum">
              <a:rPr b="0" lang="ru-RU" sz="1000" spc="-1" strike="noStrike">
                <a:solidFill>
                  <a:srgbClr val="efe3c4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138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1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73800" y="231588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1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73800" y="225396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1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73800" y="219204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1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73800" y="213048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1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3800" y="206856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1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3800" y="200700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1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73800" y="237744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60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1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863388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1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863388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1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863388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1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863388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Rectangle 14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1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863388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1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863388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863388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Oval 28"/>
          <p:cNvGrpSpPr/>
          <p:nvPr/>
        </p:nvGrpSpPr>
        <p:grpSpPr>
          <a:xfrm>
            <a:off x="8547120" y="6016680"/>
            <a:ext cx="195120" cy="195120"/>
            <a:chOff x="8547120" y="6016680"/>
            <a:chExt cx="195120" cy="195120"/>
          </a:xfrm>
        </p:grpSpPr>
        <p:pic>
          <p:nvPicPr>
            <p:cNvPr id="182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016680"/>
              <a:ext cx="19512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185" name="Oval 28" descr=""/>
            <p:cNvPicPr/>
            <p:nvPr/>
          </p:nvPicPr>
          <p:blipFill>
            <a:blip r:embed="rId18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8"/>
          <p:cNvGrpSpPr/>
          <p:nvPr/>
        </p:nvGrpSpPr>
        <p:grpSpPr>
          <a:xfrm>
            <a:off x="8547120" y="5450040"/>
            <a:ext cx="195120" cy="195120"/>
            <a:chOff x="8547120" y="5450040"/>
            <a:chExt cx="195120" cy="195120"/>
          </a:xfrm>
        </p:grpSpPr>
        <p:pic>
          <p:nvPicPr>
            <p:cNvPr id="188" name="Oval 28" descr=""/>
            <p:cNvPicPr/>
            <p:nvPr/>
          </p:nvPicPr>
          <p:blipFill>
            <a:blip r:embed="rId19"/>
            <a:stretch/>
          </p:blipFill>
          <p:spPr>
            <a:xfrm>
              <a:off x="8547120" y="5450040"/>
              <a:ext cx="19512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Oval 28"/>
          <p:cNvGrpSpPr/>
          <p:nvPr/>
        </p:nvGrpSpPr>
        <p:grpSpPr>
          <a:xfrm>
            <a:off x="8547120" y="5730840"/>
            <a:ext cx="195120" cy="193680"/>
            <a:chOff x="8547120" y="5730840"/>
            <a:chExt cx="195120" cy="193680"/>
          </a:xfrm>
        </p:grpSpPr>
        <p:pic>
          <p:nvPicPr>
            <p:cNvPr id="191" name="Oval 28" descr=""/>
            <p:cNvPicPr/>
            <p:nvPr/>
          </p:nvPicPr>
          <p:blipFill>
            <a:blip r:embed="rId20"/>
            <a:stretch/>
          </p:blipFill>
          <p:spPr>
            <a:xfrm>
              <a:off x="8547120" y="5730840"/>
              <a:ext cx="1951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F21D-D6B7-46FE-9EC0-E6B0359587C0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1"/>
    <p:sldLayoutId id="2147483676" r:id="rId22"/>
    <p:sldLayoutId id="2147483677" r:id="rId23"/>
    <p:sldLayoutId id="2147483678" r:id="rId24"/>
    <p:sldLayoutId id="2147483679" r:id="rId25"/>
    <p:sldLayoutId id="2147483680" r:id="rId26"/>
    <p:sldLayoutId id="2147483681" r:id="rId27"/>
    <p:sldLayoutId id="2147483682" r:id="rId28"/>
    <p:sldLayoutId id="2147483683" r:id="rId29"/>
    <p:sldLayoutId id="2147483684" r:id="rId30"/>
    <p:sldLayoutId id="2147483685" r:id="rId31"/>
    <p:sldLayoutId id="2147483686" r:id="rId3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35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236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239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242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245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248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0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51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4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57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58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261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264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267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270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273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276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279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305F-0855-4B0B-90C0-2365109A3D12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23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324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6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327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9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330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333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336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339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342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45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346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49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2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55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58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361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364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367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0A9F-827F-4517-B5E0-4B990B4C9EDB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11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4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4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4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4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4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4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9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4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33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4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4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4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4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455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B07-D8D0-41D2-BFDC-68A5E0615E19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99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0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0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5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0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0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1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1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1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21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2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2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7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2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0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3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34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6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3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4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543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40F2-7AE1-4E26-A4DE-7C7C267EE9F7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8"/>
    <p:sldLayoutId id="2147483728" r:id="rId19"/>
    <p:sldLayoutId id="2147483729" r:id="rId20"/>
    <p:sldLayoutId id="2147483730" r:id="rId21"/>
    <p:sldLayoutId id="2147483731" r:id="rId22"/>
    <p:sldLayoutId id="2147483732" r:id="rId23"/>
    <p:sldLayoutId id="2147483733" r:id="rId24"/>
    <p:sldLayoutId id="2147483734" r:id="rId25"/>
    <p:sldLayoutId id="2147483735" r:id="rId26"/>
    <p:sldLayoutId id="2147483736" r:id="rId27"/>
    <p:sldLayoutId id="2147483737" r:id="rId28"/>
    <p:sldLayoutId id="2147483738" r:id="rId2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87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8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91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3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94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97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9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00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03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06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09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10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13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16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19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22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25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7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28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631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3" name="Answer Base" descr=""/>
          <p:cNvPicPr/>
          <p:nvPr/>
        </p:nvPicPr>
        <p:blipFill>
          <a:blip r:embed="rId18"/>
          <a:stretch/>
        </p:blipFill>
        <p:spPr>
          <a:xfrm>
            <a:off x="176040" y="1444680"/>
            <a:ext cx="8474400" cy="2475000"/>
          </a:xfrm>
          <a:prstGeom prst="rect">
            <a:avLst/>
          </a:prstGeom>
          <a:ln w="0">
            <a:noFill/>
          </a:ln>
        </p:spPr>
      </p:pic>
      <p:pic>
        <p:nvPicPr>
          <p:cNvPr id="634" name="Answer" descr=""/>
          <p:cNvPicPr/>
          <p:nvPr/>
        </p:nvPicPr>
        <p:blipFill>
          <a:blip r:embed="rId19"/>
          <a:stretch/>
        </p:blipFill>
        <p:spPr>
          <a:xfrm>
            <a:off x="176040" y="1444680"/>
            <a:ext cx="8474400" cy="2475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7273-418D-4BE5-8D53-9567E4997F3F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77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7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0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81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3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84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87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9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90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93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96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8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99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00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2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03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06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8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09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1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12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4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15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7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18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721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3" name="Answer Base" descr=""/>
          <p:cNvPicPr/>
          <p:nvPr/>
        </p:nvPicPr>
        <p:blipFill>
          <a:blip r:embed="rId18"/>
          <a:stretch/>
        </p:blipFill>
        <p:spPr>
          <a:xfrm>
            <a:off x="225360" y="1365120"/>
            <a:ext cx="8425080" cy="2481480"/>
          </a:xfrm>
          <a:prstGeom prst="rect">
            <a:avLst/>
          </a:prstGeom>
          <a:ln w="0">
            <a:noFill/>
          </a:ln>
        </p:spPr>
      </p:pic>
      <p:pic>
        <p:nvPicPr>
          <p:cNvPr id="724" name="Answer" descr=""/>
          <p:cNvPicPr/>
          <p:nvPr/>
        </p:nvPicPr>
        <p:blipFill>
          <a:blip r:embed="rId19"/>
          <a:stretch/>
        </p:blipFill>
        <p:spPr>
          <a:xfrm>
            <a:off x="225360" y="1365120"/>
            <a:ext cx="8425080" cy="351792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8CF-EF79-4AF8-9B25-15D8CE35B905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0"/>
    <p:sldLayoutId id="2147483754" r:id="rId21"/>
    <p:sldLayoutId id="2147483755" r:id="rId22"/>
    <p:sldLayoutId id="2147483756" r:id="rId23"/>
    <p:sldLayoutId id="2147483757" r:id="rId24"/>
    <p:sldLayoutId id="2147483758" r:id="rId25"/>
    <p:sldLayoutId id="2147483759" r:id="rId26"/>
    <p:sldLayoutId id="2147483760" r:id="rId27"/>
    <p:sldLayoutId id="2147483761" r:id="rId28"/>
    <p:sldLayoutId id="2147483762" r:id="rId29"/>
    <p:sldLayoutId id="2147483763" r:id="rId30"/>
    <p:sldLayoutId id="2147483764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Text Box 4"/>
          <p:cNvSpPr/>
          <p:nvPr/>
        </p:nvSpPr>
        <p:spPr>
          <a:xfrm>
            <a:off x="324000" y="260280"/>
            <a:ext cx="8567640" cy="64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образования и науки Республики Казах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анайский государственный университет им.А.Байтурсы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рашев Аскар Тулендее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ютные операции банка  (на примере АО «Казкоммерцбанк»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ый руко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.преподаватель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.Н.Са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анай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 txBox="1"/>
          <p:nvPr/>
        </p:nvSpPr>
        <p:spPr>
          <a:xfrm>
            <a:off x="1500120" y="3857400"/>
            <a:ext cx="5786640" cy="1214280"/>
          </a:xfrm>
          <a:prstGeom prst="rect">
            <a:avLst/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остоянию на конец каждого операционного дня суммарная величина всех длинных (коротких) открытых валютных позиций не должна превышать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0%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собственных средств (капитала) Группы.</a:t>
            </a:r>
            <a:endParaRPr b="0" lang="en-US" sz="1800" spc="-1" strike="noStrike">
              <a:solidFill>
                <a:srgbClr val="efe3c4"/>
              </a:solidFill>
              <a:latin typeface="Segoe Condensed"/>
            </a:endParaRPr>
          </a:p>
          <a:p>
            <a:pPr indent="19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51" name="Прямоугольник 3"/>
          <p:cNvSpPr/>
          <p:nvPr/>
        </p:nvSpPr>
        <p:spPr>
          <a:xfrm>
            <a:off x="2143080" y="1714680"/>
            <a:ext cx="4572000" cy="368280"/>
          </a:xfrm>
          <a:prstGeom prst="rect">
            <a:avLst/>
          </a:prstGeom>
          <a:solidFill>
            <a:srgbClr val="c7ccd1"/>
          </a:solidFill>
          <a:ln w="9360">
            <a:solidFill>
              <a:srgbClr val="3a5f7b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иты валютных пози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Штриховая стрелка вправо 4"/>
          <p:cNvSpPr/>
          <p:nvPr/>
        </p:nvSpPr>
        <p:spPr>
          <a:xfrm rot="5400000">
            <a:off x="3464640" y="2607480"/>
            <a:ext cx="1571400" cy="785520"/>
          </a:xfrm>
          <a:custGeom>
            <a:avLst/>
            <a:gdLst>
              <a:gd name="textAreaLeft" fmla="*/ 122760 w 1571400"/>
              <a:gd name="textAreaRight" fmla="*/ 1375200 w 1571400"/>
              <a:gd name="textAreaTop" fmla="*/ 196200 h 785520"/>
              <a:gd name="textAreaBottom" fmla="*/ 589320 h 785520"/>
            </a:gdLst>
            <a:ahLst/>
            <a:rect l="textAreaLeft" t="textAreaTop" r="textAreaRight" b="textAreaBottom"/>
            <a:pathLst>
              <a:path w="1571625" h="785813">
                <a:moveTo>
                  <a:pt x="0" y="196453"/>
                </a:moveTo>
                <a:lnTo>
                  <a:pt x="24557" y="196453"/>
                </a:lnTo>
                <a:lnTo>
                  <a:pt x="24557" y="589360"/>
                </a:lnTo>
                <a:lnTo>
                  <a:pt x="0" y="589360"/>
                </a:lnTo>
                <a:close/>
                <a:moveTo>
                  <a:pt x="49113" y="196453"/>
                </a:moveTo>
                <a:lnTo>
                  <a:pt x="98227" y="196453"/>
                </a:lnTo>
                <a:lnTo>
                  <a:pt x="98227" y="589360"/>
                </a:lnTo>
                <a:lnTo>
                  <a:pt x="49113" y="589360"/>
                </a:lnTo>
                <a:close/>
                <a:moveTo>
                  <a:pt x="122783" y="196453"/>
                </a:moveTo>
                <a:lnTo>
                  <a:pt x="1178719" y="196453"/>
                </a:lnTo>
                <a:lnTo>
                  <a:pt x="1178719" y="0"/>
                </a:lnTo>
                <a:lnTo>
                  <a:pt x="1571625" y="392907"/>
                </a:lnTo>
                <a:lnTo>
                  <a:pt x="1178719" y="785813"/>
                </a:lnTo>
                <a:lnTo>
                  <a:pt x="1178719" y="589360"/>
                </a:lnTo>
                <a:lnTo>
                  <a:pt x="122783" y="589360"/>
                </a:lnTo>
                <a:close/>
              </a:path>
            </a:pathLst>
          </a:custGeom>
          <a:solidFill>
            <a:srgbClr val="646f4d"/>
          </a:solidFill>
          <a:ln w="20160">
            <a:solidFill>
              <a:srgbClr val="ffffff"/>
            </a:solidFill>
            <a:round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0.16806 L -2.77778E-007 1.48148E-006 E">
                                      <p:cBhvr>
                                        <p:cTn id="62" dur="2000" fill="hold"/>
                                        <p:tgtEl>
                                          <p:spTgt spid="1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Прямоугольник 3"/>
          <p:cNvSpPr/>
          <p:nvPr/>
        </p:nvSpPr>
        <p:spPr>
          <a:xfrm>
            <a:off x="1071720" y="500040"/>
            <a:ext cx="7358040" cy="70380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каждого рабочего дня рассчитываются следующие отчетные показат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4" name="Прямоугольник 5"/>
          <p:cNvGrpSpPr/>
          <p:nvPr/>
        </p:nvGrpSpPr>
        <p:grpSpPr>
          <a:xfrm>
            <a:off x="311040" y="2000160"/>
            <a:ext cx="3273480" cy="1925640"/>
            <a:chOff x="311040" y="2000160"/>
            <a:chExt cx="3273480" cy="1925640"/>
          </a:xfrm>
        </p:grpSpPr>
        <p:pic>
          <p:nvPicPr>
            <p:cNvPr id="115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11040" y="2000160"/>
              <a:ext cx="327348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428760" y="2071800"/>
              <a:ext cx="3000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вокупная балансовая позиция (суммарная величина чистой балансовой позиции и чистой «спот» позиции с учетом знака позиции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7" name="Прямоугольник 6"/>
          <p:cNvGrpSpPr/>
          <p:nvPr/>
        </p:nvGrpSpPr>
        <p:grpSpPr>
          <a:xfrm>
            <a:off x="5383080" y="2000160"/>
            <a:ext cx="3400560" cy="2479680"/>
            <a:chOff x="5383080" y="2000160"/>
            <a:chExt cx="3400560" cy="2479680"/>
          </a:xfrm>
        </p:grpSpPr>
        <p:pic>
          <p:nvPicPr>
            <p:cNvPr id="1158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5383080" y="2000160"/>
              <a:ext cx="340056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5500800" y="2071800"/>
              <a:ext cx="3214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вокупная внебалансовая позиция (суммарная величина чистой срочной позиции, чистой опционной позиции и чистой позиции по гарантиям с учетом знака позиции), а также длинных позиций по внебалансовым сче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0" name="Прямоугольник 7"/>
          <p:cNvGrpSpPr/>
          <p:nvPr/>
        </p:nvGrpSpPr>
        <p:grpSpPr>
          <a:xfrm>
            <a:off x="1311120" y="4432320"/>
            <a:ext cx="3132360" cy="536400"/>
            <a:chOff x="1311120" y="4432320"/>
            <a:chExt cx="3132360" cy="536400"/>
          </a:xfrm>
        </p:grpSpPr>
        <p:pic>
          <p:nvPicPr>
            <p:cNvPr id="116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311120" y="4432320"/>
              <a:ext cx="31323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1440720" y="4500720"/>
              <a:ext cx="29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крытая валютная пози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3" name="Прямоугольник 8"/>
          <p:cNvGrpSpPr/>
          <p:nvPr/>
        </p:nvGrpSpPr>
        <p:grpSpPr>
          <a:xfrm>
            <a:off x="3597120" y="5218200"/>
            <a:ext cx="3578400" cy="536400"/>
            <a:chOff x="3597120" y="5218200"/>
            <a:chExt cx="3578400" cy="536400"/>
          </a:xfrm>
        </p:grpSpPr>
        <p:pic>
          <p:nvPicPr>
            <p:cNvPr id="116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597120" y="5218200"/>
              <a:ext cx="35784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3727800" y="5286240"/>
              <a:ext cx="33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алансирующая позиция в тенг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6" name="Стрелка вправо с вырезом 9"/>
          <p:cNvSpPr/>
          <p:nvPr/>
        </p:nvSpPr>
        <p:spPr>
          <a:xfrm rot="6922200">
            <a:off x="1676160" y="1493640"/>
            <a:ext cx="677520" cy="344520"/>
          </a:xfrm>
          <a:custGeom>
            <a:avLst/>
            <a:gdLst>
              <a:gd name="textAreaLeft" fmla="*/ 86040 w 677520"/>
              <a:gd name="textAreaRight" fmla="*/ 591480 w 677520"/>
              <a:gd name="textAreaTop" fmla="*/ 86040 h 344520"/>
              <a:gd name="textAreaBottom" fmla="*/ 2584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1" y="5400"/>
                </a:lnTo>
                <a:lnTo>
                  <a:pt x="16111" y="0"/>
                </a:lnTo>
                <a:lnTo>
                  <a:pt x="21600" y="10800"/>
                </a:lnTo>
                <a:lnTo>
                  <a:pt x="16111" y="21600"/>
                </a:lnTo>
                <a:lnTo>
                  <a:pt x="16111" y="16200"/>
                </a:lnTo>
                <a:lnTo>
                  <a:pt x="0" y="16200"/>
                </a:lnTo>
                <a:lnTo>
                  <a:pt x="274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Стрелка вправо с вырезом 10"/>
          <p:cNvSpPr/>
          <p:nvPr/>
        </p:nvSpPr>
        <p:spPr>
          <a:xfrm rot="4048800">
            <a:off x="6105240" y="1494000"/>
            <a:ext cx="677520" cy="344520"/>
          </a:xfrm>
          <a:custGeom>
            <a:avLst/>
            <a:gdLst>
              <a:gd name="textAreaLeft" fmla="*/ 86040 w 677520"/>
              <a:gd name="textAreaRight" fmla="*/ 591480 w 677520"/>
              <a:gd name="textAreaTop" fmla="*/ 86040 h 344520"/>
              <a:gd name="textAreaBottom" fmla="*/ 2584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1" y="5400"/>
                </a:lnTo>
                <a:lnTo>
                  <a:pt x="16111" y="0"/>
                </a:lnTo>
                <a:lnTo>
                  <a:pt x="21600" y="10800"/>
                </a:lnTo>
                <a:lnTo>
                  <a:pt x="16111" y="21600"/>
                </a:lnTo>
                <a:lnTo>
                  <a:pt x="16111" y="16200"/>
                </a:lnTo>
                <a:lnTo>
                  <a:pt x="0" y="16200"/>
                </a:lnTo>
                <a:lnTo>
                  <a:pt x="274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Стрелка вправо с вырезом 11"/>
          <p:cNvSpPr/>
          <p:nvPr/>
        </p:nvSpPr>
        <p:spPr>
          <a:xfrm rot="5967600">
            <a:off x="2912400" y="3129840"/>
            <a:ext cx="1974960" cy="482760"/>
          </a:xfrm>
          <a:custGeom>
            <a:avLst/>
            <a:gdLst>
              <a:gd name="textAreaLeft" fmla="*/ 120600 w 1974960"/>
              <a:gd name="textAreaRight" fmla="*/ 1854360 w 1974960"/>
              <a:gd name="textAreaTop" fmla="*/ 120600 h 482760"/>
              <a:gd name="textAreaBottom" fmla="*/ 362160 h 482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61" y="5400"/>
                </a:lnTo>
                <a:lnTo>
                  <a:pt x="18961" y="0"/>
                </a:lnTo>
                <a:lnTo>
                  <a:pt x="21600" y="10800"/>
                </a:lnTo>
                <a:lnTo>
                  <a:pt x="18961" y="21600"/>
                </a:lnTo>
                <a:lnTo>
                  <a:pt x="18961" y="16200"/>
                </a:lnTo>
                <a:lnTo>
                  <a:pt x="0" y="16200"/>
                </a:lnTo>
                <a:lnTo>
                  <a:pt x="132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Стрелка вправо с вырезом 12"/>
          <p:cNvSpPr/>
          <p:nvPr/>
        </p:nvSpPr>
        <p:spPr>
          <a:xfrm rot="5100000">
            <a:off x="3921480" y="3688200"/>
            <a:ext cx="2147760" cy="482760"/>
          </a:xfrm>
          <a:custGeom>
            <a:avLst/>
            <a:gdLst>
              <a:gd name="textAreaLeft" fmla="*/ 120600 w 2147760"/>
              <a:gd name="textAreaRight" fmla="*/ 2027160 w 2147760"/>
              <a:gd name="textAreaTop" fmla="*/ 120600 h 482760"/>
              <a:gd name="textAreaBottom" fmla="*/ 362160 h 482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73" y="5400"/>
                </a:lnTo>
                <a:lnTo>
                  <a:pt x="19173" y="0"/>
                </a:lnTo>
                <a:lnTo>
                  <a:pt x="21600" y="10800"/>
                </a:lnTo>
                <a:lnTo>
                  <a:pt x="19173" y="21600"/>
                </a:lnTo>
                <a:lnTo>
                  <a:pt x="19173" y="16200"/>
                </a:lnTo>
                <a:lnTo>
                  <a:pt x="0" y="16200"/>
                </a:lnTo>
                <a:lnTo>
                  <a:pt x="121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9444 L -0.05278 -0.06944 C -0.06493 -0.06389 -0.07101 -0.05602 -0.07101 -0.04792 C -0.07101 -0.03819 -0.06493 -0.03079 -0.05278 -0.02546 L -5.55556E-007 -1.48148E-006 E">
                                      <p:cBhvr>
                                        <p:cTn id="78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10486 L 2.5E-006 3.33333E-006 E">
                                      <p:cBhvr>
                                        <p:cTn id="80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33125 L -0.03993 -0.24282 C -0.04896 -0.22407 -0.05399 -0.19629 -0.05399 -0.16736 C -0.05399 -0.13402 -0.04896 -0.10764 -0.03993 -0.08889 L -2.5E-006 -3.33333E-006 E">
                                      <p:cBhvr>
                                        <p:cTn id="82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3333 L -2.22222E-006 0 E">
                                      <p:cBhvr>
                                        <p:cTn id="84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autoRev="1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animClr clrSpc="rgb">
                                      <p:cBhvr>
                                        <p:cTn id="87" dur="500" autoRev="1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8076960" cy="107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Box 3"/>
          <p:cNvSpPr/>
          <p:nvPr/>
        </p:nvSpPr>
        <p:spPr>
          <a:xfrm>
            <a:off x="3429000" y="1643040"/>
            <a:ext cx="2214720" cy="459720"/>
          </a:xfrm>
          <a:prstGeom prst="rect">
            <a:avLst/>
          </a:pr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Box 4"/>
          <p:cNvSpPr/>
          <p:nvPr/>
        </p:nvSpPr>
        <p:spPr>
          <a:xfrm>
            <a:off x="500040" y="2357280"/>
            <a:ext cx="1928880" cy="119124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ование от валютных рис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Box 5"/>
          <p:cNvSpPr/>
          <p:nvPr/>
        </p:nvSpPr>
        <p:spPr>
          <a:xfrm>
            <a:off x="1857240" y="4000680"/>
            <a:ext cx="2357640" cy="119124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ние необоснованных потерь иностранной валю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Box 6"/>
          <p:cNvSpPr/>
          <p:nvPr/>
        </p:nvSpPr>
        <p:spPr>
          <a:xfrm>
            <a:off x="4429080" y="4000680"/>
            <a:ext cx="2786040" cy="119124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дополнительной прибыль на спекулятивной игре и разнице к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Box 7"/>
          <p:cNvSpPr/>
          <p:nvPr/>
        </p:nvSpPr>
        <p:spPr>
          <a:xfrm>
            <a:off x="6143760" y="2214720"/>
            <a:ext cx="2500200" cy="119124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е развитие внешнеэкономической деятельности нашей стр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Стрелка вниз 9"/>
          <p:cNvSpPr/>
          <p:nvPr/>
        </p:nvSpPr>
        <p:spPr>
          <a:xfrm rot="1318200">
            <a:off x="3514320" y="2350800"/>
            <a:ext cx="285840" cy="16556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Стрелка вниз 10"/>
          <p:cNvSpPr/>
          <p:nvPr/>
        </p:nvSpPr>
        <p:spPr>
          <a:xfrm rot="3331200">
            <a:off x="2798640" y="1939680"/>
            <a:ext cx="285840" cy="104760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Стрелка вниз 11"/>
          <p:cNvSpPr/>
          <p:nvPr/>
        </p:nvSpPr>
        <p:spPr>
          <a:xfrm rot="20436600">
            <a:off x="5102280" y="2300040"/>
            <a:ext cx="285840" cy="1646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Стрелка вниз 12"/>
          <p:cNvSpPr/>
          <p:nvPr/>
        </p:nvSpPr>
        <p:spPr>
          <a:xfrm rot="18278400">
            <a:off x="5771880" y="1966680"/>
            <a:ext cx="285840" cy="5749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autoRev="1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4721"/>
                                      </p:to>
                                    </p:animClr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4721"/>
                                      </p:to>
                                    </p:animClr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2000160" y="1071360"/>
            <a:ext cx="65772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4240" indent="-714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fe3c4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efe3c4"/>
                </a:solidFill>
                <a:latin typeface="Times New Roman"/>
                <a:ea typeface="Times New Roman"/>
              </a:rPr>
              <a:t>раскрытие сущности валютных операций коммерческого банка.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marL="714240" indent="-714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3143160" y="4071960"/>
            <a:ext cx="2500560" cy="52056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6000840" y="5000760"/>
            <a:ext cx="2571840" cy="131364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отреть основные пути страхования валютного р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7"/>
          <p:cNvSpPr/>
          <p:nvPr/>
        </p:nvSpPr>
        <p:spPr>
          <a:xfrm>
            <a:off x="428760" y="5357880"/>
            <a:ext cx="2714400" cy="100872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ть валютные операции АО «Казкоммерцбан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Box 8"/>
          <p:cNvSpPr/>
          <p:nvPr/>
        </p:nvSpPr>
        <p:spPr>
          <a:xfrm>
            <a:off x="500040" y="2428920"/>
            <a:ext cx="2500200" cy="131364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ть внутренний валютный рынок стр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Box 9"/>
          <p:cNvSpPr/>
          <p:nvPr/>
        </p:nvSpPr>
        <p:spPr>
          <a:xfrm>
            <a:off x="5857920" y="2286000"/>
            <a:ext cx="2714760" cy="161856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теоретические аспекты проведения валютных операций коммерческими бан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Стрелка вверх 15"/>
          <p:cNvGrpSpPr/>
          <p:nvPr/>
        </p:nvGrpSpPr>
        <p:grpSpPr>
          <a:xfrm>
            <a:off x="3144960" y="3213000"/>
            <a:ext cx="811080" cy="768600"/>
            <a:chOff x="3144960" y="3213000"/>
            <a:chExt cx="811080" cy="768600"/>
          </a:xfrm>
        </p:grpSpPr>
        <p:pic>
          <p:nvPicPr>
            <p:cNvPr id="1115" name="Стрелка вверх 15" descr=""/>
            <p:cNvPicPr/>
            <p:nvPr/>
          </p:nvPicPr>
          <p:blipFill>
            <a:blip r:embed="rId1"/>
            <a:stretch/>
          </p:blipFill>
          <p:spPr>
            <a:xfrm>
              <a:off x="3144960" y="3213000"/>
              <a:ext cx="8110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 rot="18685800">
              <a:off x="3450240" y="3237480"/>
              <a:ext cx="21420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7" name="Стрелка вверх 16"/>
          <p:cNvGrpSpPr/>
          <p:nvPr/>
        </p:nvGrpSpPr>
        <p:grpSpPr>
          <a:xfrm>
            <a:off x="4853160" y="3243240"/>
            <a:ext cx="785520" cy="779400"/>
            <a:chOff x="4853160" y="3243240"/>
            <a:chExt cx="785520" cy="779400"/>
          </a:xfrm>
        </p:grpSpPr>
        <p:pic>
          <p:nvPicPr>
            <p:cNvPr id="1118" name="Стрелка вверх 16" descr=""/>
            <p:cNvPicPr/>
            <p:nvPr/>
          </p:nvPicPr>
          <p:blipFill>
            <a:blip r:embed="rId2"/>
            <a:stretch/>
          </p:blipFill>
          <p:spPr>
            <a:xfrm>
              <a:off x="4853160" y="3243240"/>
              <a:ext cx="7855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 rot="2730000">
              <a:off x="5143320" y="3270240"/>
              <a:ext cx="214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0" name="Стрелка вверх 17"/>
          <p:cNvGrpSpPr/>
          <p:nvPr/>
        </p:nvGrpSpPr>
        <p:grpSpPr>
          <a:xfrm>
            <a:off x="4913280" y="4681440"/>
            <a:ext cx="858960" cy="738360"/>
            <a:chOff x="4913280" y="4681440"/>
            <a:chExt cx="858960" cy="738360"/>
          </a:xfrm>
        </p:grpSpPr>
        <p:pic>
          <p:nvPicPr>
            <p:cNvPr id="1121" name="Стрелка вверх 17" descr=""/>
            <p:cNvPicPr/>
            <p:nvPr/>
          </p:nvPicPr>
          <p:blipFill>
            <a:blip r:embed="rId3"/>
            <a:stretch/>
          </p:blipFill>
          <p:spPr>
            <a:xfrm>
              <a:off x="4913280" y="4681440"/>
              <a:ext cx="8589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7447800">
              <a:off x="5222520" y="4671720"/>
              <a:ext cx="214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3" name="Стрелка вверх 18"/>
          <p:cNvGrpSpPr/>
          <p:nvPr/>
        </p:nvGrpSpPr>
        <p:grpSpPr>
          <a:xfrm>
            <a:off x="3139920" y="4668840"/>
            <a:ext cx="803520" cy="768240"/>
            <a:chOff x="3139920" y="4668840"/>
            <a:chExt cx="803520" cy="768240"/>
          </a:xfrm>
        </p:grpSpPr>
        <p:pic>
          <p:nvPicPr>
            <p:cNvPr id="1124" name="Стрелка вверх 18" descr=""/>
            <p:cNvPicPr/>
            <p:nvPr/>
          </p:nvPicPr>
          <p:blipFill>
            <a:blip r:embed="rId4"/>
            <a:stretch/>
          </p:blipFill>
          <p:spPr>
            <a:xfrm>
              <a:off x="3139920" y="4668840"/>
              <a:ext cx="803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3679400">
              <a:off x="3439800" y="4690440"/>
              <a:ext cx="214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Прямоугольник 19"/>
          <p:cNvSpPr/>
          <p:nvPr/>
        </p:nvSpPr>
        <p:spPr>
          <a:xfrm>
            <a:off x="720360" y="1071720"/>
            <a:ext cx="1224720" cy="581400"/>
          </a:xfrm>
          <a:prstGeom prst="rect">
            <a:avLst/>
          </a:pr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autoRev="1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animClr clrSpc="rgb">
                                      <p:cBhvr>
                                        <p:cTn id="21" dur="500" autoRev="1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autoRev="1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animClr clrSpc="rgb">
                                      <p:cBhvr>
                                        <p:cTn id="25" dur="500" autoRev="1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2 0.12338 L 5.55556E-007 -4.81481E-006 E">
                                      <p:cBhvr>
                                        <p:cTn id="28" dur="2000" fill="hold"/>
                                        <p:tgtEl>
                                          <p:spTgt spid="1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-0.10509 L -1.94444E-006 1.48148E-006 E">
                                      <p:cBhvr>
                                        <p:cTn id="30" dur="2000" fill="hold"/>
                                        <p:tgtEl>
                                          <p:spTgt spid="1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4 0.09445 L 3.05556E-006 -4.81481E-006 E">
                                      <p:cBhvr>
                                        <p:cTn id="32" dur="2000" fill="hold"/>
                                        <p:tgtEl>
                                          <p:spTgt spid="1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4 -0.10509 L -4.44444E-006 1.48148E-006 E">
                                      <p:cBhvr>
                                        <p:cTn id="34" dur="2000" fill="hold"/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Box 4"/>
          <p:cNvSpPr/>
          <p:nvPr/>
        </p:nvSpPr>
        <p:spPr>
          <a:xfrm>
            <a:off x="785880" y="1500120"/>
            <a:ext cx="3143160" cy="459720"/>
          </a:xfrm>
          <a:prstGeom prst="rect">
            <a:avLst/>
          </a:prstGeom>
          <a:solidFill>
            <a:srgbClr val="c7ccd1"/>
          </a:solidFill>
          <a:ln w="9360">
            <a:solidFill>
              <a:srgbClr val="3a5f7b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Box 5"/>
          <p:cNvSpPr/>
          <p:nvPr/>
        </p:nvSpPr>
        <p:spPr>
          <a:xfrm>
            <a:off x="5072040" y="1500120"/>
            <a:ext cx="3214800" cy="459720"/>
          </a:xfrm>
          <a:prstGeom prst="rect">
            <a:avLst/>
          </a:prstGeom>
          <a:solidFill>
            <a:srgbClr val="c7ccd1"/>
          </a:solidFill>
          <a:ln w="9360">
            <a:solidFill>
              <a:srgbClr val="3a5f7b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9" name="Штриховая стрелка вправо 6"/>
          <p:cNvGrpSpPr/>
          <p:nvPr/>
        </p:nvGrpSpPr>
        <p:grpSpPr>
          <a:xfrm>
            <a:off x="1792440" y="2030400"/>
            <a:ext cx="695160" cy="1273320"/>
            <a:chOff x="1792440" y="2030400"/>
            <a:chExt cx="695160" cy="1273320"/>
          </a:xfrm>
        </p:grpSpPr>
        <p:pic>
          <p:nvPicPr>
            <p:cNvPr id="1130" name="Штриховая стрелка вправо 6" descr=""/>
            <p:cNvPicPr/>
            <p:nvPr/>
          </p:nvPicPr>
          <p:blipFill>
            <a:blip r:embed="rId1"/>
            <a:stretch/>
          </p:blipFill>
          <p:spPr>
            <a:xfrm>
              <a:off x="1792440" y="2030400"/>
              <a:ext cx="6951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5400000">
              <a:off x="1687320" y="2473200"/>
              <a:ext cx="911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2" name="TextBox 7"/>
          <p:cNvSpPr/>
          <p:nvPr/>
        </p:nvSpPr>
        <p:spPr>
          <a:xfrm>
            <a:off x="714240" y="3286080"/>
            <a:ext cx="3429000" cy="459720"/>
          </a:xfrm>
          <a:prstGeom prst="rect">
            <a:avLst/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О «Казк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мерцбан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3" name="Штриховая стрелка вправо 8"/>
          <p:cNvGrpSpPr/>
          <p:nvPr/>
        </p:nvGrpSpPr>
        <p:grpSpPr>
          <a:xfrm>
            <a:off x="6364440" y="2030400"/>
            <a:ext cx="695160" cy="1273320"/>
            <a:chOff x="6364440" y="2030400"/>
            <a:chExt cx="695160" cy="1273320"/>
          </a:xfrm>
        </p:grpSpPr>
        <p:pic>
          <p:nvPicPr>
            <p:cNvPr id="1134" name="Штриховая стрелка вправо 8" descr=""/>
            <p:cNvPicPr/>
            <p:nvPr/>
          </p:nvPicPr>
          <p:blipFill>
            <a:blip r:embed="rId2"/>
            <a:stretch/>
          </p:blipFill>
          <p:spPr>
            <a:xfrm>
              <a:off x="6364440" y="2030400"/>
              <a:ext cx="6951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5" name=""/>
            <p:cNvSpPr/>
            <p:nvPr/>
          </p:nvSpPr>
          <p:spPr>
            <a:xfrm rot="5400000">
              <a:off x="6259320" y="2473200"/>
              <a:ext cx="911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6" name="TextBox 9"/>
          <p:cNvSpPr/>
          <p:nvPr/>
        </p:nvSpPr>
        <p:spPr>
          <a:xfrm>
            <a:off x="4929120" y="3286080"/>
            <a:ext cx="3643560" cy="459720"/>
          </a:xfrm>
          <a:prstGeom prst="rect">
            <a:avLst/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ютные операции Ба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7" name="Рисунок 11" descr="ККБ.jpg"/>
          <p:cNvPicPr/>
          <p:nvPr/>
        </p:nvPicPr>
        <p:blipFill>
          <a:blip r:embed="rId3"/>
          <a:stretch/>
        </p:blipFill>
        <p:spPr>
          <a:xfrm>
            <a:off x="3687840" y="4535640"/>
            <a:ext cx="17254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1000" fill="hold"/>
                                        <p:tgtEl>
                                          <p:spTgt spid="1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Bookman Old Style"/>
              </a:rPr>
              <a:t>Изменение курса казахстанского тенге и российского рубля по отношению к доллару США</a:t>
            </a:r>
            <a:endParaRPr b="0" lang="en-US" sz="2400" spc="-1" strike="noStrike">
              <a:solidFill>
                <a:srgbClr val="efe3c4"/>
              </a:solidFill>
              <a:latin typeface="Bookman Old Style"/>
            </a:endParaRPr>
          </a:p>
        </p:txBody>
      </p:sp>
      <p:pic>
        <p:nvPicPr>
          <p:cNvPr id="1139" name="Содержимое 3" descr="http://im.profi-forex.org/pictures/20100122/22541a322293.png"/>
          <p:cNvPicPr/>
          <p:nvPr/>
        </p:nvPicPr>
        <p:blipFill>
          <a:blip r:embed="rId1"/>
          <a:stretch/>
        </p:blipFill>
        <p:spPr>
          <a:xfrm>
            <a:off x="573120" y="1600200"/>
            <a:ext cx="79977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труктура депозитных средств клиентов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 видам валют за 3 года.</a:t>
            </a:r>
            <a:endParaRPr b="0" lang="en-US" sz="2400" spc="-1" strike="noStrike">
              <a:solidFill>
                <a:srgbClr val="efe3c4"/>
              </a:solidFill>
              <a:latin typeface="Bookman Old Style"/>
            </a:endParaRPr>
          </a:p>
        </p:txBody>
      </p:sp>
      <p:pic>
        <p:nvPicPr>
          <p:cNvPr id="1141" name="Содержимое 3" descr=""/>
          <p:cNvPicPr/>
          <p:nvPr/>
        </p:nvPicPr>
        <p:blipFill>
          <a:blip r:embed="rId1"/>
          <a:stretch/>
        </p:blipFill>
        <p:spPr>
          <a:xfrm>
            <a:off x="566640" y="2286000"/>
            <a:ext cx="7912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07732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перации с производными финансовыми инструментами</a:t>
            </a:r>
            <a:endParaRPr b="0" lang="en-US" sz="2400" spc="-1" strike="noStrike">
              <a:solidFill>
                <a:srgbClr val="efe3c4"/>
              </a:solidFill>
              <a:latin typeface="Bookman Old Style"/>
            </a:endParaRPr>
          </a:p>
        </p:txBody>
      </p:sp>
      <p:pic>
        <p:nvPicPr>
          <p:cNvPr id="1143" name="Содержимое 3" descr=""/>
          <p:cNvPicPr/>
          <p:nvPr/>
        </p:nvPicPr>
        <p:blipFill>
          <a:blip r:embed="rId1"/>
          <a:stretch/>
        </p:blipFill>
        <p:spPr>
          <a:xfrm>
            <a:off x="212760" y="1852560"/>
            <a:ext cx="8791560" cy="4816440"/>
          </a:xfrm>
          <a:prstGeom prst="rect">
            <a:avLst/>
          </a:prstGeom>
          <a:ln w="0">
            <a:noFill/>
          </a:ln>
        </p:spPr>
      </p:pic>
      <p:sp>
        <p:nvSpPr>
          <p:cNvPr id="1144" name="TextBox 4"/>
          <p:cNvSpPr/>
          <p:nvPr/>
        </p:nvSpPr>
        <p:spPr>
          <a:xfrm>
            <a:off x="7572240" y="157176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млн.тенг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мер конверсионной операции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форвардный контракт)</a:t>
            </a:r>
            <a:endParaRPr b="0" lang="en-US" sz="28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533520" y="1600200"/>
            <a:ext cx="8076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портеру необходимо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0 000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л.США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спот на 15.11.2009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Z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6,81       147,32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нтная ставка на 1 месяц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долларам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99 % 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тенге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,50 %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нк берет кредит в тенге по курсу спот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 531 000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ге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центы по кредиту   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 011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ге за 1 месяц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умма долга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7 726 011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енге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центы по депозиту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4992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долларов  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вардная сделка</a:t>
            </a:r>
            <a:endParaRPr b="0" lang="en-US" sz="2800" spc="-1" strike="noStrike">
              <a:solidFill>
                <a:srgbClr val="efe3c4"/>
              </a:solidFill>
              <a:latin typeface="Bookman Old Style"/>
            </a:endParaRPr>
          </a:p>
        </p:txBody>
      </p:sp>
      <p:pic>
        <p:nvPicPr>
          <p:cNvPr id="1148" name="Содержимое 3" descr=""/>
          <p:cNvPicPr/>
          <p:nvPr/>
        </p:nvPicPr>
        <p:blipFill>
          <a:blip r:embed="rId1"/>
          <a:stretch/>
        </p:blipFill>
        <p:spPr>
          <a:xfrm>
            <a:off x="426960" y="1785960"/>
            <a:ext cx="8363160" cy="2309760"/>
          </a:xfrm>
          <a:prstGeom prst="rect">
            <a:avLst/>
          </a:prstGeom>
          <a:ln w="0">
            <a:noFill/>
          </a:ln>
        </p:spPr>
      </p:pic>
      <p:sp>
        <p:nvSpPr>
          <p:cNvPr id="1149" name="Прямоугольник 4"/>
          <p:cNvSpPr/>
          <p:nvPr/>
        </p:nvSpPr>
        <p:spPr>
          <a:xfrm>
            <a:off x="714240" y="485784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быль банка от разницы кур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7 320 000 -146 810 000 =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0 000 тенг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</cp:lastModifiedBy>
  <dcterms:modified xsi:type="dcterms:W3CDTF">2010-07-14T07:56:40Z</dcterms:modified>
  <cp:revision>55</cp:revision>
  <dc:subject/>
  <dc:title>Слайд 1</dc:title>
</cp:coreProperties>
</file>