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E83-C3B8-41A4-A704-3D343DE1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66F-39FB-486C-9365-82E4B7D5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E21-F819-41B1-8C48-BEF2AC9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3C8-005D-4247-9E3F-CDDA8D1D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DF8-B1BE-4B81-9B0A-567D5869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946-6A2D-4DAF-A9E6-82B11D4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C39D-3D77-4BC1-874D-A820D4B7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8AAE-45D4-42D1-A113-D2584A2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311-819B-4330-AEF6-42E0149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673A-6CC6-4C8C-B82A-16B894C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7A28-88C1-4736-9DF6-72528F53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F2C-594A-45E3-B987-31C6C8E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F89-DEE9-496D-BA2C-D777A17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EE7F-AE4F-4F40-8EA4-52F9615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057D-34B0-42D1-BFC7-912D688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E9B-83BB-4FD7-AEE5-CD5672D3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A7F-FE5A-47CE-9BD7-DF835145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160-C74B-4022-A519-6218B59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169-AA04-4FC9-845E-3C368D9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B67-FEBD-46EB-9C92-2D2BCF7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91A-29ED-4F08-A678-645359C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3A8-40A3-4AC8-92B0-247A3E4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474-7649-45A2-B95C-A8367CA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9CE-91AE-4366-A1B5-5E7B5CB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0B78-41A2-43E1-A53B-5DEBA6A9E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7D4-3F97-48B4-8641-F6D2EE58B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ипломный проект</a:t>
            </a:r>
            <a:br>
              <a:rPr sz="48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Оптимизация движения денежных потоков в учреждениях сферы здравоохранения (на примере ГУЗ «Областной кожно-венерологический диспансер»)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120" y="3886200"/>
            <a:ext cx="57150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гр. ФН-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ециа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Финансы и креди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мскова Александ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Финансово-экономическое обоснование организации анонимного медицинского обслужива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счет точки безубыточности и запаса финансовой устойчивости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080" y="2058840"/>
            <a:ext cx="768384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аким образом, проведенные анализ и экономическое обоснование предполагаемого отделения анонимной медицинской помощи показывают, что подобная реструктуризация деятельности анализируемого предприятия экономически выгодна и предприятие получит достаточно высокую прибыл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ь и задачи дипломного проек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ю дипломного проекта было проанализировать пути оптимизации движения денежных потоков в учреждениях сферы здравоохран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оответствии с поставленной целью в дипломном проекте были поставлены и решены следующие 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Рассмотрены теоретические источники по проблемам управления денежными потоками предприятия и по проблемам оптимизации этой деятельности в условиях развития рыночных отнош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Изучены методики анализа управления денежными потоками предприят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анализированы состав, структура, динамика денежных потоков в ГУЗ «Областной кожно-венерологический диспансер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Подготовлены предложения по оптимизации процесса управления денежными потоками и произведена оценка эффективности предлагаемых мероприя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инансирование учреждений здравоохранен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ежные потоки предприят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1280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использования оборотных средств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7586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ступлений финансовых средств по комплексным целевым программам из бюджет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сходные данные для расчета экономической эффективности предлагаемых мероприят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Эффективность мероприятий по повышению эффективности использования оборудования отдела платных косметических услуг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679840"/>
            <a:ext cx="82296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y</cp:lastModifiedBy>
  <dcterms:modified xsi:type="dcterms:W3CDTF">2011-02-02T17:02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