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3D94-F8D2-47D5-87F6-9FAF5F4C1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4AE4-A6C3-4CD7-BDF9-ECE64DF7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8F2A-EE05-4D30-AE61-2024FA8D7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D3E3-C768-4A36-AAB2-349618D89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8B8E-553C-45F0-84D9-BDF0858B0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3D34-2BCD-44A3-ABBE-F24FD2BC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9F0B-5628-45CB-BF9A-CB4AB7F6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77D1-16D0-4EBD-9A2D-267FC3CA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ACC1A-FBF5-4D49-A80F-5BF3A3DC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DC3A-73E3-4F88-982E-5A0C517D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17AB8-F3E5-4700-917A-7799A4E8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A49F-EB1C-486F-BCC2-B6F684D0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5115-28B3-4A34-A262-1B625C76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1FF3-8D84-4240-BB7A-63E7E25B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47116-2F03-4EB3-B7BB-025A0511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0A608-38F5-4231-B5D6-CE6CEA3AA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92143-C63C-4A7B-9047-CAC9FDFAC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5193D-5F62-4715-8504-189037952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31C8D-3482-4504-9496-30A5CC52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B0CF9-1170-4D2D-AE08-C8AA5185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FC684-8863-44AD-9E23-13FBBD37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E34EF-80BE-412C-8C2A-A43FE4E3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CD7A-871C-49D8-AFB7-17CD525C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ADC6D-C2CA-4D38-ACD2-1D9EF365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9D9B1-DEB3-42D1-A208-DD60C8F8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753DD-7294-4FE7-AC9E-F8B1A4A3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D7F05-49CE-4DC1-B4E4-DD1434E1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4AD66-DCCD-45A9-8589-BAD9BABE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7F7A5-F55C-4893-B568-F0E2A2EA4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E757B-BFA0-44F9-BA11-5F3DC933F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F736-F346-4CC2-9027-D3AEE124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520D-3B6A-4F6C-B03D-AB9BCEDA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B674-3D4E-4E35-B935-67DFF5F7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8206-04E0-43E0-B162-3E523495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7704-E34C-4295-8923-6256B487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2ABD-58C5-46E1-95C7-53632FE5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D170-BF66-4821-B038-E90857907C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46CE-D1BC-402B-B6DF-6B2DDDEA49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EDDC-1E7E-4DEC-A02B-3482F07BAC3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7200" spc="-1" strike="noStrike">
                <a:solidFill>
                  <a:srgbClr val="feec94"/>
                </a:solidFill>
                <a:latin typeface="Times New Roman"/>
              </a:rPr>
              <a:t>Молодіжні субкультури</a:t>
            </a: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8"/>
          <p:cNvSpPr/>
          <p:nvPr/>
        </p:nvSpPr>
        <p:spPr>
          <a:xfrm>
            <a:off x="0" y="-11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7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0" y="-10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5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0" y="-9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Object 5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0" y="29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Object 5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12:53:36Z</dcterms:created>
  <dc:creator>Admin</dc:creator>
  <dc:description/>
  <dc:language>en-US</dc:language>
  <cp:lastModifiedBy>Ната</cp:lastModifiedBy>
  <dcterms:modified xsi:type="dcterms:W3CDTF">2011-05-05T09:09:36Z</dcterms:modified>
  <cp:revision>2</cp:revision>
  <dc:subject/>
  <dc:title>Молодіжні субкультури</dc:title>
</cp:coreProperties>
</file>