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3D35-D626-4C07-B80A-B43588DA83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05691-90EF-43A8-A6B8-8044EA1FFA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DCFE7-7320-4433-B1B1-203E3ABA55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4958-E7D0-491C-9B2C-C12366BC21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C4C6E-25E4-4E98-9A24-0DAF96E4D0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C356-90D4-45B0-AD81-E04147B001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9A987-DE83-4159-9E94-BF4F5E4322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BE9C-3D9D-43B7-9FF2-180218C43E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54595-B6DB-4D9E-826B-7819E8C04E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5A7B7-4363-405F-9426-8563CA0E82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69C78-7616-47D3-AF07-0EE6EA3843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F836-E9B1-4D67-A64E-1C4D38CA77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7B927-6A14-4C32-A301-80CBECC7B14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9638-5B08-46C6-A9EC-3EE3C239A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177-B4BF-45EB-A479-75FCA58A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4F8-1553-4CBD-B318-593EB854A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5836-87FE-4CB2-BB90-26538CC08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532E7-6886-431F-96ED-CEB2CFCDB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72F76-E604-4E9C-8506-D65DF477C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B03A-680A-46BD-83D3-6640529F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71C9-027A-4CBD-8136-3931535DB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8657-8DD0-4FBD-8453-E3632F20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AB51-4695-4BC4-9915-BC60E4A8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B8DDF-AF1F-4139-8EDF-D3A93C72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7EA4-C6A3-461D-87C7-C85683AB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93D7-FAF4-44AF-86B0-9FB77A09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41684-BF1E-4F2C-A16E-83AB54C5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90703-ABBE-4832-9627-91DE8A0E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DBB10-5B99-4821-984F-52C52F513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7898-B2C8-4FDF-913B-61AD560E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845D5-5292-4C02-9EF3-443DE6DE7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29ECA-078F-49F2-A494-27C06859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23102-51BE-4D03-AECE-7BFAD8C6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668D3-FE84-4DDE-A84D-C4C567F1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6D798-3B0E-4B5E-AE2B-0129A6DE6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397-878D-4F89-9D15-0B3422F46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08FD1-7616-47F4-9C45-D122D55F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1EDB4-98B1-490C-8720-5D61297F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51112-ABF7-49C2-9C3C-6FF1E0336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C0035-5086-4645-8547-810AFD7B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C59BB-D7B2-4C9C-BA1B-7D05718B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A0DAA-57D9-413E-99E4-800CDE81C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28965-4BBA-4EBD-A92D-42D572CC6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B2CCD-ECF5-4DF7-B7A6-E0B1731A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C95F9-AD0F-46B8-ACDB-765A177E2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B91B5-D6B1-4A9F-AD59-8467A358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201-0BCE-45C9-BF1D-8965E5BF8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B1AC0-BD47-492F-B3BF-80B68C00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402B8-85B2-4437-BEA5-1BCBE612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13158-F653-445B-804D-769D49B2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93756-7641-42EF-8D1B-8CB41AD8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A8E70-6A2F-4B88-B3FB-920B14F8A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AF307-A08B-43CF-B62F-31D8CEC7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BCEFE8-66A5-4D42-8C37-30AE8DD5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2E51F-15CF-4A2A-8F33-7E950A2D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6537B-69AF-4DB2-9FC5-03BC7B55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1FECA-6896-4752-8C28-5DC941C9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DB6-8196-4796-BD86-49293E98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DDFA9-2B33-4FB8-8BAA-0DE180DC9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AAC7B-F488-47E7-ADFD-1923C221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D3B57-8654-481D-ABAA-EA121DDB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77821-2E23-4EA4-9B79-CB69D089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7EB827-178B-445F-87C6-342570F7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71E17-D764-4468-BE36-1403A73A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B5E2C-584C-4DA2-8D68-A3B2FE66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50869-B8C1-413B-80E4-0EA49E0E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86725-1F45-438B-B3E0-634C755A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FECAA-5EBC-4977-924B-BA1B34AF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2585-F145-4D6D-88FF-1AE8967D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6725E-BB05-4E37-AB6E-5D86056D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5E211-908C-4B98-AB0D-4DC8CC498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883B5-AABE-4386-A8C6-1FCDC41D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AFAEC-2F9F-4024-B06C-4626B91F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94E13-29EB-4A19-BEE2-227BB9761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D9593-A41A-4A03-B3C1-1692C8682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8F362-525C-45C2-90ED-1FA8467F8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38638-E5BD-4B01-A2D8-7A962522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24AF3-EFFC-4D1D-8C80-2804243D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32B3F-9FF5-4352-A27F-D57C45CA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988-2313-4D46-90C1-F6CE8AA4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5EE8D-67D3-4315-8A10-90E05918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7B179-B5B0-41B1-84B7-2C2684604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60B702-9359-479B-B91D-45500751A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073-50AD-4A84-9C51-C2451E7F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7583-79C0-4916-BD57-E2C7A7DCD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8FEB-AB69-45A7-A8A5-E22503C39F27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8C48F-844A-4E08-9BFC-B5CBDD149CD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DB37-C6B6-41EE-BCF5-4AED1C7A0397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323E-B808-4DA3-B069-C9B34250953F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2E7AF-410C-4277-A8C9-9408E5B72700}" type="datetime">
              <a:rPr b="0" lang="ru-RU" sz="1200" spc="-1" strike="noStrike">
                <a:solidFill>
                  <a:srgbClr val="fffff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024A-9F45-4B30-B133-A84F34184A57}" type="slidenum">
              <a:rPr b="0" lang="ru-RU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87EB-EED6-4DB7-864D-373B062278BC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2E76-BC04-4480-9811-5BE7426214C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3CF9-6ADF-4282-BE6C-B8600F4C2035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6946-DA1F-4174-B298-C8F74BF8293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1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Прямоугольник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Прямоугольник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Прямоугольник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861B-5FB8-42E4-AA87-07C487F3014D}" type="datetime">
              <a:rPr b="0" lang="ru-RU" sz="1200" spc="-1" strike="noStrike">
                <a:solidFill>
                  <a:srgbClr val="3f3f3f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7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8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A08D-6793-4D27-9DC5-D02124061C16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1.jpe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Группа 11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27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0764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3" descr=""/>
            <p:cNvPicPr/>
            <p:nvPr/>
          </p:nvPicPr>
          <p:blipFill>
            <a:blip r:embed="rId2"/>
            <a:stretch/>
          </p:blipFill>
          <p:spPr>
            <a:xfrm>
              <a:off x="1907640" y="0"/>
              <a:ext cx="723636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4" descr=""/>
            <p:cNvPicPr/>
            <p:nvPr/>
          </p:nvPicPr>
          <p:blipFill>
            <a:blip r:embed="rId3"/>
            <a:stretch/>
          </p:blipFill>
          <p:spPr>
            <a:xfrm>
              <a:off x="3780000" y="41040"/>
              <a:ext cx="1428480" cy="137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9" name="Прямоугольник 10" descr=""/>
          <p:cNvPicPr/>
          <p:nvPr/>
        </p:nvPicPr>
        <p:blipFill>
          <a:blip r:embed="rId4"/>
          <a:stretch/>
        </p:blipFill>
        <p:spPr>
          <a:xfrm>
            <a:off x="682560" y="2054160"/>
            <a:ext cx="7871040" cy="2389320"/>
          </a:xfrm>
          <a:prstGeom prst="rect">
            <a:avLst/>
          </a:prstGeom>
          <a:ln w="0">
            <a:noFill/>
          </a:ln>
        </p:spPr>
      </p:pic>
      <p:sp>
        <p:nvSpPr>
          <p:cNvPr id="280" name="Прямоугольник 2"/>
          <p:cNvSpPr/>
          <p:nvPr/>
        </p:nvSpPr>
        <p:spPr>
          <a:xfrm>
            <a:off x="4959360" y="5589720"/>
            <a:ext cx="406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Ковалев М.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ьность: менеджмент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циализация: управление инвестициями и экономика строитель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"/>
          <p:cNvSpPr/>
          <p:nvPr/>
        </p:nvSpPr>
        <p:spPr>
          <a:xfrm>
            <a:off x="15228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5"/>
          <p:cNvSpPr/>
          <p:nvPr/>
        </p:nvSpPr>
        <p:spPr>
          <a:xfrm>
            <a:off x="152280" y="5589720"/>
            <a:ext cx="4542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дипломного проектирования: Бобылев В. 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э.н., доцен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78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0" name="TextBox 11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81" name="TextBox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оказатели эффектив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3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4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93B2-906F-4D2C-9F58-50579BBB9428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Прямоугольник 5" descr=""/>
          <p:cNvPicPr/>
          <p:nvPr/>
        </p:nvPicPr>
        <p:blipFill>
          <a:blip r:embed="rId5"/>
          <a:stretch/>
        </p:blipFill>
        <p:spPr>
          <a:xfrm>
            <a:off x="1152360" y="2730600"/>
            <a:ext cx="7345440" cy="1019160"/>
          </a:xfrm>
          <a:prstGeom prst="rect">
            <a:avLst/>
          </a:prstGeom>
          <a:ln w="0">
            <a:noFill/>
          </a:ln>
        </p:spPr>
      </p:pic>
      <p:pic>
        <p:nvPicPr>
          <p:cNvPr id="386" name="Прямоугольник 7" descr=""/>
          <p:cNvPicPr/>
          <p:nvPr/>
        </p:nvPicPr>
        <p:blipFill>
          <a:blip r:embed="rId6"/>
          <a:stretch/>
        </p:blipFill>
        <p:spPr>
          <a:xfrm>
            <a:off x="950760" y="1542960"/>
            <a:ext cx="7851960" cy="792360"/>
          </a:xfrm>
          <a:prstGeom prst="rect">
            <a:avLst/>
          </a:prstGeom>
          <a:ln w="0">
            <a:noFill/>
          </a:ln>
        </p:spPr>
      </p:pic>
      <p:pic>
        <p:nvPicPr>
          <p:cNvPr id="387" name="Прямоугольник 15" descr=""/>
          <p:cNvPicPr/>
          <p:nvPr/>
        </p:nvPicPr>
        <p:blipFill>
          <a:blip r:embed="rId7"/>
          <a:stretch/>
        </p:blipFill>
        <p:spPr>
          <a:xfrm>
            <a:off x="957240" y="2097000"/>
            <a:ext cx="7845480" cy="79236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оугольник 16" descr=""/>
          <p:cNvPicPr/>
          <p:nvPr/>
        </p:nvPicPr>
        <p:blipFill>
          <a:blip r:embed="rId8"/>
          <a:stretch/>
        </p:blipFill>
        <p:spPr>
          <a:xfrm>
            <a:off x="3054240" y="3597120"/>
            <a:ext cx="3017880" cy="1017720"/>
          </a:xfrm>
          <a:prstGeom prst="rect">
            <a:avLst/>
          </a:prstGeom>
          <a:ln w="0">
            <a:noFill/>
          </a:ln>
        </p:spPr>
      </p:pic>
      <p:pic>
        <p:nvPicPr>
          <p:cNvPr id="389" name="Прямоугольник 17" descr=""/>
          <p:cNvPicPr/>
          <p:nvPr/>
        </p:nvPicPr>
        <p:blipFill>
          <a:blip r:embed="rId9"/>
          <a:stretch/>
        </p:blipFill>
        <p:spPr>
          <a:xfrm>
            <a:off x="3352680" y="4395960"/>
            <a:ext cx="2835360" cy="1017360"/>
          </a:xfrm>
          <a:prstGeom prst="rect">
            <a:avLst/>
          </a:prstGeom>
          <a:ln w="0">
            <a:noFill/>
          </a:ln>
        </p:spPr>
      </p:pic>
      <p:pic>
        <p:nvPicPr>
          <p:cNvPr id="390" name="Прямоугольник 18" descr=""/>
          <p:cNvPicPr/>
          <p:nvPr/>
        </p:nvPicPr>
        <p:blipFill>
          <a:blip r:embed="rId10"/>
          <a:stretch/>
        </p:blipFill>
        <p:spPr>
          <a:xfrm>
            <a:off x="2938320" y="5078520"/>
            <a:ext cx="3213360" cy="10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92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TextBox 11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95" name="TextBox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Риски проек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97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E271-29F9-4E7F-86E8-B405B4573EAC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108000" y="1628640"/>
          <a:ext cx="8928000" cy="5113440"/>
        </p:xfrm>
        <a:graphic>
          <a:graphicData uri="http://schemas.openxmlformats.org/drawingml/2006/table">
            <a:tbl>
              <a:tblPr/>
              <a:tblGrid>
                <a:gridCol w="1944720"/>
                <a:gridCol w="574560"/>
                <a:gridCol w="6408720"/>
              </a:tblGrid>
              <a:tr h="365400"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акт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наче-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мментар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азмер компани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 –3%. Рассматриваемое предприятие довольно крупное, объемы производства в масштабах стран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540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инансовая струк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 – 5 %. Данный показатель зависит от коэффициента концентрации собственного капитала и от показателя текущей ликвид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изводственная и территориальная диверсификац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–3%. Производственная диверсификация практически отсутствует (единственное направление деятельности – авиационный ремонт, образовательная деятельность влияет незначительно). Территориальная диверсификация средняя (предприятие ремонтирует авиационную технику для России и ближнего зарубежья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версификация клиентур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–4%. Чем меньше зависимость доходов компании от одного или нескольких крупнейших клиентов, тем при прочих равных условиях она стабильнее. Потребителями авиационного ремонта  являются практически все авиакомпании аэропорта Внуково и некоторые – других аэропортов, т. е. клиенты немногочисленны и весом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73044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Рентабельность предприятия и прогнозируемость его дохо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–4%. Рентабельность и стабильность доходов в данном бизнесе высокие, но зависят от политики государ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чество управлен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ачество управления отражается на всех сферах существования компании, т. е. текущее состояние компании и перспективы ее развития во многом предопределены качеством управления. Данный фактор риска определяем как среднюю величину факторов, кроме факторов, зависящих от величины компании и прогнозируемости доход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91296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очие собственные риски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1224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1224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едел 0 – 5 %.  Учитывает вероятность влияния на получение прогнозируемых доходов других специфических рисков, присущих оцениваемой компании. Принимая во внимание специфику ведения бизнеса в России, необходимо предусмотреть в ставке дисконта величину данного фактора на уровне середины диапазон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5760">
                      <a:solidFill>
                        <a:srgbClr val="f0ad00"/>
                      </a:solidFill>
                    </a:lnT>
                    <a:lnB w="12240">
                      <a:solidFill>
                        <a:srgbClr val="f0ad00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182880">
                <a:tc>
                  <a:txBody>
                    <a:bodyPr lIns="38160" rIns="38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то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1224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5,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1224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38160" rIns="381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0ad00"/>
                      </a:solidFill>
                    </a:lnL>
                    <a:lnR w="5760">
                      <a:solidFill>
                        <a:srgbClr val="f0ad00"/>
                      </a:solidFill>
                    </a:lnR>
                    <a:lnT w="12240">
                      <a:solidFill>
                        <a:srgbClr val="f0ad00"/>
                      </a:solidFill>
                    </a:lnT>
                    <a:lnB w="5760">
                      <a:solidFill>
                        <a:srgbClr val="f0ad00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40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90764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2" name="Picture 3" descr=""/>
            <p:cNvPicPr/>
            <p:nvPr/>
          </p:nvPicPr>
          <p:blipFill>
            <a:blip r:embed="rId2"/>
            <a:stretch/>
          </p:blipFill>
          <p:spPr>
            <a:xfrm>
              <a:off x="1907640" y="0"/>
              <a:ext cx="723636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3" name="Picture 4" descr=""/>
            <p:cNvPicPr/>
            <p:nvPr/>
          </p:nvPicPr>
          <p:blipFill>
            <a:blip r:embed="rId3"/>
            <a:stretch/>
          </p:blipFill>
          <p:spPr>
            <a:xfrm>
              <a:off x="3780000" y="41040"/>
              <a:ext cx="142848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49D2-AEC0-4102-8874-9765031A18D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Прямоугольник 2" descr=""/>
          <p:cNvPicPr/>
          <p:nvPr/>
        </p:nvPicPr>
        <p:blipFill>
          <a:blip r:embed="rId4"/>
          <a:stretch/>
        </p:blipFill>
        <p:spPr>
          <a:xfrm>
            <a:off x="1695600" y="2395440"/>
            <a:ext cx="5595840" cy="32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Группа 11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284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TextBox 7"/>
            <p:cNvGrpSpPr/>
            <p:nvPr/>
          </p:nvGrpSpPr>
          <p:grpSpPr>
            <a:xfrm>
              <a:off x="5338440" y="420480"/>
              <a:ext cx="3805560" cy="871920"/>
              <a:chOff x="5338440" y="420480"/>
              <a:chExt cx="3805560" cy="871920"/>
            </a:xfrm>
          </p:grpSpPr>
          <p:pic>
            <p:nvPicPr>
              <p:cNvPr id="287" name="TextBox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8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8" name=""/>
              <p:cNvSpPr/>
              <p:nvPr/>
            </p:nvSpPr>
            <p:spPr>
              <a:xfrm>
                <a:off x="5438520" y="476280"/>
                <a:ext cx="36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Характеристики дипломного проек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9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0" name="Прямоугольник 2"/>
          <p:cNvSpPr/>
          <p:nvPr/>
        </p:nvSpPr>
        <p:spPr>
          <a:xfrm>
            <a:off x="250920" y="1916280"/>
            <a:ext cx="8665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пень проработанност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ышение квалификации сотрудников силами предприятия – относительно новое направление деятельности хозяйствующих субъектов. В последние годы появилось много работ по этой теме, но единого подхода пока не проработано. Требуется дополнительный анализ и систематизация данн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оугольник 5"/>
          <p:cNvSpPr/>
          <p:nvPr/>
        </p:nvSpPr>
        <p:spPr>
          <a:xfrm>
            <a:off x="336600" y="3359160"/>
            <a:ext cx="85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АО «Внуковский авиаремонтный завод №400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оугольник 6"/>
          <p:cNvSpPr/>
          <p:nvPr/>
        </p:nvSpPr>
        <p:spPr>
          <a:xfrm>
            <a:off x="307800" y="3933720"/>
            <a:ext cx="859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 исследования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эффективности деятельности предприятия за счет реконструкции нерентабельных и бесперспективных произво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оугольник 8"/>
          <p:cNvSpPr/>
          <p:nvPr/>
        </p:nvSpPr>
        <p:spPr>
          <a:xfrm>
            <a:off x="336600" y="4941720"/>
            <a:ext cx="84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задачи дипломного проектирования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ирование рациональной системы управления инвестиционным проектом с учетом перспектив развития управляемых объект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и расчет инвестиционной эффективности от предлагаемых мероприят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Номер слайда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393D6-C695-4FC5-A9D1-1EAE20B352CA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29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8" name="TextBox 10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299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оказатели эффективност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1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2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40781-1831-4E57-94A2-457C41013ACC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Объект 4"/>
              <p:cNvSpPr txBox="1"/>
              <p:nvPr/>
            </p:nvSpPr>
            <p:spPr>
              <a:xfrm>
                <a:off x="3132000" y="2060640"/>
                <a:ext cx="39610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Прибыль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Затраты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Инвестиции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304" name="Схема 5" descr=""/>
          <p:cNvPicPr/>
          <p:nvPr/>
        </p:nvPicPr>
        <p:blipFill>
          <a:blip r:embed="rId5"/>
          <a:stretch/>
        </p:blipFill>
        <p:spPr>
          <a:xfrm>
            <a:off x="755640" y="1779480"/>
            <a:ext cx="7199280" cy="457200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Объект 9"/>
              <p:cNvSpPr txBox="1"/>
              <p:nvPr/>
            </p:nvSpPr>
            <p:spPr>
              <a:xfrm>
                <a:off x="3203640" y="2924280"/>
                <a:ext cx="374472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ЧД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ЧД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ЧДД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Е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Е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Объект 12"/>
              <p:cNvSpPr txBox="1"/>
              <p:nvPr/>
            </p:nvSpPr>
            <p:spPr>
              <a:xfrm>
                <a:off x="3292560" y="3860640"/>
                <a:ext cx="2558880" cy="136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Прибыль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Затраты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Инвестиции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E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t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1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3" name="TextBox 10"/>
            <p:cNvGrpSpPr/>
            <p:nvPr/>
          </p:nvGrpSpPr>
          <p:grpSpPr>
            <a:xfrm>
              <a:off x="5338440" y="420480"/>
              <a:ext cx="3805560" cy="871920"/>
              <a:chOff x="5338440" y="420480"/>
              <a:chExt cx="3805560" cy="871920"/>
            </a:xfrm>
          </p:grpSpPr>
          <p:pic>
            <p:nvPicPr>
              <p:cNvPr id="314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8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5438520" y="476280"/>
                <a:ext cx="36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Оценка эффективности на действующем предприяти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6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7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26BC-D62D-4408-A677-CC09DED75899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Схема 3" descr=""/>
          <p:cNvPicPr/>
          <p:nvPr/>
        </p:nvPicPr>
        <p:blipFill>
          <a:blip r:embed="rId5"/>
          <a:stretch/>
        </p:blipFill>
        <p:spPr>
          <a:xfrm>
            <a:off x="1474920" y="1914480"/>
            <a:ext cx="6194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9" name="Группа 11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20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1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2" name="TextBox 7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23" name="TextBox 7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оложение дел в отрасл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5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Номер слайда 9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5AAF-F8AA-4E0F-94A0-B11D871E1A8D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14" descr=""/>
          <p:cNvPicPr/>
          <p:nvPr/>
        </p:nvPicPr>
        <p:blipFill>
          <a:blip r:embed="rId5"/>
          <a:stretch/>
        </p:blipFill>
        <p:spPr>
          <a:xfrm>
            <a:off x="773280" y="1609560"/>
            <a:ext cx="4752720" cy="245916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2"/>
          <p:cNvSpPr/>
          <p:nvPr/>
        </p:nvSpPr>
        <p:spPr>
          <a:xfrm>
            <a:off x="5585400" y="2100240"/>
            <a:ext cx="1835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ос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рын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виаперевоз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Диаграмма 4" descr=""/>
          <p:cNvPicPr/>
          <p:nvPr/>
        </p:nvPicPr>
        <p:blipFill>
          <a:blip r:embed="rId6"/>
          <a:stretch/>
        </p:blipFill>
        <p:spPr>
          <a:xfrm>
            <a:off x="560520" y="4197240"/>
            <a:ext cx="76626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0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31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TextBox 10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34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5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Сущность проект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6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8A00-D8E2-40D0-92C2-2C4AFF81F02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11" descr="planprint"/>
          <p:cNvPicPr/>
          <p:nvPr/>
        </p:nvPicPr>
        <p:blipFill>
          <a:blip r:embed="rId5"/>
          <a:stretch/>
        </p:blipFill>
        <p:spPr>
          <a:xfrm>
            <a:off x="139680" y="1522440"/>
            <a:ext cx="3279960" cy="373536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2"/>
          <p:cNvSpPr/>
          <p:nvPr/>
        </p:nvSpPr>
        <p:spPr>
          <a:xfrm>
            <a:off x="0" y="5278320"/>
            <a:ext cx="867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– Слесарно-механический участ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 – Цех по ремонту и техобслуживанию планеров Boe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 – Цех ремонта агрегатов самолетов и двиг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 – Цех по ремонту и техобслуживанию планеров Airb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 – Механический це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 – Цех по ремонту и техобслуживанию планеров ТУ-204, ТУ-214, ИЛ-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 – Цех ремонта элементов план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нструируемый цех – Цех по ремонту и техобслуживанию планеров ТУ-154, ИЛ-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Рисунок 1" descr=""/>
          <p:cNvPicPr/>
          <p:nvPr/>
        </p:nvPicPr>
        <p:blipFill>
          <a:blip r:embed="rId6"/>
          <a:stretch/>
        </p:blipFill>
        <p:spPr>
          <a:xfrm>
            <a:off x="4583160" y="1522440"/>
            <a:ext cx="4421160" cy="3058920"/>
          </a:xfrm>
          <a:prstGeom prst="rect">
            <a:avLst/>
          </a:prstGeom>
          <a:ln w="0">
            <a:noFill/>
          </a:ln>
        </p:spPr>
      </p:pic>
      <p:sp>
        <p:nvSpPr>
          <p:cNvPr id="341" name="Прямоугольник 3"/>
          <p:cNvSpPr/>
          <p:nvPr/>
        </p:nvSpPr>
        <p:spPr>
          <a:xfrm>
            <a:off x="5395320" y="458136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нтр подготовки персо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43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4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5" name="TextBox 10"/>
            <p:cNvGrpSpPr/>
            <p:nvPr/>
          </p:nvGrpSpPr>
          <p:grpSpPr>
            <a:xfrm>
              <a:off x="5338440" y="316800"/>
              <a:ext cx="3805560" cy="871920"/>
              <a:chOff x="5338440" y="316800"/>
              <a:chExt cx="3805560" cy="871920"/>
            </a:xfrm>
          </p:grpSpPr>
          <p:pic>
            <p:nvPicPr>
              <p:cNvPr id="346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316800"/>
                <a:ext cx="3805560" cy="87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7" name=""/>
              <p:cNvSpPr/>
              <p:nvPr/>
            </p:nvSpPr>
            <p:spPr>
              <a:xfrm>
                <a:off x="5438520" y="374400"/>
                <a:ext cx="36507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Сценарная матрица стратегических действий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8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9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8DF4-D428-4F38-8364-0F15BB23B02F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Таблица 13" descr=""/>
          <p:cNvPicPr/>
          <p:nvPr/>
        </p:nvPicPr>
        <p:blipFill>
          <a:blip r:embed="rId5"/>
          <a:stretch/>
        </p:blipFill>
        <p:spPr>
          <a:xfrm>
            <a:off x="444600" y="1816200"/>
            <a:ext cx="81262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Группа 7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55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57" name="TextBox 10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58" name="TextBox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План маркетинг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60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1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2494-485B-431D-ADB4-2CCA9BFA8835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154080" y="2492280"/>
          <a:ext cx="4011480" cy="3627360"/>
        </p:xfrm>
        <a:graphic>
          <a:graphicData uri="http://schemas.openxmlformats.org/drawingml/2006/table">
            <a:tbl>
              <a:tblPr/>
              <a:tblGrid>
                <a:gridCol w="392040"/>
                <a:gridCol w="2603520"/>
                <a:gridCol w="1015920"/>
              </a:tblGrid>
              <a:tr h="1065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№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/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Авиакомпания-эксплуатан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Кол-во планер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Boeing 737 Next Gener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Москва» («Moscow Airlines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Оренбургские авиалинии» («Orenair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Якутия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 («Yakutia Airlines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ибир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 («S7 Airlines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Трансаэро» (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Transaer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20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Аэросвит» (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Aerosvit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Газпромавиа» («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Gazpromavia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</a:tbl>
          </a:graphicData>
        </a:graphic>
      </p:graphicFrame>
      <p:sp>
        <p:nvSpPr>
          <p:cNvPr id="363" name="Rectangle 11"/>
          <p:cNvSpPr/>
          <p:nvPr/>
        </p:nvSpPr>
        <p:spPr>
          <a:xfrm>
            <a:off x="128520" y="17614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Целевая аудитория ТОи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Boeing 737 Next Gener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Схема 6" descr=""/>
          <p:cNvPicPr/>
          <p:nvPr/>
        </p:nvPicPr>
        <p:blipFill>
          <a:blip r:embed="rId5"/>
          <a:stretch/>
        </p:blipFill>
        <p:spPr>
          <a:xfrm>
            <a:off x="4468680" y="1341360"/>
            <a:ext cx="4523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Группа 8"/>
          <p:cNvGrpSpPr/>
          <p:nvPr/>
        </p:nvGrpSpPr>
        <p:grpSpPr>
          <a:xfrm>
            <a:off x="0" y="0"/>
            <a:ext cx="9144000" cy="1413000"/>
            <a:chOff x="0" y="0"/>
            <a:chExt cx="9144000" cy="1413000"/>
          </a:xfrm>
        </p:grpSpPr>
        <p:pic>
          <p:nvPicPr>
            <p:cNvPr id="366" name="Picture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896120" cy="141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3" descr=""/>
            <p:cNvPicPr/>
            <p:nvPr/>
          </p:nvPicPr>
          <p:blipFill>
            <a:blip r:embed="rId2"/>
            <a:stretch/>
          </p:blipFill>
          <p:spPr>
            <a:xfrm>
              <a:off x="1896120" y="0"/>
              <a:ext cx="7193160" cy="141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8" name="TextBox 11"/>
            <p:cNvGrpSpPr/>
            <p:nvPr/>
          </p:nvGrpSpPr>
          <p:grpSpPr>
            <a:xfrm>
              <a:off x="5338440" y="420480"/>
              <a:ext cx="3805560" cy="597600"/>
              <a:chOff x="5338440" y="420480"/>
              <a:chExt cx="3805560" cy="597600"/>
            </a:xfrm>
          </p:grpSpPr>
          <p:pic>
            <p:nvPicPr>
              <p:cNvPr id="369" name="TextBox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5338440" y="420480"/>
                <a:ext cx="3805560" cy="59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0" name=""/>
              <p:cNvSpPr/>
              <p:nvPr/>
            </p:nvSpPr>
            <p:spPr>
              <a:xfrm>
                <a:off x="5438520" y="476280"/>
                <a:ext cx="365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Corbel"/>
                  </a:rPr>
                  <a:t>Финансовый план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71" name="Picture 4" descr=""/>
            <p:cNvPicPr/>
            <p:nvPr/>
          </p:nvPicPr>
          <p:blipFill>
            <a:blip r:embed="rId4"/>
            <a:stretch/>
          </p:blipFill>
          <p:spPr>
            <a:xfrm>
              <a:off x="3757320" y="41040"/>
              <a:ext cx="1420200" cy="13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2" name="Номер слайда 1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2F19-8A41-481B-918A-0A397BA5AB2B}" type="slidenum">
              <a:rPr b="0" lang="ru-RU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оугольник 5"/>
          <p:cNvSpPr/>
          <p:nvPr/>
        </p:nvSpPr>
        <p:spPr>
          <a:xfrm>
            <a:off x="187560" y="1486080"/>
            <a:ext cx="30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чет процентов по кредиту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4" name=""/>
          <p:cNvGraphicFramePr/>
          <p:nvPr/>
        </p:nvGraphicFramePr>
        <p:xfrm>
          <a:off x="185760" y="1824120"/>
          <a:ext cx="7710480" cy="1055520"/>
        </p:xfrm>
        <a:graphic>
          <a:graphicData uri="http://schemas.openxmlformats.org/drawingml/2006/table">
            <a:tbl>
              <a:tblPr/>
              <a:tblGrid>
                <a:gridCol w="652320"/>
                <a:gridCol w="1513080"/>
                <a:gridCol w="1008000"/>
                <a:gridCol w="1440000"/>
                <a:gridCol w="1635120"/>
                <a:gridCol w="1461960"/>
              </a:tblGrid>
              <a:tr h="365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лг на начало, руб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Аннуите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% погашенны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редит погаше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олг на конец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83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2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11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 880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 880 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83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18 4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321 24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59 0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59 0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839 6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0 6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59 0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 519 0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 000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206280" y="3376440"/>
          <a:ext cx="7101000" cy="3365640"/>
        </p:xfrm>
        <a:graphic>
          <a:graphicData uri="http://schemas.openxmlformats.org/drawingml/2006/table">
            <a:tbl>
              <a:tblPr/>
              <a:tblGrid>
                <a:gridCol w="2365560"/>
                <a:gridCol w="966600"/>
                <a:gridCol w="908280"/>
                <a:gridCol w="893520"/>
                <a:gridCol w="982800"/>
                <a:gridCol w="984240"/>
              </a:tblGrid>
              <a:tr h="1836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 gridSpan="5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Г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35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нвестицион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2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4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2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перационная деятельность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8 615 7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2 022 4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3 456 8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6 887 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6 887 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ыруч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8 292 0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58 765 6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7 501 8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5 378 3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75 378 3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Операционные расх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4 296 3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85 982 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90 917 8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4 904 6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04 904 6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лог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5 379 9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0 761 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3 127 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3 586 7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3 586 7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Финансовая деятельность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 160 3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1 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1 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бственные 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281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емные средств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 0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озврат креди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 839 6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 том числе процент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72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51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0 6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18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енежный поток за период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8 615 7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2 022 4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41 617 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5 047 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5 047 3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сконтированный денежный поток за период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31 913 8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8 701 9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23 491 8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6 349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13 512 2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57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Дисконтный множитель при ставке дисконтирования 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6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5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4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0,3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376" name="Прямоугольник 13"/>
          <p:cNvSpPr/>
          <p:nvPr/>
        </p:nvSpPr>
        <p:spPr>
          <a:xfrm>
            <a:off x="179280" y="2997360"/>
            <a:ext cx="32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нежные потоки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22:32:01Z</dcterms:created>
  <dc:creator>User</dc:creator>
  <dc:description/>
  <dc:language>en-US</dc:language>
  <cp:lastModifiedBy>Гончарова Анастасия Вячеславовна</cp:lastModifiedBy>
  <dcterms:modified xsi:type="dcterms:W3CDTF">2011-05-31T11:08:34Z</dcterms:modified>
  <cp:revision>59</cp:revision>
  <dc:subject/>
  <dc:title>Итоговое совещание Совета УМО</dc:title>
</cp:coreProperties>
</file>