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7970-8AED-46DC-9A5A-75EBA662D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E289-8FD0-4CF3-98E9-B37EE69DD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058D-70AF-405D-8E99-7C78BFC44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7E6F-EFA8-4C6B-A0F5-B1178BD8C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E86B-189B-4E2C-BFA9-163E75C53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8CF0-4F5E-40D0-9A60-4D0BE4631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1047-E028-46EB-B2E2-2681F9188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1A06-75B5-4EAF-9797-6A679DA50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B06E-D9F2-4536-9BF6-A7B0DC55D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630B-5E24-4BE7-B9DD-AAB8E906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BD91-A21C-44C9-ABD5-A95CE767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A40C-6445-4104-8410-50F70504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1A2CB-81B7-4A4E-878A-1150A22ACC4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2362320"/>
            <a:ext cx="711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ЕКТ СТРУКТУРИРОВАННОЙ КАБЕЛЬНОЙ СИСТЕМЫ ДЛЯ ЗДАНИЯ ГАЗОПРОМЫСЛОВОГО УПРАВЛЕНИЯ В ПОСЕЛК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ГОД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33520" y="3049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положение системы охранной сигнализации на пятом этаж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7600" y="380880"/>
            <a:ext cx="79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положение системы видеонаблюдения на первом этаж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33520" y="3049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положение системы контроля доступа в вестибюле первого этаж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zd" descr=""/>
          <p:cNvPicPr/>
          <p:nvPr/>
        </p:nvPicPr>
        <p:blipFill>
          <a:blip r:embed="rId1"/>
          <a:stretch/>
        </p:blipFill>
        <p:spPr>
          <a:xfrm>
            <a:off x="2325600" y="304920"/>
            <a:ext cx="431964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762120"/>
            <a:ext cx="815328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обходимые системы современного офисного зда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фонная (городская и местная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ная (ЛВ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видения (городского и офисного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арной сигнализации и пожаротуш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ранной сигнализации 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иде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иторинга климатических условий и управления и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я доступа персона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191120" y="914400"/>
          <a:ext cx="439092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914400"/>
                    <a:ext cx="43909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609480" y="838080"/>
            <a:ext cx="3886200" cy="27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кциональные элементы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й Распределительный Пункт (ГРП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истральный кабель территор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еделительный Пункт Здания (РПЗ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истральный кабель зда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еделительный Пункт Этажа (РПЭ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изонтальный кабел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а перехода (ТП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коммуникационный Разъем (ТР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228600"/>
            <a:ext cx="6096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которые требования к 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кту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К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76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имущества структурированных кабельных систе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1828800"/>
            <a:ext cx="8001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версальнос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со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даптив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пособнос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боль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исленность обслуживающего персонал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со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кономичност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zd1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3343320" cy="48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00400" y="2286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СК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143000" y="1066680"/>
          <a:ext cx="3343320" cy="481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066680"/>
                    <a:ext cx="3343320" cy="481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152280" y="8380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ппарат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1371600"/>
            <a:ext cx="53316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0" y="990720"/>
          <a:ext cx="4264200" cy="510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990720"/>
                    <a:ext cx="426420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143000" y="1066680"/>
          <a:ext cx="3343320" cy="481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066680"/>
                    <a:ext cx="3343320" cy="481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3200400" y="2286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СК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480060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сточник стабилизированного пит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29718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сточник бесперебойного пит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590560" y="3505320"/>
            <a:ext cx="24382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743200" y="54100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zd3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3343320" cy="4810320"/>
          </a:xfrm>
          <a:prstGeom prst="rect">
            <a:avLst/>
          </a:prstGeom>
          <a:ln w="0">
            <a:noFill/>
          </a:ln>
        </p:spPr>
      </p:pic>
      <p:pic>
        <p:nvPicPr>
          <p:cNvPr id="65" name="p4_9" descr="p4_9.gif (26308 bytes)"/>
          <p:cNvPicPr/>
          <p:nvPr/>
        </p:nvPicPr>
        <p:blipFill>
          <a:blip r:embed="rId2"/>
          <a:stretch/>
        </p:blipFill>
        <p:spPr>
          <a:xfrm>
            <a:off x="5257800" y="2362320"/>
            <a:ext cx="2666880" cy="1960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H="1">
            <a:off x="4186080" y="2176560"/>
            <a:ext cx="91440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191120" y="2176560"/>
            <a:ext cx="909360" cy="1252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186080" y="2176560"/>
            <a:ext cx="914400" cy="76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2286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СК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05520" y="19051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бочее мес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5320" y="5943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Т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1752120" y="5638680"/>
            <a:ext cx="175284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1447920" y="1295280"/>
          <a:ext cx="627696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295280"/>
                    <a:ext cx="627696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1219320" y="4572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пределение оборудования СКС на пятом этаж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1T02:20:19Z</dcterms:created>
  <dc:creator>Dzen</dc:creator>
  <dc:description/>
  <dc:language>en-US</dc:language>
  <cp:lastModifiedBy>Dzen</cp:lastModifiedBy>
  <dcterms:modified xsi:type="dcterms:W3CDTF">2003-07-05T12:41:43Z</dcterms:modified>
  <cp:revision>49</cp:revision>
  <dc:subject/>
  <dc:title>Презентация PowerPoint</dc:title>
</cp:coreProperties>
</file>