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D5A1A-9892-404D-A116-2E1EB7ADC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6A188-57DE-4915-A43A-17B05262C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B1882-5BD5-4AEB-9AD3-B7FCE61D6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51B06-C88E-4802-94F5-5508BEAC2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D2AA2-3020-4748-9A00-723CF677C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C2F0E-285C-41C6-999A-1580FC898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50B53-EBD7-4A3A-9589-F362C5144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BBA39-24C7-425A-ABDD-992A93C66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A9502-185E-4F4A-8F19-F48F87C33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FF760-CB84-4F98-B862-7B4BF2A53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B2CB5-B7C1-434D-AEBB-6D0F32C91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C3B49-768C-42D3-9833-56A2890F9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62E9C-B540-4D34-BA47-4BD14E59C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7DA75-80CB-4107-ADFA-6301E0016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242BD-0895-4EFD-A7D9-7DC54F08E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C2E15-0A1A-421A-A2F9-B05A9D57E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46F77-1C60-4CFA-A02F-722FBF9B7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B0FB5-8771-46A2-A652-F906A4A73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068B-A99D-4AED-9DF5-32DCCAA1B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A0E00-020C-4A33-BC66-52FC0C5A3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59ADA-F30C-44B0-8CB2-8B0C49CB1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2B9A-77C2-40BF-8437-623BB2989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91636-C246-4866-A9B0-A82A6EFBD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79D49-B4B0-4609-A497-CE7DAA4AF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096F-50F9-4123-BA42-20BD02C9494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FD5C-7D96-4CC1-B1A0-5B99354AE92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Реферат</a:t>
            </a:r>
            <a:endParaRPr b="0" lang="en-US" sz="2800" spc="-1" strike="noStrike">
              <a:solidFill>
                <a:srgbClr val="ffcc00"/>
              </a:solidFill>
              <a:latin typeface="Arial Black"/>
            </a:endParaRPr>
          </a:p>
        </p:txBody>
      </p:sp>
      <p:sp>
        <p:nvSpPr>
          <p:cNvPr id="141" name=""/>
          <p:cNvSpPr/>
          <p:nvPr/>
        </p:nvSpPr>
        <p:spPr>
          <a:xfrm>
            <a:off x="533520" y="914400"/>
            <a:ext cx="8420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 дисциплине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Цифровые сети интегрального обслуживания»</a:t>
            </a:r>
            <a:endParaRPr b="0" lang="en-US" sz="2400" spc="-1" strike="noStrike">
              <a:solidFill>
                <a:srgbClr val="ffffff"/>
              </a:solidFill>
              <a:latin typeface="Times New Roman"/>
            </a:endParaRPr>
          </a:p>
        </p:txBody>
      </p:sp>
      <p:sp>
        <p:nvSpPr>
          <p:cNvPr id="142" name=""/>
          <p:cNvSpPr/>
          <p:nvPr/>
        </p:nvSpPr>
        <p:spPr>
          <a:xfrm>
            <a:off x="1981080" y="2590920"/>
            <a:ext cx="5181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АТМ Интерфейсы</a:t>
            </a:r>
            <a:endParaRPr b="0" lang="en-US" sz="4800" spc="-1" strike="noStrike">
              <a:solidFill>
                <a:srgbClr val="ffffff"/>
              </a:solidFill>
              <a:latin typeface="Times New Roman"/>
            </a:endParaRPr>
          </a:p>
        </p:txBody>
      </p:sp>
      <p:sp>
        <p:nvSpPr>
          <p:cNvPr id="143" name=""/>
          <p:cNvSpPr/>
          <p:nvPr/>
        </p:nvSpPr>
        <p:spPr>
          <a:xfrm>
            <a:off x="6324480" y="3886200"/>
            <a:ext cx="259092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ыполнил: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т.гр.ДИС-51</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ашкин А. С.</a:t>
            </a:r>
            <a:endParaRPr b="0" lang="en-US" sz="2800" spc="-1" strike="noStrike">
              <a:solidFill>
                <a:srgbClr val="ffffff"/>
              </a:solidFill>
              <a:latin typeface="Times New Roman"/>
            </a:endParaRPr>
          </a:p>
        </p:txBody>
      </p:sp>
      <p:sp>
        <p:nvSpPr>
          <p:cNvPr id="144" name=""/>
          <p:cNvSpPr/>
          <p:nvPr/>
        </p:nvSpPr>
        <p:spPr>
          <a:xfrm>
            <a:off x="3505320" y="5715000"/>
            <a:ext cx="232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Астрахань,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Times New Roman"/>
              </a:rPr>
              <a:t>Private Network to Network Interface (PNNI)</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7" name=""/>
          <p:cNvSpPr/>
          <p:nvPr/>
        </p:nvSpPr>
        <p:spPr>
          <a:xfrm>
            <a:off x="304920" y="609480"/>
            <a:ext cx="8610480" cy="3911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ное назначение PNNI - это сбор, обновление и синхронизация информации о топологии сети АТМ и адресах конечных узлов АТМ в сети. Эта информация называется маршрутной информацией и ее можно разделить на два типа: топологическая информация или база данных и информация о достижимости конкретных адресов в сети, т.е. информация о маршрутах до конечных узлов сети. Именно поддержкой этих двух типов информации и занимается PNNI в сети АТ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Кроме того, необходимо отметить, что PNNI призван минимизировать маршрутную информацию, хранящуюся в узлах сети. Эта функция PNNI достаточно важна в больших сетях АТМ с большим количеством узлов. Если проводить аналогию с сетями, построенными на базе обычных маршрутизаторов, PNNI функционально аналогичен протоколу OSPF.</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8" name=""/>
          <p:cNvSpPr/>
          <p:nvPr/>
        </p:nvSpPr>
        <p:spPr>
          <a:xfrm>
            <a:off x="380880" y="4495680"/>
            <a:ext cx="8077320" cy="2189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сновные функции PNNI:</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это - протокол маршрутизации в сетях АТ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создание и поддержание топологических баз данных</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минимизация топологичекой информации на каждом узле сети</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обобщение информации о состоянии топологии сети</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построение маршрутной иерархии сети АТМ</a:t>
            </a: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7520"/>
            <a:ext cx="91440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Times New Roman"/>
              </a:rPr>
              <a:t>Организации по стандартизации ATM</a:t>
            </a:r>
            <a:endParaRPr b="0" lang="en-US" sz="4000" spc="-1" strike="noStrike">
              <a:solidFill>
                <a:srgbClr val="ffcc00"/>
              </a:solidFill>
              <a:latin typeface="Arial Black"/>
            </a:endParaRPr>
          </a:p>
        </p:txBody>
      </p:sp>
      <p:sp>
        <p:nvSpPr>
          <p:cNvPr id="180" name=""/>
          <p:cNvSpPr/>
          <p:nvPr/>
        </p:nvSpPr>
        <p:spPr>
          <a:xfrm>
            <a:off x="0" y="99072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формировании стандартов ATM участвует много организаций. Ниже указаны наиболее влиятельные из них, а также разработанные ими основные стандарты:</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81" name=""/>
          <p:cNvSpPr/>
          <p:nvPr/>
        </p:nvSpPr>
        <p:spPr>
          <a:xfrm>
            <a:off x="0" y="1676520"/>
            <a:ext cx="9144000" cy="2448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ANSI, ITU-T </a:t>
            </a:r>
            <a:r>
              <a:rPr b="0" lang="ru-RU" sz="2400" spc="-1" strike="noStrike" u="sng">
                <a:solidFill>
                  <a:srgbClr val="ffffff"/>
                </a:solidFill>
                <a:uFillTx/>
                <a:latin typeface="Times New Roman"/>
                <a:ea typeface="Times New Roman"/>
              </a:rPr>
              <a:t>и</a:t>
            </a:r>
            <a:r>
              <a:rPr b="0" lang="en-US" sz="2400" spc="-1" strike="noStrike" u="sng">
                <a:solidFill>
                  <a:srgbClr val="ffffff"/>
                </a:solidFill>
                <a:uFillTx/>
                <a:latin typeface="Times New Roman"/>
                <a:ea typeface="Times New Roman"/>
              </a:rPr>
              <a:t> ITU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Американский национальный институт стандартов (ANSI) и Международный консультативный комитет по телефонии и телеграфии (CCITT, МККТТ) начинали разработку стандартов ATM как набора рекомендаций для сети B-ISDN (Broadband Integrated Services Digital Network). ITU теперь называется Международным союзом электросвязи (International Telecommunications Union - ITU). </a:t>
            </a:r>
            <a:endParaRPr b="0" lang="en-US" sz="2000" spc="-1" strike="noStrike">
              <a:solidFill>
                <a:srgbClr val="ffffff"/>
              </a:solidFill>
              <a:latin typeface="Times New Roman"/>
            </a:endParaRPr>
          </a:p>
        </p:txBody>
      </p:sp>
      <p:sp>
        <p:nvSpPr>
          <p:cNvPr id="182" name=""/>
          <p:cNvSpPr/>
          <p:nvPr/>
        </p:nvSpPr>
        <p:spPr>
          <a:xfrm>
            <a:off x="0" y="4114800"/>
            <a:ext cx="9144000" cy="1838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ea typeface="Times New Roman"/>
              </a:rPr>
              <a:t>ATM FORUM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консорциум производителей оборудования ATM, приспособил и расширил стандарты B-ISDN, с тем чтобы создать отраслевые стандарты, которые дают возможность продуктам ATM взаимодействовать с оборудованием традиционных локальных сетей.</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1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Заключение</a:t>
            </a:r>
            <a:endParaRPr b="0" lang="en-US" sz="4000" spc="-1" strike="noStrike">
              <a:solidFill>
                <a:srgbClr val="ffcc00"/>
              </a:solidFill>
              <a:latin typeface="Arial Black"/>
            </a:endParaRPr>
          </a:p>
        </p:txBody>
      </p:sp>
      <p:sp>
        <p:nvSpPr>
          <p:cNvPr id="184" name=""/>
          <p:cNvSpPr/>
          <p:nvPr/>
        </p:nvSpPr>
        <p:spPr>
          <a:xfrm>
            <a:off x="0" y="609480"/>
            <a:ext cx="9144000" cy="5289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Рассмотрев два стандарта АТМ, относящиеся к межсетевому взаимодействию сетей АТМ, хотелось бы отметить, что данные стандарты отработаны АТМ Форумом в течении нескольких лет как теоретически, так и практически на конкретных сетях АТМ. Поэтому они позволяют уже сейчас организовывать взаимодействие между различными сетями АТМ, как публичными, так и частны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Описанные стандарты сейчас продолжают развиваться АТМ Форумом. Так, например, рассматривается вопрос о введении следующих новых интерфейсов</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ежду публичной и частной сетью (вместо существующего Public UN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публичными сетями для случая, если одна из этих сетей не поддерживает сигналинга B-IC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частными сетями для случаев, когда нет необходимости обмена топологическими базами данных между ни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Таким образом, сейчас мы имеем работоспособные версии стандартов межсетевого взаимодействия, которые уже имеют свои реализации в "железе". Однако, АТМ Форум не останавливается на достигнутом и продолжает развивать и совершенствовать эти стандарты, учитывая практический опыт их применения.</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Введение</a:t>
            </a:r>
            <a:endParaRPr b="0" lang="en-US" sz="4400" spc="-1" strike="noStrike">
              <a:solidFill>
                <a:srgbClr val="ffcc00"/>
              </a:solidFill>
              <a:latin typeface="Arial Black"/>
            </a:endParaRPr>
          </a:p>
        </p:txBody>
      </p:sp>
      <p:sp>
        <p:nvSpPr>
          <p:cNvPr id="146" name=""/>
          <p:cNvSpPr/>
          <p:nvPr/>
        </p:nvSpPr>
        <p:spPr>
          <a:xfrm>
            <a:off x="228600" y="685800"/>
            <a:ext cx="8610480" cy="4521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последнее десятилетие технологии передачи данных в компьютерных сетях претерпели очень большие изменения. Первоначально высокоскоростные центральные магистрали предназначались только для передачи информации между основными серверами. Сейчас это оборудование обладает не только высокой скоростью передачи данных, но имеет множество настраиваемых параметров и дает возможность гибко управлять ресурсами сети. Оно стало наиболее сложной и важной ее частью. Низкоскоростные системы, например на основе стандарта 10Base-T, не только тормозят рост сети в целом, снижают общую производительность, но и ограничивают использование новых приложений. С другой стороны, современное оборудование обеспечивает высокую скорость передачи данных, надежность и предусматривает возможности дальнейшего роста и развит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
          <p:cNvSpPr/>
          <p:nvPr/>
        </p:nvSpPr>
        <p:spPr>
          <a:xfrm>
            <a:off x="304920" y="4724280"/>
            <a:ext cx="853416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Центральные магистрали передачи данных должны удовлетворять двум главным критерия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Первый - возможность подключения большого количества низкоскоростных клиентов к небольшому количеству мощных, высокоскоростных серверов.</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Второй - приемлемая скорость отклика на запросы клиентов.</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Модель </a:t>
            </a:r>
            <a:r>
              <a:rPr b="0" lang="en-US" sz="4400" spc="-1" strike="noStrike">
                <a:solidFill>
                  <a:srgbClr val="ffcc00"/>
                </a:solidFill>
                <a:latin typeface="Arial Black"/>
              </a:rPr>
              <a:t>STM</a:t>
            </a:r>
            <a:endParaRPr b="0" lang="en-US" sz="4400" spc="-1" strike="noStrike">
              <a:solidFill>
                <a:srgbClr val="ffcc00"/>
              </a:solidFill>
              <a:latin typeface="Arial Black"/>
            </a:endParaRPr>
          </a:p>
        </p:txBody>
      </p:sp>
      <p:sp>
        <p:nvSpPr>
          <p:cNvPr id="149" name=""/>
          <p:cNvSpPr/>
          <p:nvPr/>
        </p:nvSpPr>
        <p:spPr>
          <a:xfrm>
            <a:off x="0" y="990720"/>
            <a:ext cx="89154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ATM является развитием STM (Synchronous Transfer Mode), технологии передачи пакетных данных и речи на большие расстояния, традиционно используемой для построения телекоммуникационных магистралей и телефонной сети. STM представляет собой сетевой механизм с коммутацией соединений, где соединение устанавливается прежде, чем начнется передача данных, и разрывается после ее окончания.</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0" name=""/>
          <p:cNvSpPr/>
          <p:nvPr/>
        </p:nvSpPr>
        <p:spPr>
          <a:xfrm>
            <a:off x="304920" y="3886200"/>
            <a:ext cx="8839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аким образом, взаимодействующие узлы захватывают и удерживают канал, пока не сочтут необходимым рассоединиться, независимо от того, передают они данные или "молчат". Данные в STM передаются посредством разделения всей полосы канала на базовые трансмиссионные элементы, называемые временными каналами или слотами.</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Переход на АТМ</a:t>
            </a:r>
            <a:endParaRPr b="0" lang="en-US" sz="4400" spc="-1" strike="noStrike">
              <a:solidFill>
                <a:srgbClr val="ffcc00"/>
              </a:solidFill>
              <a:latin typeface="Arial Black"/>
            </a:endParaRPr>
          </a:p>
        </p:txBody>
      </p:sp>
      <p:sp>
        <p:nvSpPr>
          <p:cNvPr id="152" name=""/>
          <p:cNvSpPr/>
          <p:nvPr/>
        </p:nvSpPr>
        <p:spPr>
          <a:xfrm>
            <a:off x="0" y="838080"/>
            <a:ext cx="8991720" cy="2704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современных коммуникациях можно выделить два типа запросов:</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критичные к задержкам (например, сигналы телевидения высокой четкости и звуковая информация);</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ередача данных, не очень критичных к задержкам, но не допускающих потерь информации (этот тип передачи, как правило, относится к межкомпьютерным обмена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304920" y="3200400"/>
            <a:ext cx="853416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Модель ATM была взята на вооружение одновременно AT&amp;T и несколькими европейскими телефонными гигантами. (Кстати, это может привести к появлению сразу двух стандартов на спецификацию ATM.) Главная идея заключалась в том, что необходимости в жестком соответствии соединения и номера слота нет. Достаточно передавать идентификатор соединения вместе с данными на любой свободный слот, сделав при этом пакет настолько маленьким, чтобы в случае потери утрата легко восполнялась бы. Короткие пакеты весьма привлекательны для телефонных компаний, стремящихся сохранить аналоговые линии S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Основные концепции АТМ. </a:t>
            </a:r>
            <a:endParaRPr b="0" lang="en-US" sz="3200" spc="-1" strike="noStrike">
              <a:solidFill>
                <a:srgbClr val="ffcc00"/>
              </a:solidFill>
              <a:latin typeface="Arial Black"/>
            </a:endParaRPr>
          </a:p>
        </p:txBody>
      </p:sp>
      <p:sp>
        <p:nvSpPr>
          <p:cNvPr id="155" name=""/>
          <p:cNvSpPr/>
          <p:nvPr/>
        </p:nvSpPr>
        <p:spPr>
          <a:xfrm>
            <a:off x="152280" y="533520"/>
            <a:ext cx="899172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Сети с трансляцией ячеек.</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Идея сети с трансляцией ячеек проста: данные передаются по сети небольшими пакетами фиксированного размера, называемыми ячейками (cells). В сети Ethernet передача данных осуществляется большими пакетами переменной длины, которые называют кадрами (frames).</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152280" y="2286000"/>
            <a:ext cx="899172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Сети с установлением соединен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Для передачи пакетов по сетям ATM от источника к месту назначения источник должен сначала установить соединение с получателем. Установление соединения перед передачей пакетов очень напоминает то, как осуществляется телефонный звонок: сначала вы набираете номер, телефон абонента звонит, и кто-то снимает трубку - только после этого вы можете начать говорить.</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7" name=""/>
          <p:cNvSpPr/>
          <p:nvPr/>
        </p:nvSpPr>
        <p:spPr>
          <a:xfrm>
            <a:off x="380880" y="4343400"/>
            <a:ext cx="838224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ea typeface="Times New Roman"/>
              </a:rPr>
              <a:t>Коммутируемые сет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В сети ATM все устройства, такие как рабочие станции, серверы, маршрутизаторы и мосты, подсоединены непосредственно к коммутатору. Когда одно устройство запрашивает соединение с другим, коммутаторы, к которым они подключены, устанавливают соединение. При установлении соединения коммутаторы определяют оптимальный маршрут для передачи данных - традиционно эта функция выполняется маршрутизаторам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Архитектура АТМ.</a:t>
            </a:r>
            <a:endParaRPr b="0" lang="en-US" sz="3200" spc="-1" strike="noStrike">
              <a:solidFill>
                <a:srgbClr val="ffcc00"/>
              </a:solidFill>
              <a:latin typeface="Arial Black"/>
            </a:endParaRPr>
          </a:p>
        </p:txBody>
      </p:sp>
      <p:sp>
        <p:nvSpPr>
          <p:cNvPr id="159" name=""/>
          <p:cNvSpPr/>
          <p:nvPr/>
        </p:nvSpPr>
        <p:spPr>
          <a:xfrm>
            <a:off x="305280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0" name="image1" descr=""/>
          <p:cNvPicPr/>
          <p:nvPr/>
        </p:nvPicPr>
        <p:blipFill>
          <a:blip r:embed="rId1"/>
          <a:stretch/>
        </p:blipFill>
        <p:spPr>
          <a:xfrm>
            <a:off x="533520" y="685800"/>
            <a:ext cx="3038400" cy="3591000"/>
          </a:xfrm>
          <a:prstGeom prst="rect">
            <a:avLst/>
          </a:prstGeom>
          <a:ln w="0">
            <a:noFill/>
          </a:ln>
        </p:spPr>
      </p:pic>
      <p:sp>
        <p:nvSpPr>
          <p:cNvPr id="161" name=""/>
          <p:cNvSpPr/>
          <p:nvPr/>
        </p:nvSpPr>
        <p:spPr>
          <a:xfrm>
            <a:off x="3657600" y="990720"/>
            <a:ext cx="5257800" cy="2997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Эталонная модель протоколов АТМ.</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есто ATM в семиуровневой модели O</a:t>
            </a:r>
            <a:r>
              <a:rPr b="0" lang="en-US" sz="2000" spc="-1" strike="noStrike">
                <a:solidFill>
                  <a:srgbClr val="ffffff"/>
                </a:solidFill>
                <a:latin typeface="Times New Roman"/>
                <a:ea typeface="Times New Roman"/>
              </a:rPr>
              <a:t>SI</a:t>
            </a:r>
            <a:r>
              <a:rPr b="0" lang="ru-RU" sz="2000" spc="-1" strike="noStrike">
                <a:solidFill>
                  <a:srgbClr val="ffffff"/>
                </a:solidFill>
                <a:latin typeface="Times New Roman"/>
                <a:ea typeface="Times New Roman"/>
              </a:rPr>
              <a:t> - где-то в районе уровня передачи данных. Правда, установить точное соответствие нельзя, поскольку ATM сама занимается взаимодействием узлов, контролем прохождения и маршрутизацией, причем осуществляется это на уровне подготовки и передачи пакетов ATM.</a:t>
            </a:r>
            <a:endParaRPr b="0" lang="en-US" sz="2000" spc="-1" strike="noStrike">
              <a:solidFill>
                <a:srgbClr val="ffffff"/>
              </a:solidFill>
              <a:latin typeface="Times New Roman"/>
            </a:endParaRPr>
          </a:p>
        </p:txBody>
      </p:sp>
      <p:sp>
        <p:nvSpPr>
          <p:cNvPr id="162" name=""/>
          <p:cNvSpPr/>
          <p:nvPr/>
        </p:nvSpPr>
        <p:spPr>
          <a:xfrm>
            <a:off x="533520" y="4343400"/>
            <a:ext cx="83818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одель протоколов АТМ как и многоуровневая модель протоколов OSI, описывает взаимодействие двух компьютеров в сети, процедуры связи двух оконечных систем посредством АТМ - коммутаторов. Ключевыми уровнями в данной модели являются физический уровень (PL - Physical Layer), уровень АТМ (ATM Layer) и уровень адаптации АТМ (AAL - ATM Adaptation Lay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Стандарты Модели ATM</a:t>
            </a:r>
            <a:endParaRPr b="0" lang="en-US" sz="3600" spc="-1" strike="noStrike">
              <a:solidFill>
                <a:srgbClr val="ffcc00"/>
              </a:solidFill>
              <a:latin typeface="Arial Black"/>
            </a:endParaRPr>
          </a:p>
        </p:txBody>
      </p:sp>
      <p:sp>
        <p:nvSpPr>
          <p:cNvPr id="164" name=""/>
          <p:cNvSpPr/>
          <p:nvPr/>
        </p:nvSpPr>
        <p:spPr>
          <a:xfrm>
            <a:off x="228600" y="685800"/>
            <a:ext cx="876312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разработал много стандартов, основанных на модели ATM, в том числе следующие:</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User-to-Network Interface (UNI - интерфейс "пользователь-сеть") определяет интерфейс между конечной станцией и коммутатором;</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Private Network-to-Network Interface (PNNI - частный интерфейс "сеть-сеть") определяет интерфейс между коммутаторами. </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Эти стандарты определяют, как рабочие станции и коммутаторы взаимодействуют в сети ATM.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
          <p:cNvSpPr/>
          <p:nvPr/>
        </p:nvSpPr>
        <p:spPr>
          <a:xfrm>
            <a:off x="2238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6" name="image5" descr=""/>
          <p:cNvPicPr/>
          <p:nvPr/>
        </p:nvPicPr>
        <p:blipFill>
          <a:blip r:embed="rId1"/>
          <a:stretch/>
        </p:blipFill>
        <p:spPr>
          <a:xfrm>
            <a:off x="533520" y="3733920"/>
            <a:ext cx="4667040" cy="2657520"/>
          </a:xfrm>
          <a:prstGeom prst="rect">
            <a:avLst/>
          </a:prstGeom>
          <a:ln w="0">
            <a:noFill/>
          </a:ln>
        </p:spPr>
      </p:pic>
      <p:sp>
        <p:nvSpPr>
          <p:cNvPr id="167" name=""/>
          <p:cNvSpPr/>
          <p:nvPr/>
        </p:nvSpPr>
        <p:spPr>
          <a:xfrm>
            <a:off x="5334120" y="3657600"/>
            <a:ext cx="3657600" cy="243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начала пользователь посылает данные, например аудио-, видеоинформацию и т.д. В соответствии с типом данных какой-либо из четырех протоколов AAL получает эти данные и разбивает их на ячейки. Затем ячейки передаются на уровень ATM, который добавляет к ним информацию, необходимую для маршрутизации. Потом ячейки передаются на физический уровень, разбивающий их на биты и посылающий через среду передачи коммутатору.</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Интерфейсы сетей АТМ</a:t>
            </a:r>
            <a:endParaRPr b="0" lang="en-US" sz="3600" spc="-1" strike="noStrike">
              <a:solidFill>
                <a:srgbClr val="ffcc00"/>
              </a:solidFill>
              <a:latin typeface="Arial Black"/>
            </a:endParaRPr>
          </a:p>
        </p:txBody>
      </p:sp>
      <p:sp>
        <p:nvSpPr>
          <p:cNvPr id="169" name=""/>
          <p:cNvSpPr/>
          <p:nvPr/>
        </p:nvSpPr>
        <p:spPr>
          <a:xfrm>
            <a:off x="216216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0" name="image10" descr=""/>
          <p:cNvPicPr/>
          <p:nvPr/>
        </p:nvPicPr>
        <p:blipFill>
          <a:blip r:embed="rId1"/>
          <a:stretch/>
        </p:blipFill>
        <p:spPr>
          <a:xfrm>
            <a:off x="152280" y="685800"/>
            <a:ext cx="4819680" cy="3191040"/>
          </a:xfrm>
          <a:prstGeom prst="rect">
            <a:avLst/>
          </a:prstGeom>
          <a:ln w="0">
            <a:noFill/>
          </a:ln>
        </p:spPr>
      </p:pic>
      <p:sp>
        <p:nvSpPr>
          <p:cNvPr id="171" name=""/>
          <p:cNvSpPr/>
          <p:nvPr/>
        </p:nvSpPr>
        <p:spPr>
          <a:xfrm>
            <a:off x="5105520" y="685800"/>
            <a:ext cx="4038480" cy="3143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братим свое внимание на рис</a:t>
            </a:r>
            <a:r>
              <a:rPr b="0" lang="ru-RU" sz="2000" spc="-1" strike="noStrike">
                <a:solidFill>
                  <a:srgbClr val="ffffff"/>
                </a:solidFill>
                <a:latin typeface="Times New Roman"/>
              </a:rPr>
              <a:t>унок</a:t>
            </a:r>
            <a:r>
              <a:rPr b="0" lang="ru-RU" sz="2000" spc="-1" strike="noStrike">
                <a:solidFill>
                  <a:srgbClr val="ffffff"/>
                </a:solidFill>
                <a:latin typeface="Times New Roman"/>
                <a:ea typeface="Times New Roman"/>
              </a:rPr>
              <a:t>, на котором изображено несколько различных сетей АТМ частных и публичных и интерфейсы сетей АТМ с действующими на них стандартами UNI (User-to-Network Interface), PNNI (Private Network-to-Network Inteface) и B-ICI (B-ISDN Inter-Carrier Interface).</a:t>
            </a:r>
            <a:endParaRPr b="0" lang="en-US" sz="2000" spc="-1" strike="noStrike">
              <a:solidFill>
                <a:srgbClr val="ffffff"/>
              </a:solidFill>
              <a:latin typeface="Times New Roman"/>
            </a:endParaRPr>
          </a:p>
        </p:txBody>
      </p:sp>
      <p:sp>
        <p:nvSpPr>
          <p:cNvPr id="172" name=""/>
          <p:cNvSpPr/>
          <p:nvPr/>
        </p:nvSpPr>
        <p:spPr>
          <a:xfrm>
            <a:off x="152280" y="3881520"/>
            <a:ext cx="899172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Как видно из этого рисунка PNNI действует либо внутри частной или публичной сети между АТМ-коммутаторами этой сети, либо между двумя частными сетями. Абревиатура PNNI в соответствии с этим имеет два значения: интерфейс между частными сетями (Private Network-to-Network Inteface) или интерфейс между АТМ-коммутаторами в частной сети (Private Network Node Interface).</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Для получения полной картины интерфейсов или протоколов в сетях АТМ необходимо отметить, что между конкретным АТМ-коммутатором и частной или публичной сетью АТМ</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действуют</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оответственно</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тандарты</a:t>
            </a:r>
            <a:r>
              <a:rPr b="0" lang="en-US" sz="1800" spc="-1" strike="noStrike">
                <a:solidFill>
                  <a:srgbClr val="ffffff"/>
                </a:solidFill>
                <a:latin typeface="Times New Roman"/>
                <a:ea typeface="Times New Roman"/>
              </a:rPr>
              <a:t> Private </a:t>
            </a:r>
            <a:r>
              <a:rPr b="0" lang="ru-RU" sz="1800" spc="-1" strike="noStrike">
                <a:solidFill>
                  <a:srgbClr val="ffffff"/>
                </a:solidFill>
                <a:latin typeface="Times New Roman"/>
                <a:ea typeface="Times New Roman"/>
              </a:rPr>
              <a:t>или</a:t>
            </a:r>
            <a:r>
              <a:rPr b="0" lang="en-US" sz="1800" spc="-1" strike="noStrike">
                <a:solidFill>
                  <a:srgbClr val="ffffff"/>
                </a:solidFill>
                <a:latin typeface="Times New Roman"/>
                <a:ea typeface="Times New Roman"/>
              </a:rPr>
              <a:t> Public User-to-Network Interface (Private/Public UNI). </a:t>
            </a:r>
            <a:r>
              <a:rPr b="0" lang="ru-RU" sz="1800" spc="-1" strike="noStrike">
                <a:solidFill>
                  <a:srgbClr val="ffffff"/>
                </a:solidFill>
                <a:latin typeface="Times New Roman"/>
                <a:ea typeface="Times New Roman"/>
              </a:rPr>
              <a:t>Стандарт Public UNI действует также между частной и публичной сетями АТ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Интерфейс </a:t>
            </a:r>
            <a:r>
              <a:rPr b="0" lang="en-US" sz="4400" spc="-1" strike="noStrike">
                <a:solidFill>
                  <a:srgbClr val="ffcc00"/>
                </a:solidFill>
                <a:latin typeface="Arial Black"/>
              </a:rPr>
              <a:t>F-UNI</a:t>
            </a:r>
            <a:endParaRPr b="0" lang="en-US" sz="4400" spc="-1" strike="noStrike">
              <a:solidFill>
                <a:srgbClr val="ffcc00"/>
              </a:solidFill>
              <a:latin typeface="Arial Black"/>
            </a:endParaRPr>
          </a:p>
        </p:txBody>
      </p:sp>
      <p:sp>
        <p:nvSpPr>
          <p:cNvPr id="174" name=""/>
          <p:cNvSpPr/>
          <p:nvPr/>
        </p:nvSpPr>
        <p:spPr>
          <a:xfrm>
            <a:off x="304920" y="914400"/>
            <a:ext cx="861048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анный на кадрах интерфейс UNI (Frame-Based UNI - FUNI). Основной целью данного интерфейса является предоставление доступа к АТМ на скорости 64 кбит/с. На этих скоростях стоимость доступа очень низка. При использовании доступа на основе ячеек эффективность ниже из-за заголовка ячейки, что делает доступ медленнее (и дороже) по сравнению с протоколами на основе кадров, таких как Frame Relay. Использование кадров HDSL в FUNI дает эффективность Frame Relay наряду с мощью сигнализации АТМ, которая в свою очередь включает поддержку SNMP и MIB.</a:t>
            </a:r>
            <a:endParaRPr b="0" lang="en-US" sz="2000" spc="-1" strike="noStrike">
              <a:solidFill>
                <a:srgbClr val="ffffff"/>
              </a:solidFill>
              <a:latin typeface="Times New Roman"/>
            </a:endParaRPr>
          </a:p>
        </p:txBody>
      </p:sp>
      <p:sp>
        <p:nvSpPr>
          <p:cNvPr id="175" name=""/>
          <p:cNvSpPr/>
          <p:nvPr/>
        </p:nvSpPr>
        <p:spPr>
          <a:xfrm>
            <a:off x="457200" y="3886200"/>
            <a:ext cx="8229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На самом деле три стандарта UNI, PNNI и B-ICI очень тесно связаны друг с другом, более того, некоторые функции этих протоколов перекрываются между собой, и это приводит к тому что границы между ними в силу функциональной близости этих стандартов стираются.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9T18:28:45Z</dcterms:created>
  <dc:creator>Александр С. Башкин</dc:creator>
  <dc:description/>
  <dc:language>en-US</dc:language>
  <cp:lastModifiedBy>Александр С. Башкин</cp:lastModifiedBy>
  <dcterms:modified xsi:type="dcterms:W3CDTF">2003-12-29T21:37:51Z</dcterms:modified>
  <cp:revision>13</cp:revision>
  <dc:subject/>
  <dc:title>Реферат</dc:title>
</cp:coreProperties>
</file>