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3C3-5427-4F5C-A5FD-D79274E7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DF4-6DDC-466C-A4EA-FBEB16E0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887-25E1-4C57-9182-C20D29BF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D8A-1E0A-4046-9A90-A77B98C2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AFE2-F1AE-4738-9D13-348F3FAD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57C3-7D7F-4676-BE69-7C5611FB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E2AB-6B42-4CB5-A16D-6936FA0D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623A-7820-473A-A28F-1BA2E881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7778-81D2-4240-A962-D986305B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A429-37EE-4E2E-A1E4-875520B9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1571-8BCB-4544-95E5-7CFA1F5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2B9-24E7-407E-B20D-7BE1796F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04B8-A59B-47DF-8693-2B9D1C2D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90AC-DDDA-44D4-8801-6E43DE8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9F12-0DF8-4E79-AC6A-CB2F82BB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AA95-C426-42CF-BE65-06C74758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D07A-3EB2-4480-9022-98E698D3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10F-BA42-4979-ACB9-080A0549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EC6-2687-4F24-88AC-039B0BDB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7C2-07B2-4485-AABC-5496D955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E4D-365D-41F2-A680-E92C3B72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94C-6163-40DE-BD09-C4A63A18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BD1-E143-4226-9EDF-E6F38782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7F8-D017-4B99-98C4-AD24A13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1096-EEBF-43B4-A5B6-0BC101C35E0C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9A15-D003-4265-81A2-A1CBD4366A83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55C8-1648-4909-AF6B-3034F960ACC7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F76D-7BAB-46D5-A924-2FEA78157F86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99"/>
                </a:solidFill>
                <a:latin typeface="Times New Roman"/>
              </a:rPr>
              <a:t>Дипломный проект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«Анализ эффективности рекламы ПО «ХимСтальКомплект»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в сети Интернет»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азработал:  Механов Е.В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Руководитель:  Шовкун Э.А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6f6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Цели создания корпоративного сайта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О «ХимСтальКомплект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здание имиджа компании - корпоративная реклам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сультативная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ривлечение новых клиентов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нижение затрат на реклам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величение объема продаж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43000" y="762120"/>
            <a:ext cx="7440480" cy="1003320"/>
            <a:chOff x="1143000" y="762120"/>
            <a:chExt cx="7440480" cy="1003320"/>
          </a:xfrm>
        </p:grpSpPr>
        <p:sp>
          <p:nvSpPr>
            <p:cNvPr id="88" name=""/>
            <p:cNvSpPr/>
            <p:nvPr/>
          </p:nvSpPr>
          <p:spPr>
            <a:xfrm>
              <a:off x="1143000" y="762120"/>
              <a:ext cx="20574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05720" y="762120"/>
              <a:ext cx="18777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2193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2d5b"/>
                </a:solidFill>
                <a:latin typeface="Tahoma"/>
              </a:rPr>
              <a:t>Число клиентов, в зависимости от видов Интернет рекламы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ahoma"/>
                <a:ea typeface="Times New Roman"/>
              </a:rPr>
              <a:t>Среднее количество клиентов, обратившихся в  компании трубного сектора</a:t>
            </a:r>
            <a:r>
              <a:rPr b="1" lang="ru-RU" sz="3600" spc="-1" strike="noStrike">
                <a:solidFill>
                  <a:srgbClr val="cccc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79640" y="1374840"/>
          <a:ext cx="7226280" cy="51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374840"/>
                    <a:ext cx="722628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пользуемые виды рекламы для достижения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максимального эффекта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1295280"/>
            <a:ext cx="8076600" cy="4957920"/>
            <a:chOff x="762120" y="1295280"/>
            <a:chExt cx="8076600" cy="4957920"/>
          </a:xfrm>
        </p:grpSpPr>
        <p:grpSp>
          <p:nvGrpSpPr>
            <p:cNvPr id="102" name=""/>
            <p:cNvGrpSpPr/>
            <p:nvPr/>
          </p:nvGrpSpPr>
          <p:grpSpPr>
            <a:xfrm>
              <a:off x="768240" y="1299600"/>
              <a:ext cx="8063280" cy="4948200"/>
              <a:chOff x="768240" y="1299600"/>
              <a:chExt cx="8063280" cy="4948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240" y="1299600"/>
                <a:ext cx="3529080" cy="630000"/>
                <a:chOff x="768240" y="1299600"/>
                <a:chExt cx="3529080" cy="630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58960" y="1299600"/>
                  <a:ext cx="33472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240" y="1299600"/>
                  <a:ext cx="352908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297680" y="1299600"/>
                <a:ext cx="4533840" cy="630000"/>
                <a:chOff x="4297680" y="1299600"/>
                <a:chExt cx="4533840" cy="630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388400" y="1299600"/>
                  <a:ext cx="435240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660066"/>
                      </a:solidFill>
                      <a:latin typeface="Arial"/>
                      <a:ea typeface="Times New Roman"/>
                    </a:rPr>
                    <a:t>Бесплатные</a:t>
                  </a: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97680" y="1299600"/>
                  <a:ext cx="4533840" cy="63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68240" y="1929600"/>
                <a:ext cx="3529080" cy="1349280"/>
                <a:chOff x="768240" y="1929600"/>
                <a:chExt cx="3529080" cy="1349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58960" y="1929600"/>
                  <a:ext cx="334728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рекламных баннеров на отраслевых ресурс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68240" y="1929600"/>
                  <a:ext cx="352908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97680" y="1929600"/>
                <a:ext cx="4533840" cy="1349280"/>
                <a:chOff x="4297680" y="1929600"/>
                <a:chExt cx="4533840" cy="1349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88400" y="1929600"/>
                  <a:ext cx="4352400" cy="13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траслевые доски объявлений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делы “Продукция” на сайтах – система прайс-листов и потребностей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аталоги “Предприятий”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97680" y="1929600"/>
                  <a:ext cx="4533840" cy="134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68240" y="3278880"/>
                <a:ext cx="3529080" cy="989280"/>
                <a:chOff x="768240" y="3278880"/>
                <a:chExt cx="3529080" cy="989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58960" y="327888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Размещение объявлений в тематических отраслевых рассылках.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68240" y="327888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297680" y="3278880"/>
                <a:ext cx="4533840" cy="989280"/>
                <a:chOff x="4297680" y="3278880"/>
                <a:chExt cx="4533840" cy="989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388400" y="327888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рямые почтовые рассылк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97680" y="327888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68240" y="4268520"/>
                <a:ext cx="3529080" cy="989280"/>
                <a:chOff x="768240" y="4268520"/>
                <a:chExt cx="3529080" cy="98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58960" y="4268520"/>
                  <a:ext cx="334728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Контекстный показ баннеров на поисковых системах (Yandex.ru и др.)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8240" y="4268520"/>
                  <a:ext cx="352908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297680" y="4268520"/>
                <a:ext cx="4533840" cy="989280"/>
                <a:chOff x="4297680" y="4268520"/>
                <a:chExt cx="4533840" cy="989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388400" y="4268520"/>
                  <a:ext cx="4352400" cy="9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Обмен ссылками с другими сайтами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297680" y="4268520"/>
                  <a:ext cx="4533840" cy="98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8240" y="5258160"/>
                <a:ext cx="3529080" cy="989640"/>
                <a:chOff x="768240" y="5258160"/>
                <a:chExt cx="3529080" cy="989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58960" y="5258160"/>
                  <a:ext cx="334728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Платное размещение баннеров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8240" y="5258160"/>
                  <a:ext cx="352908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297680" y="5258160"/>
                <a:ext cx="4533840" cy="989640"/>
                <a:chOff x="4297680" y="5258160"/>
                <a:chExt cx="4533840" cy="989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388400" y="5258160"/>
                  <a:ext cx="435240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Arial"/>
                      <a:ea typeface="Times New Roman"/>
                    </a:rPr>
                    <a:t>Участие в баннерообменных сетях</a:t>
                  </a: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297680" y="5258160"/>
                  <a:ext cx="4533840" cy="98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62120" y="1295280"/>
              <a:ext cx="8076600" cy="4957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СЕЩАЕМОСТЬ САЙТА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ПО «ХИМСТАЛЬКОМПЛЕКТ» </a:t>
            </a:r>
            <a:br>
              <a:rPr sz="24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12.2001г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по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01.01.2003г.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14440" y="10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447920"/>
          <a:ext cx="75438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47920"/>
                    <a:ext cx="7543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ahoma"/>
                <a:ea typeface="Times New Roman"/>
              </a:rPr>
              <a:t>Отдела рекламы ПО «ХимСтальКомплект» до реорганизации</a:t>
            </a:r>
            <a:r>
              <a:rPr b="1" lang="ru-RU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655120" y="60339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523880"/>
            <a:ext cx="441936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Times New Roman"/>
              </a:rPr>
              <a:t>Начальник отдела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886200"/>
            <a:ext cx="373356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886200"/>
            <a:ext cx="380988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45472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4290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429000"/>
            <a:ext cx="41911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97180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ccd9"/>
            </a:gs>
            <a:gs pos="50000">
              <a:srgbClr val="ccffff"/>
            </a:gs>
            <a:gs pos="100000">
              <a:srgbClr val="a7ccd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990099"/>
                </a:solidFill>
                <a:latin typeface="Tahoma"/>
                <a:ea typeface="Times New Roman"/>
              </a:rPr>
              <a:t>Отдел рекламы после реорганизации</a:t>
            </a:r>
            <a:r>
              <a:rPr b="0" lang="ru-RU" sz="35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656560" y="60339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2760" y="1295280"/>
            <a:ext cx="40384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Ведущий специалист по рекламе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514600"/>
            <a:ext cx="3276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743200"/>
            <a:ext cx="3505320" cy="14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продвижения товаров и стимулирования сбыта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743200"/>
            <a:ext cx="3505320" cy="1447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Группа организации рекламных кампаний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родвижения товаров и стимулирования сбыта 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4648320"/>
            <a:ext cx="350532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пециалисты по рекламе  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(2 человека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362320"/>
            <a:ext cx="0" cy="152280"/>
          </a:xfrm>
          <a:prstGeom prst="line">
            <a:avLst/>
          </a:prstGeom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514600"/>
            <a:ext cx="0" cy="2286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191120"/>
            <a:ext cx="0" cy="45720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06:24:26Z</dcterms:created>
  <dc:creator>Козлова М.Е.</dc:creator>
  <dc:description/>
  <dc:language>en-US</dc:language>
  <cp:lastModifiedBy>user</cp:lastModifiedBy>
  <dcterms:modified xsi:type="dcterms:W3CDTF">2003-06-05T01:59:54Z</dcterms:modified>
  <cp:revision>59</cp:revision>
  <dc:subject/>
  <dc:title>Дипломный проект</dc:title>
</cp:coreProperties>
</file>