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AAB-9666-4C66-AE01-50EC2F1D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E6F-902B-4402-BE15-85CB736D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2B5-D3CF-4885-9086-345C19C9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7AE-7E47-4123-8527-96646A85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773CA-2282-43C6-A592-F9EB730B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941C5-4AC2-44D0-B98F-AF9BD4D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236F6-9F9F-4A25-A942-3A7A16FA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D0B58-C858-4BB6-B35E-F4882753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42409-6B28-475E-81EC-28945C93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DDE9D-DCA9-454F-BF98-63CE0381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D8BE4-072E-4762-B65E-9A43DC7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EE7-14DA-442A-BF65-A1BA799B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21E5B-19EB-487D-BF3B-7A4540FA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82DAC-C500-49FD-A1DD-EB11AF83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AF5B1-2139-4AC6-B2F8-BDFB6114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192E4-516F-4B13-A1EA-1980AC5D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E87D7-5AEE-4EB1-BE00-9DBDA7A6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DBC-6E51-4EC0-84E4-9F13C64E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9EE-2E42-486C-94B1-0557A6A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687-C059-43EE-83D1-434867A8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DF5-7B8B-413E-9496-EEB40159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950-7CBB-4445-B04A-082F536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685-A275-4596-8683-79EA3ADF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A97-03DA-409E-81B6-DC2461AC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A25C-0D86-424B-9F9C-99FD4C63CA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294F-B298-437C-984A-E5EF78CD9B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Управление персонал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87280" y="40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пломная раб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2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к составная часть менеджмент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ед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xit" presetID="5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Методы анали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и анализ основных показателей, характеризующих состояние и степень использования трудовых ресур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влияния отдельных факторов на изменение результативного показателя способом детерминированного факторного анализ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роение графиков, характеризующих стиль руководства, лидера организации, культуру управления, критерии успеха, характеристики организации с помощью инструмент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Направление совершенствования кадрового менеджмента на предприя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075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стимул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9368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управления персон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924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квалификации кад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Система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32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средственная связь с достигнутыми успех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аграждение за перевыполнение пл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сутствие «потолка» прем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ответствие з/платы реальному вкладу в успех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раничение базовых окладов для руко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сткая схема начисления премий. Три категории оценки результатов (хорошо, удовлетворительно, плохо), рейтинг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мию вручает непосредственный начальник. Обязательно проведение бес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квидация премиальных выплат не завизящих от результатов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Неэкономические методы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мен опытом (переброска из одной группы в другую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едение профессиональных конк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ральное стимулирование (похвала, грамота, доска почета и т.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Изменение в культур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014480"/>
          <a:ext cx="7561440" cy="55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014480"/>
                    <a:ext cx="756144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5:15:38Z</dcterms:created>
  <dc:creator/>
  <dc:description/>
  <dc:language>en-US</dc:language>
  <cp:lastModifiedBy>Andrey L.</cp:lastModifiedBy>
  <dcterms:modified xsi:type="dcterms:W3CDTF">2004-09-28T07:44:24Z</dcterms:modified>
  <cp:revision>7</cp:revision>
  <dc:subject/>
  <dc:title>Управление персоналом</dc:title>
</cp:coreProperties>
</file>