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55B-5C51-44B6-9A7B-4931AE28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0FE-9069-4DF4-999C-3088B335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8A3-AA73-49DE-A272-69834870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604-002A-4014-89F5-D7798443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8F1-0D7E-45F5-A480-669D4DF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08C-3810-455A-89F4-44CF8945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CAD-BD20-40C4-9ABE-37E2E97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C26-7AE2-4F0D-813A-18BD32C4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2E2-4106-4AF2-8DA9-089A7F82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695-031F-4394-97E8-0B73AD94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6EA-2A47-427D-AE92-1AE77477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282-71D6-48A0-B6C4-5733A08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AC4E-8798-48FD-B105-6B77B8A79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96000" cy="400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4076640"/>
            <a:ext cx="4140000" cy="278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4500720" cy="26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2760" y="1268280"/>
            <a:ext cx="4791240" cy="558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u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usb_cable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ug_a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7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ug_b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sb2_cable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iniUSB_c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9:41:05Z</dcterms:created>
  <dc:creator>Данил</dc:creator>
  <dc:description/>
  <dc:language>en-US</dc:language>
  <cp:lastModifiedBy>Данил</cp:lastModifiedBy>
  <dcterms:modified xsi:type="dcterms:W3CDTF">2003-01-14T19:54:36Z</dcterms:modified>
  <cp:revision>2</cp:revision>
  <dc:subject/>
  <dc:title>Слайд 1</dc:title>
</cp:coreProperties>
</file>