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0469-09D8-4C54-9B8A-DC40074965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. Поскольку на сегодняшний день продукты фирмы Nowell не пользуются большим успехом на рынке серверных систем, данный проект был создан с целью абстрогироватся от программного обеспечения которое установлено на сервере (контролере домена(ов)) по этому данный програмный продукт может функционировать также под управлним серверов: Windows NT и  Unix. Однако имеющиеся на сегодняшний день большое количество подобных программ ставит перед человеком, проводящим защиту ОС  Windows 95, не тривиальную задачу - ввести большое количество данных при интуитивно не понятном и сложном интерфейсе, не позволяющем быстро и точно защитить требующиеся объекты.  Указываются достоинства и недостатки существующих программных продуктов, позволяющих производить защиту объектов операционной системы WINDOWS95. Указываются пути дальнейшего расширения возможностей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DA4B-4FDF-434A-B6C0-7E9C82AC1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5A124-151D-4E50-B9F8-8E9BCC08C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A1C9-64ED-4239-8954-DF0746813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5E60-55CE-46D7-BA82-77D7CCE53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2BB31-D1D7-4F94-84BF-CADA5A01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8749E-C2FA-4608-8F7C-1F91041B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8F833-125A-4416-A99D-2D3346F8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E525F-C7B7-41B6-9E68-3F5FA525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1624A-8201-4F96-B39E-DF9F6327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C9153-8713-47D2-9ACD-C430FACA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2305F-4981-411A-92F1-27182D8A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8EF9-2027-4428-B65C-5B0885FF1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E5422-AF42-49F3-BD2B-4F8750EA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CC4A2-A90B-4FFE-B3D9-69A1C431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B7F31-07A3-4BCD-BD16-6999A0BE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51469-A167-4402-963D-63F97C9A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CA27A-46E3-4DEE-B515-304F6271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34AE-B925-43E5-8818-47D2167B5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B7E80-E35E-4389-93B1-47D1ED7D1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C9EB4-8A1C-45D8-9852-647E494E6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416A-D8B2-43BE-844B-4EFA418E1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9066-FA0E-415B-851B-F2F1B5BAE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53C33-C928-4BAF-BA2C-27B32E661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1355-DAF8-4AA7-8947-742CDB186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9EA6-0C0A-42DD-BDC6-D33659AA59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87BB-7EB6-48A4-92B2-2F7FB5685F03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9536-040F-4519-9183-3E4115503C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ВЫПУСКНАЯ КВАЛИФИКАЦИОННАЯ РАБОТА БАКАЛАВРА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ентов Д. 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А: ПРОГРАММА ЗАЩИТЫ ОБЬЕКТОВ ОПЕРАЦИОННОЙ СИСТЕМЫ WINDOWS95, РАБОТАЮЩЕЙ В МНОГОПОЛЬЗОВАТЕЛЬСКОМ РЕЖИМЕ ПОД УПРАВЛЕНИЕМ СЕРВЕРА Novell NetWare (Windows NT, Un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78C398-B58D-45D9-AD4B-C00F3B01B063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имер работы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960" y="24796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9440" y="25146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05520" y="3048120"/>
          <a:ext cx="317664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048120"/>
                    <a:ext cx="317664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3276720"/>
          <a:ext cx="3908520" cy="23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3908520" cy="23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2800" y="1371600"/>
            <a:ext cx="48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нец през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-58680"/>
          <a:ext cx="9144000" cy="69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868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656560" y="-22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Times New Roman"/>
                <a:hlinkClick r:id="rId3" action="ppaction://hlinksldjump"/>
              </a:rPr>
              <a:t>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17640"/>
          <a:ext cx="9144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4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4680" y="30132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0"/>
          <a:ext cx="5913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13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5961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61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311160" y="3013200"/>
            <a:ext cx="26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фисы разли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46353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35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597560" y="1600200"/>
          <a:ext cx="454644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600200"/>
                    <a:ext cx="4546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013720" y="4986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специали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0"/>
          <a:ext cx="592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2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234480" y="24796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Системы защиты ОС 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Windows 95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3171600"/>
            <a:ext cx="56959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 (Windows NT, Uni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C41C0D-3350-4A53-BBB9-11E4350F0C48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огноз использования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Офисы различных 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Рабочее место специалиста узкого профи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Рабочее место 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Цели разработки данного проек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та ПК от несанкционированного дост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рока службы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безотказного функционирования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удобства работы оператора с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мест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ё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Обзор существующих систем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882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Tw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от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ccessForbiten4.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PC Deadbolt 3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дартный модуль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ege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75340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стория создания и проблемы вызвавшие необходимость данной работ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функционирования ПК в ЛВС универс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, потерявшие актуаль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ъёмные ди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узка с сервера по ЛВ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лючение жестких дисков на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9800" y="563868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ШЕНИЕ -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060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Место программы в модель взаимодействия открытых систем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SI/I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438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ьзо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0481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кладн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581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тавитель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1148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ансов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6483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порт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тев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150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наль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1722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  <a:endCxn id="143" idx="3"/>
          </p:cNvCxnSpPr>
          <p:nvPr/>
        </p:nvCxnSpPr>
        <p:spPr>
          <a:xfrm flipV="1">
            <a:off x="4343400" y="5866920"/>
            <a:ext cx="2160" cy="45792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1"/>
            <a:endCxn id="142" idx="1"/>
          </p:cNvCxnSpPr>
          <p:nvPr/>
        </p:nvCxnSpPr>
        <p:spPr>
          <a:xfrm flipH="1" rot="10800000">
            <a:off x="379800" y="5333400"/>
            <a:ext cx="2520" cy="53388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3"/>
            <a:endCxn id="141" idx="3"/>
          </p:cNvCxnSpPr>
          <p:nvPr/>
        </p:nvCxnSpPr>
        <p:spPr>
          <a:xfrm flipV="1">
            <a:off x="4343400" y="4800240"/>
            <a:ext cx="2160" cy="53424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1" idx="1"/>
            <a:endCxn id="140" idx="1"/>
          </p:cNvCxnSpPr>
          <p:nvPr/>
        </p:nvCxnSpPr>
        <p:spPr>
          <a:xfrm flipH="1" rot="10800000">
            <a:off x="379800" y="426636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477120" y="3276720"/>
            <a:ext cx="2057400" cy="1143000"/>
          </a:xfrm>
          <a:prstGeom prst="flowChartInputOutpu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g.p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0" idx="3"/>
            <a:endCxn id="149" idx="4"/>
          </p:cNvCxnSpPr>
          <p:nvPr/>
        </p:nvCxnSpPr>
        <p:spPr>
          <a:xfrm>
            <a:off x="4343400" y="4267080"/>
            <a:ext cx="3162960" cy="153360"/>
          </a:xfrm>
          <a:prstGeom prst="bentConnector4">
            <a:avLst>
              <a:gd name="adj1" fmla="val 33727"/>
              <a:gd name="adj2" fmla="val 2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1"/>
            <a:endCxn id="139" idx="3"/>
          </p:cNvCxnSpPr>
          <p:nvPr/>
        </p:nvCxnSpPr>
        <p:spPr>
          <a:xfrm rot="5400000">
            <a:off x="5695200" y="1924200"/>
            <a:ext cx="457920" cy="3162960"/>
          </a:xfrm>
          <a:prstGeom prst="bentConnector4">
            <a:avLst>
              <a:gd name="adj1" fmla="val -49960"/>
              <a:gd name="adj2" fmla="val 6626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9" idx="1"/>
            <a:endCxn id="138" idx="1"/>
          </p:cNvCxnSpPr>
          <p:nvPr/>
        </p:nvCxnSpPr>
        <p:spPr>
          <a:xfrm flipH="1" rot="10800000">
            <a:off x="379800" y="319968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8" idx="3"/>
            <a:endCxn id="137" idx="3"/>
          </p:cNvCxnSpPr>
          <p:nvPr/>
        </p:nvCxnSpPr>
        <p:spPr>
          <a:xfrm flipV="1">
            <a:off x="4343400" y="2590200"/>
            <a:ext cx="2160" cy="61020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Установление сеансового соединения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228600"/>
            <a:ext cx="60199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1447920"/>
            <a:ext cx="4495680" cy="1904760"/>
          </a:xfrm>
          <a:prstGeom prst="flowChartDecision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4400" y="1447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 разреш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2680" y="137160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оступе отказа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86000"/>
            <a:ext cx="19051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кра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ан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ст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5" idx="2"/>
            <a:endCxn id="156" idx="0"/>
          </p:cNvCxnSpPr>
          <p:nvPr/>
        </p:nvCxnSpPr>
        <p:spPr>
          <a:xfrm>
            <a:off x="4762080" y="609120"/>
            <a:ext cx="1080" cy="83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6" idx="1"/>
            <a:endCxn id="159" idx="0"/>
          </p:cNvCxnSpPr>
          <p:nvPr/>
        </p:nvCxnSpPr>
        <p:spPr>
          <a:xfrm rot="10800000">
            <a:off x="951840" y="2285280"/>
            <a:ext cx="1562760" cy="115200"/>
          </a:xfrm>
          <a:prstGeom prst="bentConnector4">
            <a:avLst>
              <a:gd name="adj1" fmla="val 19493"/>
              <a:gd name="adj2" fmla="val 3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6324480" y="3048120"/>
            <a:ext cx="28195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доступ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аталогу с файл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6" idx="3"/>
            <a:endCxn id="162" idx="0"/>
          </p:cNvCxnSpPr>
          <p:nvPr/>
        </p:nvCxnSpPr>
        <p:spPr>
          <a:xfrm>
            <a:off x="7009920" y="2400120"/>
            <a:ext cx="724680" cy="648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943600" y="5029200"/>
            <a:ext cx="32004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рузка шифрован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йл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2" idx="2"/>
            <a:endCxn id="164" idx="0"/>
          </p:cNvCxnSpPr>
          <p:nvPr/>
        </p:nvCxnSpPr>
        <p:spPr>
          <a:xfrm rot="5400000">
            <a:off x="7180920" y="4476600"/>
            <a:ext cx="915120" cy="191160"/>
          </a:xfrm>
          <a:prstGeom prst="bentConnector3">
            <a:avLst>
              <a:gd name="adj1" fmla="val 4998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048120" y="5029200"/>
            <a:ext cx="259056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шифрация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4" idx="1"/>
            <a:endCxn id="166" idx="3"/>
          </p:cNvCxnSpPr>
          <p:nvPr/>
        </p:nvCxnSpPr>
        <p:spPr>
          <a:xfrm rot="10800000">
            <a:off x="5637960" y="5523840"/>
            <a:ext cx="30564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0" y="5029200"/>
            <a:ext cx="27432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уск программы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реес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1"/>
            <a:endCxn id="168" idx="3"/>
          </p:cNvCxnSpPr>
          <p:nvPr/>
        </p:nvCxnSpPr>
        <p:spPr>
          <a:xfrm flipH="1">
            <a:off x="2742480" y="55242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209680" y="6477120"/>
            <a:ext cx="69343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чищенная 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8" idx="2"/>
            <a:endCxn id="170" idx="1"/>
          </p:cNvCxnSpPr>
          <p:nvPr/>
        </p:nvCxnSpPr>
        <p:spPr>
          <a:xfrm flipH="1" rot="16200000">
            <a:off x="1466640" y="5924160"/>
            <a:ext cx="648360" cy="8388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9" idx="2"/>
            <a:endCxn id="156" idx="2"/>
          </p:cNvCxnSpPr>
          <p:nvPr/>
        </p:nvCxnSpPr>
        <p:spPr>
          <a:xfrm flipH="1" rot="16200000">
            <a:off x="2855520" y="1448280"/>
            <a:ext cx="2520" cy="3810600"/>
          </a:xfrm>
          <a:prstGeom prst="bentConnector3">
            <a:avLst>
              <a:gd name="adj1" fmla="val 5458333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3T19:14:48Z</dcterms:created>
  <dc:creator>Demon13</dc:creator>
  <dc:description/>
  <cp:keywords>ЗАЩИТА WINDOWS95 МНОГОПОЛЬЗОВАТЕЛЬСКОМ РЕЖИМЕ СЕРВЕР Novell NetWare Windows NT  Unix</cp:keywords>
  <dc:language>en-US</dc:language>
  <cp:lastModifiedBy>Demon13</cp:lastModifiedBy>
  <dcterms:modified xsi:type="dcterms:W3CDTF">2000-06-28T18:45:47Z</dcterms:modified>
  <cp:revision>33</cp:revision>
  <dc:subject>ПРОГРАММА ЗАЩИТЫ ОБЬЕКТОВ ОПЕРАЦИОННОЙ СИСТЕМЫ WINDOWS95, РАБОТАЮЩЕЙ В МНОГОПОЛЬЗОВАТЕЛЬСКОМ РЕЖИМЕ ПОД УПРАВЛЕНИЕМ СЕРВЕРА Novell NetWare (Windows NT, Unix)</dc:subject>
  <dc:title>ВЫПУСКНАЯ КВАЛИФИКАЦИОННАЯ РАБОТА БАКАЛАВ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Группа">
    <vt:lpwstr>3ИТ4-26</vt:lpwstr>
  </property>
  <property fmtid="{D5CDD505-2E9C-101B-9397-08002B2CF9AE}" pid="3" name="Издатель">
    <vt:lpwstr>Litsentov D. B.</vt:lpwstr>
  </property>
  <property fmtid="{D5CDD505-2E9C-101B-9397-08002B2CF9AE}" pid="4" name="Почтовое отделение">
    <vt:lpwstr>Demon13@altavista.net</vt:lpwstr>
  </property>
  <property fmtid="{D5CDD505-2E9C-101B-9397-08002B2CF9AE}" pid="5" name="Проверено">
    <vt:lpwstr>июнь 2000</vt:lpwstr>
  </property>
  <property fmtid="{D5CDD505-2E9C-101B-9397-08002B2CF9AE}" pid="6" name="Проект">
    <vt:lpwstr>ПРОГРАММА ЗАЩИТЫ ОБЬЕКТОВ ОПЕРАЦИОННОЙ СИСТЕМЫ WINDOWS95, РАБОТАЮЩЕЙ В МНОГОПОЛЬЗОВАТЕЛЬСКОМ РЕЖИМЕ ПОД УПРАВЛЕНИЕМ СЕРВЕРА Novell NetWare (Windows NT, Unix)</vt:lpwstr>
  </property>
  <property fmtid="{D5CDD505-2E9C-101B-9397-08002B2CF9AE}" pid="7" name="Расположение">
    <vt:lpwstr>Комп Demon13</vt:lpwstr>
  </property>
  <property fmtid="{D5CDD505-2E9C-101B-9397-08002B2CF9AE}" pid="8" name="Редактор">
    <vt:lpwstr>Еремеева Т. Ю.</vt:lpwstr>
  </property>
  <property fmtid="{D5CDD505-2E9C-101B-9397-08002B2CF9AE}" pid="9" name="Состояние">
    <vt:lpwstr>Закрыт</vt:lpwstr>
  </property>
  <property fmtid="{D5CDD505-2E9C-101B-9397-08002B2CF9AE}" pid="10" name="Телефон">
    <vt:lpwstr>+7 (095) 979 1504</vt:lpwstr>
  </property>
  <property fmtid="{D5CDD505-2E9C-101B-9397-08002B2CF9AE}" pid="11" name="Цель">
    <vt:lpwstr>Демонстарция на защите диплома бакалавра</vt:lpwstr>
  </property>
  <property fmtid="{D5CDD505-2E9C-101B-9397-08002B2CF9AE}" pid="12" name="Язык">
    <vt:lpwstr>русский</vt:lpwstr>
  </property>
</Properties>
</file>