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766-7DAF-4AF6-94F6-B75D9D85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64EC-F346-49BF-91FE-E64F9246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251-8CBF-49A1-A6D0-AB42CF68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B90-6059-4FDC-B8D3-7A1CA48E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B7AB0-6BF3-4D8A-92FF-C7924253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99021-CD0B-41F7-A402-7BEAB076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E94A7-BE4A-4035-A390-E15D8EA0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18529-77E6-4B95-ACB6-3C5D5F44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83FCF-A521-4FEE-AA04-C6EA88E6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CB6D5-130E-45F0-957D-E720E36F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001EF-1926-4B60-AB4E-1BF1C640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527-2944-4F57-B3B2-467C19BA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CE1BF-D503-48D5-AA63-CEF350C8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24F30-D81F-4E89-8DC2-F933CCE1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5CA05-8C6C-4AE2-B32C-BCDE57E3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63B61-4EB4-4241-87CE-63A81999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80C66-4635-427C-926D-1A4172D4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7AC0-5F83-439E-911B-9D36FCAC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00B-FA23-4CEB-B111-C5FDABD8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A9D4-7A2A-4A41-A357-D4D3180E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0CB-4607-4771-94CB-98B0F330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2E79-8D71-46A0-B3EC-2A944A9E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A63-7181-4BC4-9B8D-C47DC64A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3BC5-6611-46B8-9539-2E0854BC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5A19-7C9A-4D91-9338-8F0A82F725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42D7-F192-43C3-9E0A-F787E88E56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3068640"/>
            <a:ext cx="8059680" cy="201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озможности деятельности специалиста по социальной работе в решении проблемы одиночества пожилых людей (на примере отделения социального обслуживания на дому граждан пожилого возраста и инвалидов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У КЦСОН «Гармония» г. Устюжн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 вы пытаетесь решить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эти проблемы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905120"/>
          <a:ext cx="8229600" cy="4784760"/>
        </p:xfrm>
        <a:graphic>
          <a:graphicData uri="http://schemas.openxmlformats.org/drawingml/2006/table">
            <a:tbl>
              <a:tblPr/>
              <a:tblGrid>
                <a:gridCol w="4272120"/>
                <a:gridCol w="1900080"/>
                <a:gridCol w="205740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мостоятельн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соседя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близким родственник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социальному работник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Чувствуете ли вы себя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диноким человеком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трудняюсь ответи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ругое (редко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Боитесь ли вы одиночества?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сли да, то почему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905120"/>
          <a:ext cx="8229600" cy="4410000"/>
        </p:xfrm>
        <a:graphic>
          <a:graphicData uri="http://schemas.openxmlformats.org/drawingml/2006/table">
            <a:tbl>
              <a:tblPr/>
              <a:tblGrid>
                <a:gridCol w="4425840"/>
                <a:gridCol w="1746360"/>
                <a:gridCol w="2057400"/>
              </a:tblGrid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юсь, потому что совсем одн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юсь, даже поговорить не с ке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, страшно умереть в одиночеств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гда заболеешь, страшно лежать одно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юсь, что жена умрёт раньше мен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 вы проводите своё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вободное время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905120"/>
          <a:ext cx="8229600" cy="423684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щаюсь с соседя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таю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мотрю телевизо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хаживаю за растения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ие из событий в мире и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 нашей стране интересуют вас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 большей степени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905120"/>
          <a:ext cx="8229600" cy="423684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литик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Экономик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ругое (смотрю сериалы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Что вам необходимо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ля активной жизн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йти интересное занят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нимание окружающи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доровье, физические си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омогает ли вам не испытывать одиночество общение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 социальными работникам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2708280"/>
          <a:ext cx="7948800" cy="2073240"/>
        </p:xfrm>
        <a:graphic>
          <a:graphicData uri="http://schemas.openxmlformats.org/drawingml/2006/table">
            <a:tbl>
              <a:tblPr/>
              <a:tblGrid>
                <a:gridCol w="3975120"/>
                <a:gridCol w="1986120"/>
                <a:gridCol w="1987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трудняюсь ответи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77"/>
          <p:cNvSpPr/>
          <p:nvPr/>
        </p:nvSpPr>
        <p:spPr>
          <a:xfrm>
            <a:off x="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Если помогает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 в чём это проявляетс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8360" y="1844640"/>
          <a:ext cx="8136000" cy="4389480"/>
        </p:xfrm>
        <a:graphic>
          <a:graphicData uri="http://schemas.openxmlformats.org/drawingml/2006/table">
            <a:tbl>
              <a:tblPr/>
              <a:tblGrid>
                <a:gridCol w="5040360"/>
                <a:gridCol w="1727280"/>
                <a:gridCol w="1368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говорит и на душе легче станови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спытываю радость при общ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знаю что-то новое, интерес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сть с кем поделиться бедами, проблем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гда выслушает, успокоит, помогают в трудную мину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юблю поговорить о прошлом, а социальный работник всегда выслуша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Жду с нетерпением дня, когда придёт социальный работ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154"/>
          <p:cNvSpPr/>
          <p:nvPr/>
        </p:nvSpPr>
        <p:spPr>
          <a:xfrm>
            <a:off x="0" y="507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Рекомендации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ктивнее внедрять эффективные социальные технологии (мобильная социальная помощь гражданам, проживающим в отдалённых деревнях, выездные социальные дни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оздание мини-клубов на дому, с целью расширения круга общения клиент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влечение волонтеров в работе с пожилыми людьми и инвалид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лучшение качества обслуживания населения через создание участковых социальных служб на территориях муниципальных образова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оздание альбома жизнеописания клиентов (запись впечатлений от прожитой жизни, наиболее ярких воспоминаний, описание событий, происходящих в настоящее время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539640" y="2924280"/>
            <a:ext cx="81360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пасибо за внимание!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Объект исследования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: одиночество как социальная проблем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Предмет исследования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: возможности специалиста по социальной работе в решении проблемы одиночества пожилых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: Изучить возможности специалиста по социальной работе отделения социального обслуживания на дому граждан пожилого возраста и инвалидов в решении проблемы одиночества пожилых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f0000"/>
                </a:solidFill>
                <a:uFillTx/>
                <a:latin typeface="Times New Roman"/>
              </a:rPr>
              <a:t>Задачи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роанализировать литературу по проблеме одиночества пожилых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Раскрыть особенности деятельности специалиста по социальной работе отделения социального обслуживания на дому граждан пожилого возраста и инвалидов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ровести исследование анализа проблемы  одиночества среди  пожилых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Разработать рекомендации для специалистов по социальной работе по решению проблемы одиночества пожилых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Гипотеза: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ы предполагаем, что проблема одиночества для пожилых людей является первостепенной и как следствие специалист по социальной работе может выступать инициатором в решении этой пробл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c3300"/>
                </a:solidFill>
                <a:latin typeface="Times New Roman"/>
              </a:rPr>
              <a:t>Характеристика выборк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96"/>
          <p:cNvSpPr/>
          <p:nvPr/>
        </p:nvSpPr>
        <p:spPr>
          <a:xfrm>
            <a:off x="2749680" y="3017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5280" y="2781360"/>
          <a:ext cx="8640720" cy="2592360"/>
        </p:xfrm>
        <a:graphic>
          <a:graphicData uri="http://schemas.openxmlformats.org/drawingml/2006/table">
            <a:tbl>
              <a:tblPr/>
              <a:tblGrid>
                <a:gridCol w="1225440"/>
                <a:gridCol w="503280"/>
                <a:gridCol w="647640"/>
                <a:gridCol w="503280"/>
                <a:gridCol w="865440"/>
                <a:gridCol w="1079280"/>
                <a:gridCol w="504720"/>
                <a:gridCol w="719280"/>
                <a:gridCol w="453960"/>
                <a:gridCol w="843120"/>
                <a:gridCol w="503280"/>
                <a:gridCol w="792000"/>
              </a:tblGrid>
              <a:tr h="552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Мужс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Жен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8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75-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80-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90 и с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60-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75-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80-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тносите ли вы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ебя к пожилым людя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трудняюсь ответи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руг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3548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 вы считаете, какие проблемы возникают у пожилых людей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блемы со здоровье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атериальны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сихологическ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диночеств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руг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ие из этих проблем больше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сего тревожат Вас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доровь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диночеств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сихологическ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атериальны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вы пытаетесь решить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эти проблемы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905120"/>
          <a:ext cx="8229600" cy="4784760"/>
        </p:xfrm>
        <a:graphic>
          <a:graphicData uri="http://schemas.openxmlformats.org/drawingml/2006/table">
            <a:tbl>
              <a:tblPr/>
              <a:tblGrid>
                <a:gridCol w="4272120"/>
                <a:gridCol w="1900080"/>
                <a:gridCol w="205740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мостоятельн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соседя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близким родственник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социальному работник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5:03:24Z</dcterms:created>
  <dc:creator>User</dc:creator>
  <dc:description/>
  <dc:language>en-US</dc:language>
  <cp:lastModifiedBy>Максим</cp:lastModifiedBy>
  <dcterms:modified xsi:type="dcterms:W3CDTF">2010-10-27T18:53:24Z</dcterms:modified>
  <cp:revision>5</cp:revision>
  <dc:subject/>
  <dc:title>Возможности деятельности специалиста по социальной работе в решении проблемы одиночества пожилых людей (на примере отделения социального обслуживания на дому граждан пожилого возраста и инвалидов МУ КЦСОН «Гармония» г. Устюжна)</dc:title>
</cp:coreProperties>
</file>