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C28-4D6B-4C34-B02D-224A15C4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61F-DF3B-4816-B880-BD3F8BA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737-CE2F-42BC-AE6B-1EC05930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C71-1401-4F4D-9A50-1F6D6845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B413-0FFA-4374-A1EB-E9F270AA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CD08-AF08-4A0E-813C-2100181F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62C-5FCA-4F04-A184-C0167A3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00DC-3F10-4E0E-A883-094F2F7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B003-66D3-4FCD-821B-1F36D59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218-657A-4B8B-970D-F7E98325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63AF-2D6C-49CC-A489-A3673884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073-1DE6-4155-9723-02E3840F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E461-8028-408C-B580-321B0C2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1285-0495-4967-97F2-2BC91EC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2D5C-CDEB-4D54-BCCF-D769BCC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7364-1D14-4FCB-A1FB-5E0576CA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5BF4-C93B-449D-93EA-BCF133CA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475-A22E-409A-94A8-FDEB5F72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DF9-F326-4154-8EAD-4CA51F21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5BE-63F2-45F1-B019-1B68F55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579-529C-4A46-8E25-71C42B40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721-72EE-41E2-8669-D766BF0A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6B2-71DE-4AFF-B39F-0C43B2F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9F0-D0B1-4F9B-A260-C0FC9F5A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386-EACA-4069-8041-229C514E63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344-E5D0-4926-92E5-093F067C2B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08720" cy="439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Однорідні члени речення </a:t>
            </a:r>
            <a:br>
              <a:rPr sz="7200"/>
            </a:b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і</a:t>
            </a:r>
            <a:br>
              <a:rPr sz="7200"/>
            </a:br>
            <a:r>
              <a:rPr b="1" lang="uk-UA" sz="7200" spc="-1" strike="noStrike">
                <a:solidFill>
                  <a:srgbClr val="ff3300"/>
                </a:solidFill>
                <a:latin typeface="Comic Sans MS"/>
              </a:rPr>
              <a:t>коми</a:t>
            </a: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 між ними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916000" y="259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На допомогу учнев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62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81342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Comic Sans MS"/>
              </a:rPr>
              <a:t>Прочитай реченн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mic Sans MS"/>
              </a:rPr>
              <a:t>Ліс одягнувся в </a:t>
            </a:r>
            <a:r>
              <a:rPr b="0" lang="uk-UA" sz="6000" spc="-1" strike="noStrike">
                <a:solidFill>
                  <a:srgbClr val="33cc33"/>
                </a:solidFill>
                <a:latin typeface="Comic Sans MS"/>
              </a:rPr>
              <a:t>біле, пухнасте, чарівне</a:t>
            </a:r>
            <a:r>
              <a:rPr b="0" lang="uk-UA" sz="6000" spc="-1" strike="noStrike">
                <a:solidFill>
                  <a:srgbClr val="000000"/>
                </a:solidFill>
                <a:latin typeface="Comic Sans MS"/>
              </a:rPr>
              <a:t> вбрання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4480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581120" cy="259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3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79930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omic Sans MS"/>
              </a:rPr>
              <a:t>Зверни увагу на сло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278136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Чому між ними стоять ко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11280" y="151920"/>
            <a:ext cx="694512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Знайдемо підмет і присудок в цьому реченні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Ліс</a:t>
            </a: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 – підмет.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саме про нього говориться в реченні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Ліс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(що зробив?) </a:t>
            </a: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одягнувс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(це присудок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74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29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с одягнувся у яке вбранн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729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9200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...біле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пухнасте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чарівне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Comic Sans MS"/>
              </a:rPr>
              <a:t>- це однорідні члени реченн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294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Comic Sans MS"/>
              </a:rPr>
              <a:t>Однорідні члени речення – це такі слова, які відповідають на одне і те ж саме запитання і належать до одного і того ж самого слов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Comic Sans MS"/>
              </a:rPr>
              <a:t>Між однорідними членами речення на письмі ставляться коми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5:28Z</dcterms:created>
  <dc:creator>student</dc:creator>
  <dc:description/>
  <dc:language>en-US</dc:language>
  <cp:lastModifiedBy>student</cp:lastModifiedBy>
  <dcterms:modified xsi:type="dcterms:W3CDTF">2005-10-21T14:35:45Z</dcterms:modified>
  <cp:revision>12</cp:revision>
  <dc:subject/>
  <dc:title>Однорідні члени речення  і коми між ни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