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28F-37E7-4E25-AEBF-9E5CE3C0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8ED-5D48-4675-8332-3BAE5FAA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DED-E95D-469D-BC31-AF4B92C3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59C-975A-40D4-9124-9416F34C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0942-4FA4-4C5D-B316-9C7BAFAB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E06-BC51-4F36-8B28-855657F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4F24-B8C5-4FC4-B117-10C80536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3152-8338-455A-BF6C-F98DCE99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FA71-2957-4142-AF24-2CA9742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71CD-9E8F-4129-A1C2-F49CDBEE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51AD-FE3D-46EE-BD23-5CEE852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249-320A-4171-9128-C1BA645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B765-5969-45A1-AE5D-273C330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EDFA-1ECB-45C8-832A-3E621E34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5B0C-1694-4F58-A300-A653686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D268-0E5B-41B3-A68A-F5585AE6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D200-B303-4F07-A627-BA18C54B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796-A618-41A8-9714-EDA4ABE5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3CC-68BE-4531-8953-E163B0D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A72-70E9-45CA-8FF4-266A89E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A7C-F6D0-4448-9DCD-4C550E19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C80-8B14-4578-969F-A96AA87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0AA-7498-46CE-BFA0-5C2EE7B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E72-F6F6-481D-8113-2452CC30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0EC-9A43-4673-A816-1E8158398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97B-4A84-4118-B351-35982E8B0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4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огическая модель БД информацион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2200" y="476280"/>
            <a:ext cx="8497800" cy="6039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67780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440" y="404640"/>
            <a:ext cx="56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техническ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520" y="4149720"/>
            <a:ext cx="57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программному обеспеч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800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цессор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8048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выш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тивную память не ниже 128 Мбай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сткий диск не менее 2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мер свободного пространства на жестком диске компьютера не менее 1Гб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копитель на гибких магнитных дисках 3.5” или устройство чтения компакт-дис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ветной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VGA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итор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чатающее устрой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ройство ввода клавиату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нипулятор мыш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581360"/>
            <a:ext cx="80074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ства визуальной разработки 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 при поддержке операционной системы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X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рассчитана на работу под управлением ОС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'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2000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P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Д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land Database Engine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5, которая поставляется вместе с пакетом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6, а также вместе с дистрибутивом данной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15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ое меню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97800" cy="60991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сотруд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30064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кета объекта недвиж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80000" cy="60422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бавление объекта в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29640" y="6524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67640" cy="60771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грузка объявл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9562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3184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чет о расходах на рекла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752400"/>
            <a:ext cx="720252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260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можности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560" y="83628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редактирования отчета после формирова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спорт отчетов в программы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стрый поиск по справочник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граничение доступа пользователей к систем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95280" y="1484280"/>
          <a:ext cx="8388360" cy="4233960"/>
        </p:xfrm>
        <a:graphic>
          <a:graphicData uri="http://schemas.openxmlformats.org/drawingml/2006/table">
            <a:tbl>
              <a:tblPr/>
              <a:tblGrid>
                <a:gridCol w="3932280"/>
                <a:gridCol w="2305080"/>
                <a:gridCol w="215100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ья зат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разработ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разработчик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раты на внедр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есет покупатель)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П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ие 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ее (зарплата, амортизация, электроэнер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032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5352,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олагаемое количество внедр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 внед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770840" y="541440"/>
            <a:ext cx="59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траты на разработку и внедрение ИС «Рекла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73120" y="6446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0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матизировать рабочее место менеджера по рекламе компании ООО «Деловая недвижимость»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760" y="260280"/>
            <a:ext cx="33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Цель создания систе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000" y="177336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27664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специфику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организацию и уровень автоматизации деятельност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ть обзор программных продуктов, автоматизирующих деятельность агентст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ализовать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руководство пользователя для работы с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3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8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ономическая эффективность от внед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8480" y="1390680"/>
            <a:ext cx="6705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программы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7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имость внедрения ИС «Реклам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компании «Деловая недвижимость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4068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довой экономический эффек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внедрения ИС «Реклама»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7282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эффициент эффективн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ок окупаем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 ме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439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шенные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00840" y="6477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052640"/>
            <a:ext cx="8101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ла изучена специфика рекламной деятельности в агентствах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а организация и уровень автоматизации деятельности компании ООО «Деловая недвижимост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 обзор программных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техническое задание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 технический проект на создание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чно реализована ИС «Реклам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но руководство пользовате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читана эффективность от внедрения ИС «Рекл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684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ПЛОМНЫЙ ПРО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: Автоматизированное рабоч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менеджера по реклам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ОО «Деловая недвижимость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333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тайски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 И.И. Ползу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3604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федра «Информационные системы в экономик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9440" y="4365720"/>
            <a:ext cx="78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пломник группы 5 ПИЭ-0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кач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ководитель проекта доцент кафедра ИСЭ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ндидат технических нау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рин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4880" y="6308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рнаул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т расходов на рекла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готовка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слеживание выходов рекла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прайс-листа объектов недвиж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ирование отчетов о расходах на рекла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4600" y="955800"/>
            <a:ext cx="55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овные задачи менеджера по рекл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928000" cy="4964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35244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Рекламирование объек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4237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цесс «Учет расходов на реклам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48643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836280"/>
            <a:ext cx="7507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ов сотруд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С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дение списка объектов недвижимости, которые необходимо рекламирова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прайс-листа объектов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ая выгрузка рекламного объявления по определенным шаблон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т расходов на рекламу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ов по рекламе по каждому объекту недвиж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матическое формирование отчета по рекламе по всему агентству недвижимости в разрезе аг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возможности редактирования отчета после форм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уществление экспорта отчетов в программы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можность быстрого изменения формы отчета без изменения исходного текста программ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быстрого поиска по справочник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разграничения доступа пользователей к систе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здание архивных копий справочников и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стой интуитивно понятный интерфей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ебования к систе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890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ализ программ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692280"/>
          <a:ext cx="8207280" cy="5867280"/>
        </p:xfrm>
        <a:graphic>
          <a:graphicData uri="http://schemas.openxmlformats.org/drawingml/2006/table">
            <a:tbl>
              <a:tblPr/>
              <a:tblGrid>
                <a:gridCol w="4895640"/>
                <a:gridCol w="1441440"/>
                <a:gridCol w="187020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 «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nt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фирмы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ЭЛКО Технология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ов сотрудник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СМ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ение списка объектов 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прайс-листа о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ая выгрузка рекламного объявления п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ным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блон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т расходов на рекламу по каждому объект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виж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томатическое формирование отчетов по расходам 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ламу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редактирования отчета посл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орт отчетов в программы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d</a:t>
                      </a: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и 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ь быстрого изменения формы отчета без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я исходного текста программ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ый поиск по справочника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граничение доступа пользователей к систем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здание архивных копий справочников и докумен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9520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уктура базы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1157400"/>
          <a:ext cx="885672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7400"/>
                    <a:ext cx="885672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51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ункциональная структура ИС «Рекла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99840" y="644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8000" y="1125360"/>
          <a:ext cx="88567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8567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3:33:02Z</dcterms:created>
  <dc:creator>Наталья</dc:creator>
  <dc:description/>
  <dc:language>en-US</dc:language>
  <cp:lastModifiedBy>Super</cp:lastModifiedBy>
  <dcterms:modified xsi:type="dcterms:W3CDTF">2006-06-12T16:17:49Z</dcterms:modified>
  <cp:revision>97</cp:revision>
  <dc:subject/>
  <dc:title>ДИПЛОМНАЯ РАБОТА НА ТЕМУ:</dc:title>
</cp:coreProperties>
</file>