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A10-533E-4F6A-A229-5B682FBF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592-D60C-4760-8ADB-3EBE658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07F-E1DD-41B0-992C-3B768874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98A-1B99-4E8A-8814-F7F1AEC8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797F-1F44-481F-B3DA-1DC2B76E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6DCE-EDA5-4F58-B328-8BF519E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974C-E384-4CFC-A0B2-704D8EA2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2124-3EA5-4574-8AA0-37C6996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8307-5E18-4F43-83E9-097876FA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A764-CEDD-4845-8DDF-14E29913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9DEF-9AEE-4C87-8006-3BFE3052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782-65E0-49D6-B5DC-DEE4EC19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92C2-6D3B-439E-B279-6FDEDCDA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9EB5-0A65-467F-BDA9-201A5D14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74D5-5F84-48F3-8CFF-F0941F38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5647-9B8A-44F5-ABEC-1DF8CD1A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FBC6-5353-4DC9-8F82-35F22B18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809-91E5-4DD2-98E2-AB5EB5BE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DF1-88D1-47C0-8B40-C1EA71F9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E22-51CA-45AC-A3FE-64F342D5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B67-2C24-4AEA-8271-A611BD10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078-4F74-4869-888F-53D450A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374-84B4-4C6D-B32A-A5B81FF1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238-73E2-42D5-B4B7-EDAF2E60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E92F-5B69-42F2-A048-73E6EFCF60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A011-EB9B-4A7E-B7FD-7C819A09E6D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Исследование форм организации физкультурно-массовой работы в детском оздоровительном лагере</a:t>
            </a:r>
            <a:br>
              <a:rPr sz="3200"/>
            </a:b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(на примере туризма)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3500280"/>
            <a:ext cx="74901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удентки 420 групп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мичевой Юлии Александровн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ый руководител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.п.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гарков Алексей Александрови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46120" y="270000"/>
            <a:ext cx="820260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Рекомендаци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бота в лагере должна строиться с учётом ближних и дальних перспекти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актические занятия можно проводить как на местности так и в помещении, в зависимости от темы и погодных услов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нятия можно проводить с полным составом детей, по группам, индивидуаль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еоретические и практические занятия должны проводиться с привлечением наглядных материалов, использованием новейших методи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подаватель должен воспитывать у детей умения и навыки самостоятельного принятия решени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проведения теоретических и практических занятий рекомендуется привлекать учителей-предметников, опытных судей, инструкторов, врачей, спасателей, спортсмено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екомендуется все полученные теоретические навыки отрабатывать в однодневных, многодневных, категорийных и степенных похода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 целью выявления знаний, умений и навыков рекомендуется участие в районных, областных соревнованиях спортивного туризм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ая выпускная квалификационная работа направлена на изучение организации исследования форм организации физкультурно-массовой работы в детском оздоровительном лагере. Лагерь спортивного туризма позволяет раскрыть индивидуальные, психологические особенности детей. Учит их овладевать туристскими навыками, позволяющими свободно жить и ориентироваться в природе, найти правильное решение выхода из критической ситу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ак же лагерь спортивного туризма позволяет успешно развиваться в коллективе каждому участнику, воспитывает творческую, самостоятельную, активную, ответственную лич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ие лагеря - эффективная форма обучения любому виду туризма. Возможности лагеря не ограничиваются только работой с новичками. Они позволяют успешно отрабатывать элементы сложной туристской техни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о-краеведческий лагерь, расположенный в пределах родного края (40-50 км от города), экономичен для государства и для семьи, что немаловажно при современных сложностях в финансировании системы образования (исключает значительные расходы на проезд участников и руководителей; создаёт возможность использования транспортных средств проводящей организации и родителей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сследовать формы  физкультурно-массовой работы  в детском 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ъект исследования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формы организации физкультурно-массовой раб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мет исследования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Гипотеза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Есл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явить особенности форм физкультурно-массовой работы в детском оздоровительном лагере на примере туризма,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можно будет организовать эффективное их использо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литературу и другие источники информации по теме, исслед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и дать характеристику форм  организации  физкультурно-массовой  работы в детском оздоровительном лагере на примере туризма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наиболее эффективные формы физкультурно-массовой работы в детском оздоровительном лагере на примере туризм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рекомендации по использованию материалов работ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База практик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ский оздоровительный лагерь «Каскад» при районной станции юных турис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ОРГАНИЗАЦИЯ СПОРТИВНОГО ТУРИЗМА В ОБРАЗОВАТЕЛЬНЫХ УЧРЕЖДЕНИЯХ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рия развития спортивного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(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ПЕДАГОГИЧЕСКИЕ ОСНОВЫ ОРГАНИЗАЦИИ СПОРТИВНОГО ТУРИЗМА В ДЕТСКОМ ОЗДОРОВИТЕЛЬНОМ ЛАГЕРЕ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и организации спортивного туризма в детском оздоровительном лагер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арактеристика форм организации спортивного туризма в детском оздоровительном лагере и их эффектив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Формы работы с детьм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Туристские кружк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Туристские соревнов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Туристские сле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Археологические экспеди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Туристические поход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Экскурс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 Краеведческие конкурс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 Итоговые краеведческие игры по краткосрочным программа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 Профильный туристский лагерь (водный поход, спортивное   ориентирование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 Краеведческие викторин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1. Конкурсы: эмблем, художественной самодеятельности, поваров, «боевых листков», газет о походе и д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2. Конкурс художественной самодеятельности и туристской песн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21:33Z</dcterms:created>
  <dc:creator>USER</dc:creator>
  <dc:description/>
  <dc:language>en-US</dc:language>
  <cp:lastModifiedBy>Максим</cp:lastModifiedBy>
  <dcterms:modified xsi:type="dcterms:W3CDTF">2010-10-31T17:15:50Z</dcterms:modified>
  <cp:revision>5</cp:revision>
  <dc:subject/>
  <dc:title>Исследование форм организации физкультурно-массовой работы в детском оздоровительном лагере (на примере туризма)</dc:title>
</cp:coreProperties>
</file>