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E6B-3258-45A2-A578-33D3479A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009-E87A-43EB-8669-68E8665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2E1-0A73-4D19-A91A-CCBFE8A3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9BB-FD11-40FA-BAE8-3430A243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2DE8-8C8F-45B0-9F75-28CE69A6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CB92-C8E8-4803-A017-E2A3E64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954-309B-4F36-9CCE-9D6804C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948-F2F9-49E5-8CF9-6EB0C9A3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0CBC-DB98-4B07-87F6-70A5B88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022-D7EF-403C-8890-588E2F72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74E5-5FD7-46FE-9767-768E0DD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A93-51BF-4A53-9F89-7276B7E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EC5A-88FD-4F12-B658-D8E1FC0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5E7-DAB6-4CDF-AE99-38CB2C14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8CC9-DC8A-4EFF-8B0B-969D25A4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3F4-C7A6-4954-9ABF-2F36401A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161D-D9E8-4793-B866-CC77CAD2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1827-5F5A-4C6D-B48C-51D9B8AC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20F9-6BF0-46B4-8D50-D9AAB097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40E1-7A66-4D1C-ABE0-C9D5520B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9910-12E5-4319-935D-45E8B689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7C36-323F-46C2-B4C5-B4D2848E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0C3-80E0-447E-A28B-72040725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C8C0-429C-47FE-BB4A-08FBBCF9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E38A3-59CF-4923-BAAE-2314A5E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7B12-2E37-4229-9767-8E87919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74DD-AADE-4E44-B00D-0C6A7287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B2BF-E8D7-402F-9858-6441EA53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18BF-BB70-4311-8E90-3D1E0A66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1FDC-2148-40F7-AB2A-01DBF74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F89E-6AD0-4273-B2DF-522302C8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E251-24BB-42F9-994D-3C6A178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9B32-ACA6-42A9-B5B0-775E986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66D-6FCE-4873-9567-038D97B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4DECA-4255-44C0-A2DE-5E989B6A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81EA-3E91-4381-9F0A-382437F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FFFC-95A9-43F8-9222-6E3BDE9D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3809-3035-4A1E-BE59-5896089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8F9A-3695-43D8-9EBC-3B8D853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9A23-9043-4FC6-81CF-BDA090B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C8BE-D86D-4019-8ED8-6DF9733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9A1A-E086-4143-BDC3-B9901B20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8C4B-45C0-40AB-A4C4-115FF0FE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A346-8EA7-4176-8FDD-4292E819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379-87A2-4C72-AF40-D44352A7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89D7-DBE1-4991-875D-E6B742F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B4A79-A329-414B-A66B-6F589438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123C5-A9EE-4BC9-8053-CEDCE4A7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7FC7-508F-46D6-94C3-718EC8B4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8010-D637-4D1E-889B-636B2FE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3842F-1F65-4107-87A5-415B8CE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14A0-6CA4-4CB3-B199-3CED5011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EB09-4E63-4C14-A65F-E34DA4D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91E1-7151-4C9A-B7E6-EDEE7BA0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7C34D-DE9E-43F8-8F4A-66C1B541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3EA-9C8F-49B1-80B0-6DD53B5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5ED5-7D85-4A1C-A25F-6F46FA1F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E45-8C32-4B80-8502-28DFC4B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B92-3A6F-4ACD-856B-BDD83E1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639-7AE6-46B5-9EAC-5E01CB3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72B-E15B-4A3E-ADEB-27161896A2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614-3767-44D0-B585-16E745EA02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Овал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3C8-FB5B-4136-9CF8-4EFCE1AE32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A850-AC72-4E76-A88A-C1A8E6C45D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9E1E-025C-4F13-BA93-2099689AA3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пломная работа</a:t>
            </a:r>
            <a:br>
              <a:rPr sz="6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тему</a:t>
            </a:r>
            <a:br>
              <a:rPr sz="6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31720" y="3285720"/>
            <a:ext cx="740700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РСОНАЛА В ОРГАНИЗАЦИИ (НА ПРИМЕРЕ ОАО «ЛЕБЕДИНСКИЙ ГОК») </a:t>
            </a:r>
            <a:br>
              <a:rPr sz="26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772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организации системы управления персоналом и системы аттестации персонала на ОАО «Лебединский ГОК»</a:t>
            </a:r>
            <a:br>
              <a:rPr sz="2900"/>
            </a:br>
            <a:br>
              <a:rPr sz="2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Организационная структура службы управления персоналом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1420920" y="2279520"/>
            <a:ext cx="7510320" cy="4370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САНЁК\Pictures\images (4).jpg"/>
          <p:cNvPicPr/>
          <p:nvPr/>
        </p:nvPicPr>
        <p:blipFill>
          <a:blip r:embed="rId2"/>
          <a:stretch/>
        </p:blipFill>
        <p:spPr>
          <a:xfrm>
            <a:off x="4786200" y="321480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Users\САНЁК\Pictures\images (4).jpg"/>
          <p:cNvPicPr/>
          <p:nvPr/>
        </p:nvPicPr>
        <p:blipFill>
          <a:blip r:embed="rId3"/>
          <a:stretch/>
        </p:blipFill>
        <p:spPr>
          <a:xfrm>
            <a:off x="4786200" y="4214880"/>
            <a:ext cx="723960" cy="257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C:\Users\САНЁК\Pictures\images (4).jpg"/>
          <p:cNvPicPr/>
          <p:nvPr/>
        </p:nvPicPr>
        <p:blipFill>
          <a:blip r:embed="rId4"/>
          <a:stretch/>
        </p:blipFill>
        <p:spPr>
          <a:xfrm>
            <a:off x="4786200" y="5429160"/>
            <a:ext cx="723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ядок проведения аттестации персонала на ОАО «Лебединский ГОК»</a:t>
            </a:r>
            <a:br>
              <a:rPr sz="39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правление по кадрам комбината готовит Приказ о проведении аттестации в ОАО «Лебединский ГОК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дение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рка достоверности результатов аттестационного собеседова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едание Аттестационной комис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роприятия по завершению аттестации работни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3. Разработка рекомендаций по совершенствованию системы аттестации персонала ОАО»Лебединский ГОК»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«Assessment Сenter»</a:t>
            </a:r>
            <a:r>
              <a:rPr b="0" i="1" lang="ru-RU" sz="4000" spc="-1" strike="noStrike">
                <a:solidFill>
                  <a:srgbClr val="7030a0"/>
                </a:solidFill>
                <a:latin typeface="Corbe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  <a:ea typeface="Times New Roman"/>
              </a:rPr>
              <a:t>Ассессмент цент – это метод оценки персона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нованный на использовании взаимодополняющих методи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риентированный на оценку реальных качеств сотрудни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психологических и профессиональных особеннос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ответствия требованиям должностных позиц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явление потенциальных возможностей специалистов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дискуссии и командные иг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в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ловые игры (моделирование ситуаци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левые игры и практические упраж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ы и опросни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роение новой системы оценки в ОАО "Лебединский ГОК" </a:t>
            </a:r>
            <a:br>
              <a:rPr sz="4300"/>
            </a:b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Times New Roman"/>
              </a:rPr>
              <a:t>Этапы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: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34960" y="3285720"/>
            <a:ext cx="7499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ка проблем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вление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альтернати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ончательный выбо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ализация, контрол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годы от внедр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434960" y="164268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Качественная оценка сотрудников по компетенция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дбор и обучение резерва руководящего состава на предприяти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ысокая достоверность результатов оце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нструмент для подготовки программ по обучению и развитию персонала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ешения, связанные с персоналом, становятся «прозрачными» и основанными на учете различных точек зрения, мнений многих сотрудников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Ассессмент-центры можно хорошо комбинировать с другими новыми инструментами и создавать всеобъемлющую основу для принятия решений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ышеизложенное доказывает теоретическую и практическую значимость  проделанной работы и позволяет утверждать, что наилучший экономический эффект деятельности  организации в большей степени определяется системой управления персоналом организ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8480" y="2642760"/>
            <a:ext cx="74991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</a:t>
            </a:r>
            <a:br>
              <a:rPr sz="7200"/>
            </a:b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1. Теоретические аспекты аттестации персонала в организ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34960" y="2786040"/>
            <a:ext cx="749952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ттестация персонала – важная составная часть управления персоналом, наиболее эффективная форма оценки кадров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ЦЕЛИ АТТЕСТАЦИИ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сотрудников для дальнейшего продвижения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профессиональной пригодност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пределение потенциала предприят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3373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Транслирование единых корпоративных целей, стандартов и ценносте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соответствия результативности и компетенции персонала целям и требованиям организ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ценка выполнения профессиональных функций</a:t>
            </a: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ts val="211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АТТЕСТ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вар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ап формализации методик, стандартов, прав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аботка «Положения об аттестации персонал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бная аттестац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готовительный этап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дение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ведение итогов аттестац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оценки качества работы аттестуемых работ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4960" y="2143080"/>
            <a:ext cx="74995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становление стандартов и норматив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на основании письменных характеристик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очные шкалы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ценка рабочего повед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2. Анализ системы аттестации персонала на комбинате ОАО «Лебединский ГОК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68" name="Содержимое 16" descr="n1photo.pl.gif"/>
          <p:cNvPicPr/>
          <p:nvPr/>
        </p:nvPicPr>
        <p:blipFill>
          <a:blip r:embed="rId1"/>
          <a:stretch/>
        </p:blipFill>
        <p:spPr>
          <a:xfrm>
            <a:off x="2786040" y="2357280"/>
            <a:ext cx="4643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характеристика ОАО «Лебединский ГОК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АО «Лебединский горно-обогатительный комбинат» (ЛГОК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входит в состав холдинга «МЕТАЛЛОИНВЕСТ» и является крупнейшим в России предприятием по добыче и обогащению железной руды и производству высококачественного сырья для черной металлург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272" name="Содержимое 14" descr="images (1).jpg"/>
          <p:cNvPicPr/>
          <p:nvPr/>
        </p:nvPicPr>
        <p:blipFill>
          <a:blip r:embed="rId1"/>
          <a:stretch/>
        </p:blipFill>
        <p:spPr>
          <a:xfrm>
            <a:off x="2000160" y="1214280"/>
            <a:ext cx="1071720" cy="100044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15"/>
          <p:cNvSpPr/>
          <p:nvPr/>
        </p:nvSpPr>
        <p:spPr>
          <a:xfrm>
            <a:off x="4505760" y="157176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Горны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C:\Users\САНЁК\Pictures\15361.jpeg"/>
          <p:cNvPicPr/>
          <p:nvPr/>
        </p:nvPicPr>
        <p:blipFill>
          <a:blip r:embed="rId2"/>
          <a:stretch/>
        </p:blipFill>
        <p:spPr>
          <a:xfrm>
            <a:off x="2000160" y="2357280"/>
            <a:ext cx="1047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8"/>
          <p:cNvSpPr/>
          <p:nvPr/>
        </p:nvSpPr>
        <p:spPr>
          <a:xfrm>
            <a:off x="4572000" y="242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концентрата железорудного с массовой долей железа менее 69,5% и более 69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:\Users\САНЁК\Pictures\images (2).jpg"/>
          <p:cNvPicPr/>
          <p:nvPr/>
        </p:nvPicPr>
        <p:blipFill>
          <a:blip r:embed="rId3"/>
          <a:stretch/>
        </p:blipFill>
        <p:spPr>
          <a:xfrm>
            <a:off x="2000160" y="3714840"/>
            <a:ext cx="1047960" cy="928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0"/>
          <p:cNvSpPr/>
          <p:nvPr/>
        </p:nvSpPr>
        <p:spPr>
          <a:xfrm>
            <a:off x="4397400" y="40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окаты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1"/>
          <p:cNvSpPr/>
          <p:nvPr/>
        </p:nvSpPr>
        <p:spPr>
          <a:xfrm>
            <a:off x="45720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изводство горячебрикетированного железа (ГБЖ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C:\Users\САНЁК\Pictures\images (3).jpg"/>
          <p:cNvPicPr/>
          <p:nvPr/>
        </p:nvPicPr>
        <p:blipFill>
          <a:blip r:embed="rId4"/>
          <a:stretch/>
        </p:blipFill>
        <p:spPr>
          <a:xfrm>
            <a:off x="2000160" y="4857840"/>
            <a:ext cx="10717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:\Users\САНЁК\Pictures\images (4).jpg"/>
          <p:cNvPicPr/>
          <p:nvPr/>
        </p:nvPicPr>
        <p:blipFill>
          <a:blip r:embed="rId5"/>
          <a:stretch/>
        </p:blipFill>
        <p:spPr>
          <a:xfrm>
            <a:off x="3214800" y="142884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C:\Users\САНЁК\Pictures\images (4).jpg"/>
          <p:cNvPicPr/>
          <p:nvPr/>
        </p:nvPicPr>
        <p:blipFill>
          <a:blip r:embed="rId6"/>
          <a:stretch/>
        </p:blipFill>
        <p:spPr>
          <a:xfrm>
            <a:off x="3214800" y="250020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C:\Users\САНЁК\Pictures\images (4).jpg"/>
          <p:cNvPicPr/>
          <p:nvPr/>
        </p:nvPicPr>
        <p:blipFill>
          <a:blip r:embed="rId7"/>
          <a:stretch/>
        </p:blipFill>
        <p:spPr>
          <a:xfrm>
            <a:off x="3214800" y="3786120"/>
            <a:ext cx="1361880" cy="723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C:\Users\САНЁК\Pictures\images (4).jpg"/>
          <p:cNvPicPr/>
          <p:nvPr/>
        </p:nvPicPr>
        <p:blipFill>
          <a:blip r:embed="rId8"/>
          <a:stretch/>
        </p:blipFill>
        <p:spPr>
          <a:xfrm>
            <a:off x="3214800" y="4929120"/>
            <a:ext cx="1361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8480" y="1213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67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основание комбината, начало горно-капитальных рабо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1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– введен в эксплуатацию Лебединский кварцитный карьер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72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введена в эксплуатацию 1-я очередь горно-обогатительного комбината, получена первая тонна железорудного концентрат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1995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начато строительство первой очереди цеха горячебрикетированного железа (ЦГБЖ-1), получена первая продукция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3 год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 - добыта миллиардная тонна железистых кварцитов, внедрена единая автоматизированная информационная система управления производство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2006 год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полномочия единоличного исполнительного органа ОАО «Лебединский ГОК» переданы управляющей компании ООО «УК МЕТАЛЛОИНВЕСТ»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5:23:16Z</dcterms:created>
  <dc:creator>САНЁК</dc:creator>
  <dc:description/>
  <dc:language>en-US</dc:language>
  <cp:lastModifiedBy>Ната</cp:lastModifiedBy>
  <dcterms:modified xsi:type="dcterms:W3CDTF">2010-06-27T07:58:36Z</dcterms:modified>
  <cp:revision>58</cp:revision>
  <dc:subject/>
  <dc:title>АТТЕСТАЦИЯ ПЕРСОНАЛА В ОРГАНИЗАЦИИ (НА ПРИМЕРЕ ОАО «ЛЕБЕДИНСКИЙ ГОК»)</dc:title>
</cp:coreProperties>
</file>