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8BC-7A2F-4FE1-A130-E7A94AD2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03B-986D-4C8F-97FB-A6DEE3B4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0B3-4C8C-44F3-879A-0931B94C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73D2-B19A-470C-AA3C-7B0E0ACD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7B0E-6B11-4F1D-AF5A-7FBF1E8F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4350-4DB4-4E4B-BA26-D9F023F8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7909-3150-4103-8553-81A40B41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E24E-FD6B-4F86-88AD-58476D80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86F7-00B2-4A7D-8EC6-AC5DDE3D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2385-133C-4B6C-935A-E3CFD620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6A12-B15C-4F05-97D1-3F60C037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3D3-D502-4CAC-BCEA-D83FB9E3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B866-BD68-419D-898C-D18537E4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3AD8-D031-4FFE-B21D-E0DB40E4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1C5B-4C91-4EEA-88C7-253B35EE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3B27-7E8A-44F8-A05F-1A410FF5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75CE-967B-47DD-A878-AE277519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97760-65D3-4D20-A9EA-93E06776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AAE71-24E9-4644-9868-F14DB867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D731B-66EC-46DB-84BB-76FCAA01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1DF82-AFE3-4517-AC5D-B422E263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3283B-F853-4DDF-9E83-76158A0F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F71-4CA0-42CF-91AE-566B71EF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6DD3B-AB26-4299-BE52-8661ADCC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B85D3-509E-440D-8BB4-012A4619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EB6EB-5965-429F-9B26-B750D3AE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D9466-2F62-499C-BABD-5ACAC3F2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2649-2B53-45E2-9A5F-34352D9E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EA7DE-34CA-4653-9310-FD62ABED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D1EBB-549C-4DBE-BF49-FB2F218F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62883-2BB4-4163-B404-3453F301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5D71F-DA1A-48D5-A9C4-C9902B73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5CDAD-99E9-4B29-8B22-781C0584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F9D-7383-474B-B9B7-F19C8B69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5BAD1-265E-4262-8565-5DD86717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84D78-990E-4EB2-A5D0-87BF571B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D048B-64B7-453D-8CC7-52B6C88A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2064A-7291-4967-9554-0D2DA126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97B28-BF3C-43B0-AB9C-1EF5C3AE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017B7-4820-4570-A142-B838EB75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D0314-5F3C-4F1B-9F90-6455B001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2D725-4E44-4DE2-80C3-6FCA3911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861D5-1668-4487-BAA8-7D951789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426BB-26FB-46FD-9731-4EBB9504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4C8-0CD3-492F-9B5B-3E547966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866AE-718B-428D-B749-D13AB370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10987-B87E-4DCF-91A3-3CD9D9F4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FB276-0353-4C26-916D-5D86434F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C1C92-937E-497C-BE9D-EC860FA3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7C3BF-1FDF-4A29-8996-8CB32B92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C65EE-768A-4B45-AAB3-7AEA60A9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D030B-B26C-425B-84A1-AF3DD6E5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781EC-944F-4FDF-A269-524204F9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D3B01-25E1-43D9-AAAA-C1F0F3C1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32A55-E34E-4065-BB5B-C4692382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66C2-FFB3-4EF6-A04E-FBF81A5E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A930C-312B-4193-B61E-405FF7F6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CA3-F3AF-40D8-8949-ACD2F307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A213-0009-4A79-8B69-CD578616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5157-7ABB-46F8-87A6-47627DF0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4656-0C81-4F19-8CDE-3ADA3518588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F831-5281-4857-B8AC-2A77640EB97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FD50-AB2D-4CCF-A6A9-FE38EBBF71F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7EAA-0F4A-43FE-9523-26931A390B5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333D-B1D7-405C-923E-F25A50A8B4E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пломная работа</a:t>
            </a:r>
            <a:br>
              <a:rPr sz="6000"/>
            </a:b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тему</a:t>
            </a:r>
            <a:br>
              <a:rPr sz="6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431720" y="3285720"/>
            <a:ext cx="7407000" cy="2714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ПЕРСОНАЛА В ОРГАНИЗАЦИИ (НА ПРИМЕРЕ ОАО «ЛЕБЕДИНСКИЙ ГОК») </a:t>
            </a:r>
            <a:br>
              <a:rPr sz="2600"/>
            </a:b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85560" y="142920"/>
            <a:ext cx="749772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организации системы управления персоналом и системы аттестации персонала на ОАО «Лебединский ГОК»</a:t>
            </a:r>
            <a:br>
              <a:rPr sz="2900"/>
            </a:br>
            <a:br>
              <a:rPr sz="2900"/>
            </a:b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Организационная структура службы управления персоналом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87" name="Содержимое 4" descr=""/>
          <p:cNvPicPr/>
          <p:nvPr/>
        </p:nvPicPr>
        <p:blipFill>
          <a:blip r:embed="rId1"/>
          <a:stretch/>
        </p:blipFill>
        <p:spPr>
          <a:xfrm>
            <a:off x="1420920" y="2279520"/>
            <a:ext cx="7510320" cy="43704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Users\САНЁК\Pictures\images (4).jpg"/>
          <p:cNvPicPr/>
          <p:nvPr/>
        </p:nvPicPr>
        <p:blipFill>
          <a:blip r:embed="rId2"/>
          <a:stretch/>
        </p:blipFill>
        <p:spPr>
          <a:xfrm>
            <a:off x="4786200" y="3214800"/>
            <a:ext cx="723960" cy="257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C:\Users\САНЁК\Pictures\images (4).jpg"/>
          <p:cNvPicPr/>
          <p:nvPr/>
        </p:nvPicPr>
        <p:blipFill>
          <a:blip r:embed="rId3"/>
          <a:stretch/>
        </p:blipFill>
        <p:spPr>
          <a:xfrm>
            <a:off x="4786200" y="4214880"/>
            <a:ext cx="723960" cy="257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C:\Users\САНЁК\Pictures\images (4).jpg"/>
          <p:cNvPicPr/>
          <p:nvPr/>
        </p:nvPicPr>
        <p:blipFill>
          <a:blip r:embed="rId4"/>
          <a:stretch/>
        </p:blipFill>
        <p:spPr>
          <a:xfrm>
            <a:off x="4786200" y="5429160"/>
            <a:ext cx="723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 проведения аттестации персонала на ОАО «Лебединский ГОК»</a:t>
            </a:r>
            <a:br>
              <a:rPr sz="39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этап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34960" y="2500200"/>
            <a:ext cx="7499520" cy="37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правление по кадрам комбината готовит Приказ о проведении аттестации в ОАО «Лебединский ГОК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рмирование аттестационной комисс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ведение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ттестационного собеседов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верка достоверности результатов аттестационного собеседов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седание Аттестационной комисс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роприятия по завершению аттестации работник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а 3. Разработка рекомендаций по совершенствованию системы аттестации персонала ОАО»Лебединский ГОК»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434960" y="1999800"/>
            <a:ext cx="7499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orbel"/>
                <a:ea typeface="Times New Roman"/>
              </a:rPr>
              <a:t>«Assessment Сenter»</a:t>
            </a:r>
            <a:r>
              <a:rPr b="0" i="1" lang="ru-RU" sz="4000" spc="-1" strike="noStrike">
                <a:solidFill>
                  <a:srgbClr val="7030a0"/>
                </a:solidFill>
                <a:latin typeface="Corbel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  <a:ea typeface="Times New Roman"/>
              </a:rPr>
              <a:t>Ассессмент цент – это метод оценки персонал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снованный на использовании взаимодополняющих методи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риентированный на оценку реальных качеств сотрудник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х психологических и профессиональных особенност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ответствия требованиям должностных позиц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явление потенциальных возможностей специалистов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рупповые дискуссии и командные игр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зентац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тервь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ловые игры (моделирование ситуации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олевые игры и практические упражн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сты и опросни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троение новой системы оценки в ОАО "Лебединский ГОК" </a:t>
            </a:r>
            <a:br>
              <a:rPr sz="43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  <a:ea typeface="Times New Roman"/>
              </a:rPr>
              <a:t>Этапы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:</a:t>
            </a:r>
            <a:endParaRPr b="0" lang="en-US" sz="27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434960" y="3285720"/>
            <a:ext cx="7499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иагностика проблем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вление альтернати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ценка альтернати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кончательный выбо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ализация, контрол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годы от внедр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434960" y="164268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Качественная оценка сотрудников по компетенциям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дбор и обучение резерва руководящего состава на предприяти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ысокая достоверность результатов оценк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нструмент для подготовки программ по обучению и развитию персонала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Решения, связанные с персоналом, становятся «прозрачными» и основанными на учете различных точек зрения, мнений многих сотрудников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Ассессмент-центры можно хорошо комбинировать с другими новыми инструментами и создавать всеобъемлющую основу для принятия решений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ышеизложенное доказывает теоретическую и практическую значимость  проделанной работы и позволяет утверждать, что наилучший экономический эффект деятельности  организации в большей степени определяется системой управления персоналом организац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28480" y="2642760"/>
            <a:ext cx="74991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</a:t>
            </a:r>
            <a:br>
              <a:rPr sz="7200"/>
            </a:b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а 1. Теоретические аспекты аттестации персонала в организации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34960" y="2786040"/>
            <a:ext cx="7499520" cy="34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Аттестация персонала – важная составная часть управления персоналом, наиболее эффективная форма оценки кадров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ЦЕЛИ АТТЕСТАЦИИ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ts val="3373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пределение потенциала сотрудников для дальнейшего продвижения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2112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ценка профессиональной пригодност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2112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пределение потенциала предприят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3373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Транслирование единых корпоративных целей, стандартов и ценностей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2112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ценка соответствия результативности и компетенции персонала целям и требованиям организации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2112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ценка выполнения профессиональных функций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211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Ы АТТЕСТ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едварительный этап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ап формализации методик, стандартов, прави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работка «Положения об аттестации персонала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бная аттестац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дготовительный этап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ведение аттестац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дведение итогов аттестац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14200"/>
            <a:ext cx="74995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оценки качества работы аттестуемых работник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434960" y="2143080"/>
            <a:ext cx="74995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становление стандартов и нормативов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ценка на основании письменных характеристик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ценочные шкалы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ценка рабочего поведени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а 2. Анализ системы аттестации персонала на комбинате ОАО «Лебединский ГОК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68" name="Содержимое 16" descr="n1photo.pl.gif"/>
          <p:cNvPicPr/>
          <p:nvPr/>
        </p:nvPicPr>
        <p:blipFill>
          <a:blip r:embed="rId1"/>
          <a:stretch/>
        </p:blipFill>
        <p:spPr>
          <a:xfrm>
            <a:off x="2786040" y="2357280"/>
            <a:ext cx="46436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ая характеристика ОАО «Лебединский ГОК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434960" y="1571400"/>
            <a:ext cx="74995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АО «Лебединский горно-обогатительный комбинат» (ЛГОК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входит в состав холдинга «МЕТАЛЛОИНВЕСТ» и является крупнейшим в России предприятием по добыче и обогащению железной руды и производству высококачественного сырья для черной металлурги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72" name="Содержимое 14" descr="images (1).jpg"/>
          <p:cNvPicPr/>
          <p:nvPr/>
        </p:nvPicPr>
        <p:blipFill>
          <a:blip r:embed="rId1"/>
          <a:stretch/>
        </p:blipFill>
        <p:spPr>
          <a:xfrm>
            <a:off x="2000160" y="1214280"/>
            <a:ext cx="1071720" cy="100044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15"/>
          <p:cNvSpPr/>
          <p:nvPr/>
        </p:nvSpPr>
        <p:spPr>
          <a:xfrm>
            <a:off x="4505760" y="157176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Горные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C:\Users\САНЁК\Pictures\15361.jpeg"/>
          <p:cNvPicPr/>
          <p:nvPr/>
        </p:nvPicPr>
        <p:blipFill>
          <a:blip r:embed="rId2"/>
          <a:stretch/>
        </p:blipFill>
        <p:spPr>
          <a:xfrm>
            <a:off x="2000160" y="2357280"/>
            <a:ext cx="1047960" cy="114300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18"/>
          <p:cNvSpPr/>
          <p:nvPr/>
        </p:nvSpPr>
        <p:spPr>
          <a:xfrm>
            <a:off x="4572000" y="2428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изводство концентрата железорудного с массовой долей железа менее 69,5% и более 69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C:\Users\САНЁК\Pictures\images (2).jpg"/>
          <p:cNvPicPr/>
          <p:nvPr/>
        </p:nvPicPr>
        <p:blipFill>
          <a:blip r:embed="rId3"/>
          <a:stretch/>
        </p:blipFill>
        <p:spPr>
          <a:xfrm>
            <a:off x="2000160" y="3714840"/>
            <a:ext cx="1047960" cy="92844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20"/>
          <p:cNvSpPr/>
          <p:nvPr/>
        </p:nvSpPr>
        <p:spPr>
          <a:xfrm>
            <a:off x="4397400" y="40006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изводство окатыш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21"/>
          <p:cNvSpPr/>
          <p:nvPr/>
        </p:nvSpPr>
        <p:spPr>
          <a:xfrm>
            <a:off x="4572000" y="50007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изводство горячебрикетированного железа (ГБЖ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C:\Users\САНЁК\Pictures\images (3).jpg"/>
          <p:cNvPicPr/>
          <p:nvPr/>
        </p:nvPicPr>
        <p:blipFill>
          <a:blip r:embed="rId4"/>
          <a:stretch/>
        </p:blipFill>
        <p:spPr>
          <a:xfrm>
            <a:off x="2000160" y="4857840"/>
            <a:ext cx="1071720" cy="904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C:\Users\САНЁК\Pictures\images (4).jpg"/>
          <p:cNvPicPr/>
          <p:nvPr/>
        </p:nvPicPr>
        <p:blipFill>
          <a:blip r:embed="rId5"/>
          <a:stretch/>
        </p:blipFill>
        <p:spPr>
          <a:xfrm>
            <a:off x="3214800" y="1428840"/>
            <a:ext cx="1361880" cy="723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C:\Users\САНЁК\Pictures\images (4).jpg"/>
          <p:cNvPicPr/>
          <p:nvPr/>
        </p:nvPicPr>
        <p:blipFill>
          <a:blip r:embed="rId6"/>
          <a:stretch/>
        </p:blipFill>
        <p:spPr>
          <a:xfrm>
            <a:off x="3214800" y="2500200"/>
            <a:ext cx="1361880" cy="723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C:\Users\САНЁК\Pictures\images (4).jpg"/>
          <p:cNvPicPr/>
          <p:nvPr/>
        </p:nvPicPr>
        <p:blipFill>
          <a:blip r:embed="rId7"/>
          <a:stretch/>
        </p:blipFill>
        <p:spPr>
          <a:xfrm>
            <a:off x="3214800" y="3786120"/>
            <a:ext cx="1361880" cy="7239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C:\Users\САНЁК\Pictures\images (4).jpg"/>
          <p:cNvPicPr/>
          <p:nvPr/>
        </p:nvPicPr>
        <p:blipFill>
          <a:blip r:embed="rId8"/>
          <a:stretch/>
        </p:blipFill>
        <p:spPr>
          <a:xfrm>
            <a:off x="3214800" y="4929120"/>
            <a:ext cx="13618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28480" y="12139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1967 год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- основание комбината, начало горно-капитальных рабо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1971 год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– введен в эксплуатацию Лебединский кварцитный карьер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1972 год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- введена в эксплуатацию 1-я очередь горно-обогатительного комбината, получена первая тонна железорудного концентрата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1995 год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- начато строительство первой очереди цеха горячебрикетированного железа (ЦГБЖ-1), получена первая продукция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2003 год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- добыта миллиардная тонна железистых кварцитов, внедрена единая автоматизированная информационная система управления производством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2006 год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- полномочия единоличного исполнительного органа ОАО «Лебединский ГОК» переданы управляющей компании ООО «УК МЕТАЛЛОИНВЕСТ»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5:23:16Z</dcterms:created>
  <dc:creator>САНЁК</dc:creator>
  <dc:description/>
  <dc:language>en-US</dc:language>
  <cp:lastModifiedBy>Ната</cp:lastModifiedBy>
  <dcterms:modified xsi:type="dcterms:W3CDTF">2010-06-27T07:58:36Z</dcterms:modified>
  <cp:revision>58</cp:revision>
  <dc:subject/>
  <dc:title>АТТЕСТАЦИЯ ПЕРСОНАЛА В ОРГАНИЗАЦИИ (НА ПРИМЕРЕ ОАО «ЛЕБЕДИНСКИЙ ГОК»)</dc:title>
</cp:coreProperties>
</file>