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wind.wav" ContentType="audio/x-wav"/>
  <Override PartName="/ppt/media/chimes.wav" ContentType="audio/x-wav"/>
  <Override PartName="/ppt/media/image16.png" ContentType="image/png"/>
  <Override PartName="/ppt/media/image8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D5C-67EC-4819-95BA-930CA767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1CF-91CD-4B7F-9A88-972AAC0B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B9102-AE68-4197-AB52-87D35CE0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12D8E-879C-49B8-81B9-90380356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AA976-A691-4070-B0F5-9F937BB7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18B28-F1B3-4B9B-977A-A0C6B8E3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BA7D0-EEAA-4C82-B5D9-4171668E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A11AA-1B5C-4915-915A-4C72EECD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8A946-1E31-4D7A-B915-04E8F5AA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5937B-CF63-4FB3-A3A8-0CE5E3EF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1C658-4B39-4F70-A4D0-FF35E97C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80F4F-F254-49CD-BA08-D0C13C91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F8C-1960-4898-ACAF-8845DF35A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1779E-4976-4A4B-82A8-B19039B7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D28FD-2AAB-488A-96E2-8CAB4921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87349-7F69-4D11-A2BC-2F343095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E4637-8241-4D99-AF43-AAC2CC67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CA06B-73C0-4D70-B804-9884A09E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17FD1-968C-4E5A-9AF0-75530636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7370F-9918-429D-8E3F-0C7A7437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9C89D-8E03-4482-85FE-783CB640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AB08F-BB6A-4A69-A213-D73F6D98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8D529-EF6D-4543-A377-939ED212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8B49-A7CB-4637-B138-C8F5428F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020A8-C761-472F-9E20-27BCEF2B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1FE18-2C0F-40A1-BCFE-63CF1A2C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41ADD-FACF-4F0B-B658-463223DF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D568F-F3F8-479F-A3CE-23136DE3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E83C6-EAC6-42E6-B398-4B8C864B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79EDAB-E6ED-4942-8F40-EA9782B8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F0665-502C-4AE2-AFA2-BCF5C753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45AB2-6C89-4B91-B387-3E870E58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168BF-2B00-48D8-8C0F-CDE7A2A7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95D93-F743-415B-A663-D0EF0B78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49D9-0A5C-4564-96C9-30E371E9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E9E95-4E87-4DA6-9F7C-9726B43E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4DD4D-C433-4538-BCCE-5F36E16F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A157C-0092-495A-8142-9FE338A5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45867-BA65-430D-885D-7E6C8C96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03B60-EDDD-49BD-BD38-B3C988E2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7ED0E-C4A5-4D46-8EAF-4DE39F8C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D07A5-211B-46A4-9B6B-6146D4F6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91C2E-CD87-46FB-9B8D-79AC7946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2509D-22D7-4632-BF38-E0A13D0A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E5B2D-D602-4982-9417-C19C0337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E0F0-65AF-4845-A0BB-FC3EDB1E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6FEFC-8A98-44AD-80DF-B531CBDC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F6797-0ED6-40B4-8A7D-BD48E69A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AB59D-48A4-4FA1-87B0-40BB17C3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786DE-89AC-4F09-B6B0-D965978B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3CFE7-C850-4716-BDBF-8287BEBD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D8DC-3A9C-4D6E-8435-D63AD3D0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510A-9BE9-438D-9F68-6025E086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19B8-1AFE-4783-8BC1-25A1B226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6637-D2D9-4EC6-9A75-A70AFE1C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7235-6F94-4E5A-94DD-F6C75A49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E24D-A6E8-4D66-AABC-A2F60C87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2161-B2BF-4F31-BFFD-2BB10229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B48B-2D3C-46D3-B599-A391E696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5B2E-E1E1-4539-9BA5-DB8BC105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F8E6-A2A7-4968-B9F5-F43037B9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2EAF-4F75-407D-9872-4F91E8B3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A9857-8AE1-486C-8FF8-B483CEE7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84394-5824-4026-BA69-1469F2C1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8DE4E-E517-4114-AA9E-00578B89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B1E4B-13F0-49CE-80D6-9DAE2623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4AD67-294F-4989-B829-C504B6EA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AA37-F746-4617-AA3A-8DD4969D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CFEC7-D5F4-40DB-9177-0CCA093A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95222-590E-4E80-87B4-C7F8B111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8A81F-52A2-4B37-B50B-EAAD5B65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FD5C9-96BF-414B-9B31-D7A21781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E7FD9-515A-46FE-95ED-DB508F6E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22D19-6B08-4730-9C3B-63846217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F0D80-53B2-487E-99AD-4C3D7F7A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9E491-0A3E-4D72-9321-A56810AC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6DA34-F0CC-4FED-B663-7687FB41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96FE7-0820-4B47-8313-E2D73B7C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CD37-D4DC-44D1-9EF0-909DCC9D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7D96B-CB3A-4AE2-93D3-6142FF06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EF0BB-DFE1-4360-8CCD-5C84F637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663A0-5548-475A-91AC-141B5765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16E9C-1DC4-4316-9CAB-575D6AE6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D637F-26AA-491B-B33D-9938A2D3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AF43D-1CBB-4CEE-A32D-BF2E9B02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9DE4A-7C6D-44C2-8D61-C35A19C5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1EBF1-9A75-4AB4-8792-872FC53B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F5E5D-C8BC-4E88-9DAE-B0485981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2374F-223D-456B-99B0-F0F1DA64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EFD-4C1E-4468-AD59-901B31A3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64C29-7365-486C-ACF6-2B785738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75294-CA7E-4FF1-9614-29654513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ABFB1-CD3C-409E-B8A2-5E757672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ACF4F-DFEF-45A6-AA94-ABA450B9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4732B-DC81-4E80-A2A6-DB6DE88B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0C201-E217-48EA-8A85-3A076EB2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306DC-8CED-4025-A0BF-5CD281FA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31FDF-C4FE-4D13-92E0-FF74A2C8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ABCC2-0734-4204-9FAD-8146DD43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AC78F-1C12-4603-8B69-0F944A38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D7D8-8709-4782-80CB-5077C975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AF57B-E245-4277-A2EC-8B344B4D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6DC54B-7C1B-4E8E-B58D-CFD43B25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D21338-7061-467F-9E7A-405A33A7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CB93F2-A1D6-4909-A704-A50B2AAD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FBBFF2-4015-4A13-88B9-0697559F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5E7481-F520-4C37-97B5-AB694F0E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F2936C-4637-4260-BA45-432B0D17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2597C4-5462-4642-B5A2-734F379C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69FCB1-5CE0-4C98-98AF-7F1C79AD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924C7B-5D0F-4A7F-84EE-2022F9BB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CEAA-916D-4E18-AF58-EA33E1B8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C0783D-1344-4E5F-8089-B4197273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3F6FA3-17B2-43FC-920B-85D1147F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87954D-AC1A-4A26-8666-02485E73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99B8A-A52C-450C-997A-790B017F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24AD9-A154-4E8E-A467-7C122A23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832E5-1678-4C69-A1AB-E4B1DCED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653BE-B7C5-4418-8847-DD3FDA4F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F0663-8328-4AC7-9B51-A52E4D38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1CDEE-DEA0-4400-AD24-21CADB82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97E76-3785-4417-9280-F9C53129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6C7A-29C5-4CDA-A808-256FF386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4EA46-7BC3-4A40-8A08-9AF0B02F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0D559-A2D8-4E70-91C0-E034FA01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D88B9-DCF3-4D51-902C-A6E65C9A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DE533-625B-4012-AE58-774C0BE5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65FCB-FFF7-42C2-8933-441F735D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DCE91B-4DED-4EAF-B2F8-68BBF2BC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1C582D-0FA5-4CE9-AFD6-DFE60B73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8FA17A-220C-46FC-B4F0-D00AA522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C73A82-C3AD-4CB5-B9D6-C0672D01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FFC4AF-BCE2-4AD1-BD05-A06B8755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B86D-BE2E-4BF6-A61B-03EF663F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41E29D-6D87-48D4-BFA6-133EB536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E042D9-C053-474F-B306-BA3B6132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96FC82-C7E7-4550-8C40-5171539B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19E456-BD8D-4114-8BA8-1819EE42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A5FCE8-6964-44B0-A567-02D1CD32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DB811B-071B-4E52-9214-81160D42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AF0F33-1F41-40FD-AEF4-C86BF8F5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58132-665D-4676-8242-52A81C13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3EF61-6E72-4E2C-8B04-B1E8C679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48F8C-04B0-4D1C-8A8C-F33856FE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A006-1343-42FC-8C31-A33D329FAE2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-313560" y="798480"/>
            <a:ext cx="7083720" cy="6861240"/>
            <a:chOff x="-313560" y="798480"/>
            <a:chExt cx="7083720" cy="6861240"/>
          </a:xfrm>
        </p:grpSpPr>
        <p:grpSp>
          <p:nvGrpSpPr>
            <p:cNvPr id="673" name="Group 3"/>
            <p:cNvGrpSpPr/>
            <p:nvPr/>
          </p:nvGrpSpPr>
          <p:grpSpPr>
            <a:xfrm>
              <a:off x="-313560" y="798480"/>
              <a:ext cx="7083720" cy="6861240"/>
              <a:chOff x="-313560" y="798480"/>
              <a:chExt cx="7083720" cy="6861240"/>
            </a:xfrm>
          </p:grpSpPr>
          <p:grpSp>
            <p:nvGrpSpPr>
              <p:cNvPr id="674" name="Group 4"/>
              <p:cNvGrpSpPr/>
              <p:nvPr/>
            </p:nvGrpSpPr>
            <p:grpSpPr>
              <a:xfrm>
                <a:off x="-313560" y="798480"/>
                <a:ext cx="7083720" cy="6861240"/>
                <a:chOff x="-313560" y="798480"/>
                <a:chExt cx="7083720" cy="6861240"/>
              </a:xfrm>
            </p:grpSpPr>
            <p:sp>
              <p:nvSpPr>
                <p:cNvPr id="675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676" name="Group 6"/>
                <p:cNvGrpSpPr/>
                <p:nvPr/>
              </p:nvGrpSpPr>
              <p:grpSpPr>
                <a:xfrm>
                  <a:off x="-313560" y="798480"/>
                  <a:ext cx="7083720" cy="6861240"/>
                  <a:chOff x="-313560" y="798480"/>
                  <a:chExt cx="7083720" cy="6861240"/>
                </a:xfrm>
              </p:grpSpPr>
              <p:sp>
                <p:nvSpPr>
                  <p:cNvPr id="677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8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9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680" name="Group 10"/>
                  <p:cNvGrpSpPr/>
                  <p:nvPr/>
                </p:nvGrpSpPr>
                <p:grpSpPr>
                  <a:xfrm>
                    <a:off x="-313560" y="798480"/>
                    <a:ext cx="7083720" cy="6861240"/>
                    <a:chOff x="-313560" y="798480"/>
                    <a:chExt cx="7083720" cy="6861240"/>
                  </a:xfrm>
                </p:grpSpPr>
                <p:sp>
                  <p:nvSpPr>
                    <p:cNvPr id="681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682" name="Group 12"/>
                    <p:cNvGrpSpPr/>
                    <p:nvPr/>
                  </p:nvGrpSpPr>
                  <p:grpSpPr>
                    <a:xfrm>
                      <a:off x="-313560" y="805680"/>
                      <a:ext cx="7074000" cy="6854040"/>
                      <a:chOff x="-313560" y="805680"/>
                      <a:chExt cx="7074000" cy="6854040"/>
                    </a:xfrm>
                  </p:grpSpPr>
                  <p:sp>
                    <p:nvSpPr>
                      <p:cNvPr id="683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684" name="Group 14"/>
                      <p:cNvGrpSpPr/>
                      <p:nvPr/>
                    </p:nvGrpSpPr>
                    <p:grpSpPr>
                      <a:xfrm>
                        <a:off x="-313560" y="805680"/>
                        <a:ext cx="7074000" cy="6854040"/>
                        <a:chOff x="-313560" y="805680"/>
                        <a:chExt cx="7074000" cy="6854040"/>
                      </a:xfrm>
                    </p:grpSpPr>
                    <p:sp>
                      <p:nvSpPr>
                        <p:cNvPr id="685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6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7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8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89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0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1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2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3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4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5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6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7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8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699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0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1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2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3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4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5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6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7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8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09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0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1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2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3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4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5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6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7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8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19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20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721" name="Group 51"/>
                        <p:cNvGrpSpPr/>
                        <p:nvPr/>
                      </p:nvGrpSpPr>
                      <p:grpSpPr>
                        <a:xfrm>
                          <a:off x="-313560" y="1282320"/>
                          <a:ext cx="6462720" cy="6377400"/>
                          <a:chOff x="-313560" y="1282320"/>
                          <a:chExt cx="6462720" cy="6377400"/>
                        </a:xfrm>
                      </p:grpSpPr>
                      <p:sp>
                        <p:nvSpPr>
                          <p:cNvPr id="722" name="Oval 52"/>
                          <p:cNvSpPr/>
                          <p:nvPr/>
                        </p:nvSpPr>
                        <p:spPr>
                          <a:xfrm rot="18780000">
                            <a:off x="2446560" y="45201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3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4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5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6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7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8" name="Oval 58"/>
                          <p:cNvSpPr/>
                          <p:nvPr/>
                        </p:nvSpPr>
                        <p:spPr>
                          <a:xfrm rot="18780000">
                            <a:off x="1828800" y="292680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29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30" name="Oval 60"/>
                          <p:cNvSpPr/>
                          <p:nvPr/>
                        </p:nvSpPr>
                        <p:spPr>
                          <a:xfrm rot="18780000">
                            <a:off x="1578240" y="240372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31" name="Oval 61"/>
                          <p:cNvSpPr/>
                          <p:nvPr/>
                        </p:nvSpPr>
                        <p:spPr>
                          <a:xfrm rot="18780000">
                            <a:off x="1476720" y="2119680"/>
                            <a:ext cx="2716200" cy="4787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32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733" name="Oval 63"/>
                          <p:cNvSpPr/>
                          <p:nvPr/>
                        </p:nvSpPr>
                        <p:spPr>
                          <a:xfrm rot="18819600">
                            <a:off x="1291320" y="155628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  <p:sp>
                      <p:nvSpPr>
                        <p:cNvPr id="734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5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6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7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8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39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0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1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2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3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4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5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6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7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8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49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0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1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2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3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4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5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6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7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8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59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0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1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2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3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4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5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6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7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8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769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770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771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2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773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774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5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6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8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9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1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2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783" name="Group 113"/>
            <p:cNvGrpSpPr/>
            <p:nvPr/>
          </p:nvGrpSpPr>
          <p:grpSpPr>
            <a:xfrm>
              <a:off x="1800" y="2127240"/>
              <a:ext cx="5263920" cy="4694040"/>
              <a:chOff x="1800" y="2127240"/>
              <a:chExt cx="5263920" cy="4694040"/>
            </a:xfrm>
          </p:grpSpPr>
          <p:sp>
            <p:nvSpPr>
              <p:cNvPr id="784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6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7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8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9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90" name="Group 120"/>
              <p:cNvGrpSpPr/>
              <p:nvPr/>
            </p:nvGrpSpPr>
            <p:grpSpPr>
              <a:xfrm>
                <a:off x="4767120" y="2127240"/>
                <a:ext cx="498600" cy="490680"/>
                <a:chOff x="4767120" y="2127240"/>
                <a:chExt cx="498600" cy="490680"/>
              </a:xfrm>
            </p:grpSpPr>
            <p:sp>
              <p:nvSpPr>
                <p:cNvPr id="791" name="Oval 121"/>
                <p:cNvSpPr/>
                <p:nvPr/>
              </p:nvSpPr>
              <p:spPr>
                <a:xfrm rot="2828400">
                  <a:off x="4783320" y="2350800"/>
                  <a:ext cx="313200" cy="18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2" name="Freeform 122"/>
                <p:cNvSpPr/>
                <p:nvPr/>
              </p:nvSpPr>
              <p:spPr>
                <a:xfrm>
                  <a:off x="4881600" y="2249280"/>
                  <a:ext cx="255600" cy="2466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3" name="Freeform 123"/>
                <p:cNvSpPr/>
                <p:nvPr/>
              </p:nvSpPr>
              <p:spPr>
                <a:xfrm>
                  <a:off x="4966560" y="2238120"/>
                  <a:ext cx="183240" cy="1720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4" name="Freeform 124"/>
                <p:cNvSpPr/>
                <p:nvPr/>
              </p:nvSpPr>
              <p:spPr>
                <a:xfrm>
                  <a:off x="5031000" y="2134800"/>
                  <a:ext cx="228600" cy="21996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95" name="Freeform 125"/>
                <p:cNvSpPr/>
                <p:nvPr/>
              </p:nvSpPr>
              <p:spPr>
                <a:xfrm>
                  <a:off x="5176080" y="2127240"/>
                  <a:ext cx="89640" cy="820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79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6C8A-1F1D-4B95-91FD-9FED182574D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38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9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3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4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A377-06FE-482E-B7A6-23FDAEDD35F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8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6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7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EA88-3F58-4B75-8CC1-9CCFAAB5214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0392-D6B3-4247-94F9-5918828DEB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ADA0-4759-41A3-8F40-2632258F5F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198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199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200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01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202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205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206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207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208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grpSp>
                    <p:nvGrpSpPr>
                      <p:cNvPr id="209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210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1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2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3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4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5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6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7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8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19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0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1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2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3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4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5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6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7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8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29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0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1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2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3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4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5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6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7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8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39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0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1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2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3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4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45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grpSp>
                      <p:nvGrpSpPr>
                        <p:cNvPr id="246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247" name="Oval 52"/>
                          <p:cNvSpPr/>
                          <p:nvPr/>
                        </p:nvSpPr>
                        <p:spPr>
                          <a:xfrm rot="18780000">
                            <a:off x="2467080" y="448524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48" name="Oval 53"/>
                          <p:cNvSpPr/>
                          <p:nvPr/>
                        </p:nvSpPr>
                        <p:spPr>
                          <a:xfrm rot="18780000">
                            <a:off x="2380680" y="429372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49" name="Oval 54"/>
                          <p:cNvSpPr/>
                          <p:nvPr/>
                        </p:nvSpPr>
                        <p:spPr>
                          <a:xfrm rot="18780000">
                            <a:off x="2261520" y="399672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0" name="Oval 55"/>
                          <p:cNvSpPr/>
                          <p:nvPr/>
                        </p:nvSpPr>
                        <p:spPr>
                          <a:xfrm rot="18780000">
                            <a:off x="2169360" y="373788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1" name="Oval 56"/>
                          <p:cNvSpPr/>
                          <p:nvPr/>
                        </p:nvSpPr>
                        <p:spPr>
                          <a:xfrm rot="18780000">
                            <a:off x="2068560" y="342144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2" name="Oval 57"/>
                          <p:cNvSpPr/>
                          <p:nvPr/>
                        </p:nvSpPr>
                        <p:spPr>
                          <a:xfrm rot="18780000">
                            <a:off x="1979640" y="316728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3" name="Oval 58"/>
                          <p:cNvSpPr/>
                          <p:nvPr/>
                        </p:nvSpPr>
                        <p:spPr>
                          <a:xfrm rot="18780000">
                            <a:off x="1851120" y="2891880"/>
                            <a:ext cx="1852560" cy="33238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4" name="Oval 59"/>
                          <p:cNvSpPr/>
                          <p:nvPr/>
                        </p:nvSpPr>
                        <p:spPr>
                          <a:xfrm rot="18780000">
                            <a:off x="1737360" y="262404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5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12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6" name="Oval 61"/>
                          <p:cNvSpPr/>
                          <p:nvPr/>
                        </p:nvSpPr>
                        <p:spPr>
                          <a:xfrm rot="18780000">
                            <a:off x="149724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7" name="Oval 62"/>
                          <p:cNvSpPr/>
                          <p:nvPr/>
                        </p:nvSpPr>
                        <p:spPr>
                          <a:xfrm rot="18734400">
                            <a:off x="1406880" y="181368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258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  <p:sp>
                      <p:nvSpPr>
                        <p:cNvPr id="259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0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1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2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3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4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5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6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7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8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69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0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1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2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3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4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5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6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7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8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79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0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1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2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3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4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5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6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7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8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89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0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1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2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3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  <p:sp>
                      <p:nvSpPr>
                        <p:cNvPr id="294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95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296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97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98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299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0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1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2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3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4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5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6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7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308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309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18"/>
              <p:cNvSpPr/>
              <p:nvPr/>
            </p:nvSpPr>
            <p:spPr>
              <a:xfrm rot="18182400">
                <a:off x="1614600" y="4278960"/>
                <a:ext cx="425160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15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316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7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8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19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20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21" name="PlaceHolder 1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1711-5785-4D26-AFFD-160E8F30762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63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6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7063-466E-4244-881A-377F7551887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1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BAEB-FFF1-49D7-B23A-1ED3C820FF4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75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8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9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5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87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88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4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5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6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2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3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4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5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6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7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8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9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0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764C-659C-4141-A729-756E59BBE08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0A61-1BEA-4811-A397-6436DF2E9B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9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568C-224D-4891-B85A-69B5DC1F6D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езентац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урсовой рабо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Железов Рома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2000"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Excel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980" name="Picture 5" descr=""/>
          <p:cNvPicPr/>
          <p:nvPr/>
        </p:nvPicPr>
        <p:blipFill>
          <a:blip r:embed="rId1"/>
          <a:stretch/>
        </p:blipFill>
        <p:spPr>
          <a:xfrm>
            <a:off x="642960" y="2000160"/>
            <a:ext cx="8001000" cy="2460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amond/>
    <p:sndAc>
      <p:stSnd>
        <p:snd r:embed="rId2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9"/>
          <p:cNvSpPr/>
          <p:nvPr/>
        </p:nvSpPr>
        <p:spPr>
          <a:xfrm>
            <a:off x="2050920" y="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помощ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c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2" name="Рисунок 7" descr=""/>
          <p:cNvPicPr/>
          <p:nvPr/>
        </p:nvPicPr>
        <p:blipFill>
          <a:blip r:embed="rId1"/>
          <a:stretch/>
        </p:blipFill>
        <p:spPr>
          <a:xfrm>
            <a:off x="0" y="285840"/>
            <a:ext cx="5934240" cy="2276280"/>
          </a:xfrm>
          <a:prstGeom prst="rect">
            <a:avLst/>
          </a:prstGeom>
          <a:ln w="0">
            <a:noFill/>
          </a:ln>
        </p:spPr>
      </p:pic>
      <p:pic>
        <p:nvPicPr>
          <p:cNvPr id="983" name="Рисунок 8" descr=""/>
          <p:cNvPicPr/>
          <p:nvPr/>
        </p:nvPicPr>
        <p:blipFill>
          <a:blip r:embed="rId2"/>
          <a:stretch/>
        </p:blipFill>
        <p:spPr>
          <a:xfrm>
            <a:off x="4464000" y="1571760"/>
            <a:ext cx="4680000" cy="2705040"/>
          </a:xfrm>
          <a:prstGeom prst="rect">
            <a:avLst/>
          </a:prstGeom>
          <a:ln w="0">
            <a:noFill/>
          </a:ln>
        </p:spPr>
      </p:pic>
      <p:pic>
        <p:nvPicPr>
          <p:cNvPr id="984" name="Рисунок 9" descr=""/>
          <p:cNvPicPr/>
          <p:nvPr/>
        </p:nvPicPr>
        <p:blipFill>
          <a:blip r:embed="rId3"/>
          <a:stretch/>
        </p:blipFill>
        <p:spPr>
          <a:xfrm>
            <a:off x="1285920" y="4581360"/>
            <a:ext cx="5933880" cy="22766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amond/>
    <p:sndAc>
      <p:stSnd>
        <p:snd r:embed="rId4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аскаль (Попугай)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2" name="Picture 7" descr=""/>
          <p:cNvPicPr/>
          <p:nvPr/>
        </p:nvPicPr>
        <p:blipFill>
          <a:blip r:embed="rId1"/>
          <a:stretch/>
        </p:blipFill>
        <p:spPr>
          <a:xfrm>
            <a:off x="1428840" y="1571760"/>
            <a:ext cx="6381720" cy="51242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zoom dir="in"/>
    <p:sndAc>
      <p:stSnd>
        <p:snd r:embed="rId2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Визитк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954" name="Содержимое 6" descr=""/>
          <p:cNvPicPr/>
          <p:nvPr/>
        </p:nvPicPr>
        <p:blipFill>
          <a:blip r:embed="rId1"/>
          <a:stretch/>
        </p:blipFill>
        <p:spPr>
          <a:xfrm>
            <a:off x="890640" y="1884240"/>
            <a:ext cx="7362720" cy="39625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blinds dir="vert"/>
    <p:sndAc>
      <p:stSnd>
        <p:snd r:embed="rId2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Таблица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499760" y="1600200"/>
            <a:ext cx="59295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7" name="Picture 4" descr="1"/>
          <p:cNvPicPr/>
          <p:nvPr/>
        </p:nvPicPr>
        <p:blipFill>
          <a:blip r:embed="rId1"/>
          <a:stretch/>
        </p:blipFill>
        <p:spPr>
          <a:xfrm>
            <a:off x="1428840" y="1628640"/>
            <a:ext cx="6500880" cy="4729320"/>
          </a:xfrm>
          <a:prstGeom prst="rect">
            <a:avLst/>
          </a:prstGeom>
          <a:ln w="0">
            <a:noFill/>
          </a:ln>
        </p:spPr>
      </p:pic>
      <p:pic>
        <p:nvPicPr>
          <p:cNvPr id="958" name="Рисунок 8" descr=""/>
          <p:cNvPicPr/>
          <p:nvPr/>
        </p:nvPicPr>
        <p:blipFill>
          <a:blip r:embed="rId2"/>
          <a:stretch/>
        </p:blipFill>
        <p:spPr>
          <a:xfrm>
            <a:off x="1500120" y="1643040"/>
            <a:ext cx="5934240" cy="2217600"/>
          </a:xfrm>
          <a:prstGeom prst="rect">
            <a:avLst/>
          </a:prstGeom>
          <a:ln w="0">
            <a:noFill/>
          </a:ln>
        </p:spPr>
      </p:pic>
      <p:pic>
        <p:nvPicPr>
          <p:cNvPr id="959" name="Рисунок 9" descr=""/>
          <p:cNvPicPr/>
          <p:nvPr/>
        </p:nvPicPr>
        <p:blipFill>
          <a:blip r:embed="rId3"/>
          <a:stretch/>
        </p:blipFill>
        <p:spPr>
          <a:xfrm>
            <a:off x="1500120" y="3929040"/>
            <a:ext cx="5962680" cy="2394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comb dir="vert"/>
    <p:sndAc>
      <p:stSnd>
        <p:snd r:embed="rId4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просы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2" name="Picture 4" descr="1B"/>
          <p:cNvPicPr/>
          <p:nvPr/>
        </p:nvPicPr>
        <p:blipFill>
          <a:blip r:embed="rId1"/>
          <a:stretch/>
        </p:blipFill>
        <p:spPr>
          <a:xfrm>
            <a:off x="324000" y="1616040"/>
            <a:ext cx="8496000" cy="4476960"/>
          </a:xfrm>
          <a:prstGeom prst="rect">
            <a:avLst/>
          </a:prstGeom>
          <a:ln w="0">
            <a:noFill/>
          </a:ln>
        </p:spPr>
      </p:pic>
      <p:pic>
        <p:nvPicPr>
          <p:cNvPr id="963" name="Рисунок 9" descr=""/>
          <p:cNvPicPr/>
          <p:nvPr/>
        </p:nvPicPr>
        <p:blipFill>
          <a:blip r:embed="rId2"/>
          <a:stretch/>
        </p:blipFill>
        <p:spPr>
          <a:xfrm>
            <a:off x="2143080" y="1643040"/>
            <a:ext cx="5078520" cy="1235160"/>
          </a:xfrm>
          <a:prstGeom prst="rect">
            <a:avLst/>
          </a:prstGeom>
          <a:ln w="0">
            <a:noFill/>
          </a:ln>
        </p:spPr>
      </p:pic>
      <p:pic>
        <p:nvPicPr>
          <p:cNvPr id="964" name="Рисунок 10" descr=""/>
          <p:cNvPicPr/>
          <p:nvPr/>
        </p:nvPicPr>
        <p:blipFill>
          <a:blip r:embed="rId3"/>
          <a:stretch/>
        </p:blipFill>
        <p:spPr>
          <a:xfrm>
            <a:off x="2143080" y="2857680"/>
            <a:ext cx="5165640" cy="1060200"/>
          </a:xfrm>
          <a:prstGeom prst="rect">
            <a:avLst/>
          </a:prstGeom>
          <a:ln w="0">
            <a:noFill/>
          </a:ln>
        </p:spPr>
      </p:pic>
      <p:pic>
        <p:nvPicPr>
          <p:cNvPr id="965" name="Рисунок 11" descr=""/>
          <p:cNvPicPr/>
          <p:nvPr/>
        </p:nvPicPr>
        <p:blipFill>
          <a:blip r:embed="rId4"/>
          <a:stretch/>
        </p:blipFill>
        <p:spPr>
          <a:xfrm>
            <a:off x="2071800" y="4000680"/>
            <a:ext cx="5126040" cy="105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прос №2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7" name="Содержимое 7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4838760" cy="1447920"/>
          </a:xfrm>
          <a:prstGeom prst="rect">
            <a:avLst/>
          </a:prstGeom>
          <a:ln w="0">
            <a:noFill/>
          </a:ln>
        </p:spPr>
      </p:pic>
      <p:pic>
        <p:nvPicPr>
          <p:cNvPr id="968" name="Рисунок 8" descr=""/>
          <p:cNvPicPr/>
          <p:nvPr/>
        </p:nvPicPr>
        <p:blipFill>
          <a:blip r:embed="rId2"/>
          <a:stretch/>
        </p:blipFill>
        <p:spPr>
          <a:xfrm>
            <a:off x="2143080" y="3071880"/>
            <a:ext cx="4805280" cy="14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Запрос №3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70" name="Содержимое 7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800600" cy="847440"/>
          </a:xfrm>
          <a:prstGeom prst="rect">
            <a:avLst/>
          </a:prstGeom>
          <a:ln w="0">
            <a:noFill/>
          </a:ln>
        </p:spPr>
      </p:pic>
      <p:pic>
        <p:nvPicPr>
          <p:cNvPr id="971" name="Рисунок 8" descr=""/>
          <p:cNvPicPr/>
          <p:nvPr/>
        </p:nvPicPr>
        <p:blipFill>
          <a:blip r:embed="rId2"/>
          <a:stretch/>
        </p:blipFill>
        <p:spPr>
          <a:xfrm>
            <a:off x="2357280" y="2928960"/>
            <a:ext cx="4805640" cy="84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Средний балл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4" name="Picture 4" descr="213"/>
          <p:cNvPicPr/>
          <p:nvPr/>
        </p:nvPicPr>
        <p:blipFill>
          <a:blip r:embed="rId1"/>
          <a:stretch/>
        </p:blipFill>
        <p:spPr>
          <a:xfrm>
            <a:off x="468360" y="1643040"/>
            <a:ext cx="8207280" cy="5000760"/>
          </a:xfrm>
          <a:prstGeom prst="rect">
            <a:avLst/>
          </a:prstGeom>
          <a:ln w="0">
            <a:noFill/>
          </a:ln>
        </p:spPr>
      </p:pic>
      <p:pic>
        <p:nvPicPr>
          <p:cNvPr id="975" name="Рисунок 9" descr=""/>
          <p:cNvPicPr/>
          <p:nvPr/>
        </p:nvPicPr>
        <p:blipFill>
          <a:blip r:embed="rId2"/>
          <a:stretch/>
        </p:blipFill>
        <p:spPr>
          <a:xfrm>
            <a:off x="1714680" y="1643040"/>
            <a:ext cx="5943600" cy="2538360"/>
          </a:xfrm>
          <a:prstGeom prst="rect">
            <a:avLst/>
          </a:prstGeom>
          <a:ln w="0">
            <a:noFill/>
          </a:ln>
        </p:spPr>
      </p:pic>
      <p:pic>
        <p:nvPicPr>
          <p:cNvPr id="976" name="Рисунок 10" descr=""/>
          <p:cNvPicPr/>
          <p:nvPr/>
        </p:nvPicPr>
        <p:blipFill>
          <a:blip r:embed="rId3"/>
          <a:stretch/>
        </p:blipFill>
        <p:spPr>
          <a:xfrm>
            <a:off x="2286000" y="4214880"/>
            <a:ext cx="4699080" cy="23637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amond/>
    <p:sndAc>
      <p:stSnd>
        <p:snd r:embed="rId4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Excel(</a:t>
            </a: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решение задачи графически)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978" name="Содержимое 6" descr=""/>
          <p:cNvPicPr/>
          <p:nvPr/>
        </p:nvPicPr>
        <p:blipFill>
          <a:blip r:embed="rId1"/>
          <a:stretch/>
        </p:blipFill>
        <p:spPr>
          <a:xfrm>
            <a:off x="2143080" y="1928880"/>
            <a:ext cx="4781520" cy="3771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diamond/>
    <p:sndAc>
      <p:stSnd>
        <p:snd r:embed="rId2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13:25:04Z</dcterms:created>
  <dc:creator>123</dc:creator>
  <dc:description/>
  <dc:language>en-US</dc:language>
  <cp:lastModifiedBy>123</cp:lastModifiedBy>
  <dcterms:modified xsi:type="dcterms:W3CDTF">2008-02-18T12:08:24Z</dcterms:modified>
  <cp:revision>11</cp:revision>
  <dc:subject/>
  <dc:title>Презентация</dc:title>
</cp:coreProperties>
</file>