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EF9-D2F5-4EB4-87E8-177D24A8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390-E7B3-4862-8BA7-BC17C831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F972-643F-4345-9205-EA2AE075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590-7A0D-4B58-A00B-19E63A1F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6CE-327A-4150-B57F-8CD8C5C4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3DD-3FF0-4B9B-ABA8-C08413C5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DEB-7D0B-4EAF-A57E-A77E8D14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315-E29C-4507-9EFA-5C051175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2E0F-33D7-4A38-9DF7-243DDE2C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F675-5851-4F37-891D-FBEF9A9C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1D9-7ED7-497D-A741-6F8AEFC0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BC7-5DA7-4C94-855E-E8330EA6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4D15-4C64-4053-BBA1-958D35BFD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9960" y="8534520"/>
            <a:ext cx="9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49360" y="971640"/>
          <a:ext cx="6308640" cy="731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971640"/>
                    <a:ext cx="6308640" cy="73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565360" y="7812000"/>
            <a:ext cx="218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реднесуточная доля аудитории телеканала ТВН составляет 0,6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32440" y="344520"/>
            <a:ext cx="2482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56080" y="347760"/>
            <a:ext cx="394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ложение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реднесуточная доля аудитории телекан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4:46:41Z</dcterms:created>
  <dc:creator>Admin</dc:creator>
  <dc:description/>
  <dc:language>en-US</dc:language>
  <cp:lastModifiedBy>Admin</cp:lastModifiedBy>
  <dcterms:modified xsi:type="dcterms:W3CDTF">2009-05-24T14:53:53Z</dcterms:modified>
  <cp:revision>3</cp:revision>
  <dc:subject/>
  <dc:title>Слайд 1</dc:title>
</cp:coreProperties>
</file>