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8DD-4EB8-4E1A-8F38-DE15B100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03E-A023-40FB-9F7F-7C4C6A7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EF6-1ED3-41D1-A421-399D8D3F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C85-43D2-41DC-8527-E2C035F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251-CAC8-4698-836A-270152A5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C96-1A37-404C-B2E8-C903682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F18-3DE2-4E0E-9C7F-BEAC5D3D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E6C-28FF-4617-A975-6B350CDD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0D6-A8AA-46F1-8C54-183C7CB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AB9-FD2F-4B0E-A15C-331F0CB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246-A2C8-49BA-B641-9B7AA6E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DE2-16EF-4DEB-B374-E5B6DC9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190-E54B-40AC-A071-7707F7F0D5E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Тема курсової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Експертна  система </a:t>
            </a:r>
            <a:br>
              <a:rPr sz="6000"/>
            </a:b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діагностування хвороб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болонка для створення ЕС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WIN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Місце для вмісту 3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хема проведення діагносту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28600" y="2347920"/>
            <a:ext cx="6886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 розраховуються варіанти прав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960" y="114264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Маєм 10 правильних відпові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1 2 3 4 5 6 7 8 9 10 -10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Пропускаєм по 1 відповіді(одна відповідь не правиль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 нас получаеться 10 комбінацій із 9 відповідей(пр. 1 2 _ 4 5 6 7 8 9 10) – 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Із цих нових комбінацій пропускає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+1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номер. Унас получиться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85880" y="428760"/>
            <a:ext cx="77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Візьмем комбінаціо яку показували в прикладі(1 2 _ 4 5 6 7 8 9 10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_ 2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_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_ 5 6 7 8 9 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_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_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_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_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_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9 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Тобто відповідьт пацієнта буде розцінювати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із ймовірністю 80 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571320"/>
            <a:ext cx="7643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сі варіанти будуть рахуватись до того моменту поки не залишиться 4 відповіді із 10. Кількість варіантів </a:t>
            </a:r>
            <a:r>
              <a:rPr b="1" lang="uk-UA" sz="3200" spc="-1" strike="noStrike">
                <a:solidFill>
                  <a:srgbClr val="595959"/>
                </a:solidFill>
                <a:latin typeface="Calibri"/>
              </a:rPr>
              <a:t>2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кно діагноз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43000" y="776160"/>
            <a:ext cx="66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іаг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500040" y="1928880"/>
            <a:ext cx="8298000" cy="4379760"/>
          </a:xfrm>
          <a:prstGeom prst="rect">
            <a:avLst/>
          </a:prstGeom>
          <a:ln w="0">
            <a:noFill/>
          </a:ln>
        </p:spPr>
      </p:pic>
      <p:cxnSp>
        <p:nvCxnSpPr>
          <p:cNvPr id="55" name="Сполучна лінія уступом 7"/>
          <p:cNvCxnSpPr/>
          <p:nvPr/>
        </p:nvCxnSpPr>
        <p:spPr>
          <a:xfrm flipV="1" rot="16200000">
            <a:off x="4642920" y="3856680"/>
            <a:ext cx="929160" cy="929520"/>
          </a:xfrm>
          <a:prstGeom prst="bentConnector3">
            <a:avLst>
              <a:gd name="adj1" fmla="val -162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" name="Округлений прямокутник 18"/>
          <p:cNvGrpSpPr/>
          <p:nvPr/>
        </p:nvGrpSpPr>
        <p:grpSpPr>
          <a:xfrm>
            <a:off x="5553000" y="4054320"/>
            <a:ext cx="2536920" cy="1590840"/>
            <a:chOff x="5553000" y="4054320"/>
            <a:chExt cx="2536920" cy="1590840"/>
          </a:xfrm>
        </p:grpSpPr>
        <p:pic>
          <p:nvPicPr>
            <p:cNvPr id="57" name="Округлений прямокутник 18" descr=""/>
            <p:cNvPicPr/>
            <p:nvPr/>
          </p:nvPicPr>
          <p:blipFill>
            <a:blip r:embed="rId2"/>
            <a:stretch/>
          </p:blipFill>
          <p:spPr>
            <a:xfrm>
              <a:off x="5553000" y="4054320"/>
              <a:ext cx="2536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8400" y="4148280"/>
              <a:ext cx="2347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-</a:t>
              </a: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кількість правильних відповід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Результат=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*100/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5:45Z</dcterms:created>
  <dc:creator>Skalotskiy</dc:creator>
  <dc:description/>
  <dc:language>en-US</dc:language>
  <cp:lastModifiedBy>Skalotskiy</cp:lastModifiedBy>
  <dcterms:modified xsi:type="dcterms:W3CDTF">2010-05-24T12:23:14Z</dcterms:modified>
  <cp:revision>8</cp:revision>
  <dc:subject/>
  <dc:title>Тема курсової</dc:title>
</cp:coreProperties>
</file>