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2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4A9-F8F7-4C35-8F80-EA37D032B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8D0-FAD9-41CA-A1C1-7B1801CCB6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2B8-C790-4899-ABC7-CCC56A6C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718-6438-4156-8CDA-C81AA79D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84A-F809-46B1-8062-AE8B78F4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861-7193-49B1-A6C3-C0DF4ACD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202-4415-49A5-ACAD-14ED128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0EB6-FDFC-48CF-9387-E00C5A1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E8BA-34C3-44D7-B2C3-1C0F3B7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C573-E548-4878-9A61-CF80EB43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23AB-407D-46F7-B6C0-EAC43EBF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BEE1-4BB9-4214-89AE-1E0F361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26E-83BD-4EF4-87C2-B0EB7FC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DA2-5C83-4DAD-A4D0-AD95F16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795-46A2-49B0-9E85-C29C33C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C171-D009-458F-BBF9-482A196A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39DF-66B4-4A47-9EEC-054C2B8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826-A0A7-40AA-B4A4-EEF85CFF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3D2E-9AB0-42AA-8B8F-D497AC3D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B7A00-0781-467B-9EE8-F85C11F6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287E5-D1D4-4694-AE41-7CC777C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1118-E7D6-4DAA-84BD-986B45A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BC31F-4CA9-4B61-9E7C-BE5255A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F03F09-C808-4DBB-9A31-06734A6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ACA-C4A9-4BD0-846B-388BA3D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04683-998A-4CA1-8D8D-316292C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8FCA1-39CA-4CA4-8E17-5EEE4BA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3A1FD-AF4A-4AAD-9E88-10888DFF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46399-42EB-4AF0-AB7F-632DA163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2B6D9-E5D7-440E-A08F-809FDFA0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3FB35-0A83-4088-8C8B-8B489FEF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278A9-9233-4BB4-AE95-2F667177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E07D-A766-4B4B-95EC-0EC541E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F581-5108-41EA-A7C4-0E806D3E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BE13-EFD6-4ACE-8774-0060F477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EBF-673C-4FB8-9B64-2B19B945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24C60-C0EA-4D3E-92CC-282E47DF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C632-898F-4DC3-AFDE-0ECE2F9C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AB30-D2FE-43B4-A0A0-9FEC3CF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4A59D-D5C3-4866-9286-E108B3A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A0E0-F161-47E6-8A4B-19E4FE74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3458-5882-4B2A-9EB4-496505E0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AE296-B80E-4F61-9B8E-374212C9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9D30-64A4-4046-89C7-BA65CB79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D3AA-CD15-4C0E-BE38-E39ACE0B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FF38-CFF3-44BC-AFA2-648A7AD4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894-8F4A-45DF-A3BD-0AF63E8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8C955-AB6E-414C-A426-B24F708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F5EA2-3730-41C0-8D12-DBCD5A48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B8CD1-DD8B-460B-B0B2-95720562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D74C1-47F5-4FE3-A408-30F650D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DD85-F61D-488D-B631-BA730A94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82F9-4721-47BC-963B-2E21F38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0B7DC-3738-4530-89C7-212963B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5E2E-5697-414A-93DE-A43F5DA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A826-61BC-40B4-9235-9BB25831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DB59A-6A62-40BD-96A3-85D7F525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8F6-FBD3-4F04-B29A-2DE93A5F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9312-27B7-4625-B8A0-0B04407E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5514-775D-44C6-A381-B002A6B5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4E044-B7AB-45C4-B615-8BBCF93E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B4FCC-9C2F-43D1-B163-918A1702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D2FA7-28ED-4A42-AD10-0CF5695C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FF1A-A31D-43B2-B3CE-42A1DDA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80F2-14CA-4BEE-9ABA-4CF4155D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4D5A-6138-4CFB-B349-C10E4B1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479E-384E-47DA-8D5D-C089BBC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EF1A5-2934-49EF-A425-0F4C66A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1AE-04DE-4147-8FF3-A61AF3C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E7A0-2C4C-4CFE-A8B9-2A226ED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BF4E5-E69F-4E40-9561-033BEC37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66813-270B-4F5C-B13C-1ED19C69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DC4B-3FF5-4C03-9A19-4458FFBD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5D82-7139-4DA7-9758-9607CC08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C6296-A412-4642-90BA-0586851C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42372-F557-4D0E-AFF3-8DE75A02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9128-87AA-416A-933E-397A82D8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EF35D-D386-46BE-96AD-BDED0C1E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76C97-567E-4812-8668-0819F4BC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CDC-330E-4817-8515-6C9E782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68AA-A7D7-478F-B4E8-DA36321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EC33F-12E3-496D-89A8-23B67610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352D6-4106-4846-B954-AACABF8F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C059-E1A5-43CD-8363-75C033DA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177F0-3BFE-4577-B199-20BE0B61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BFD6F-D7B8-4764-A208-8716BCAC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2960B-6877-49C3-990D-ED0B25A1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89A4-E05E-4363-8336-C6ACE71A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EA560-5806-453C-8737-93E107A1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759E3-9C5B-4FD0-9858-2E0E4D5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FD7-4F86-452C-99A0-82EB7CC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901A8-86DF-4AB6-8ED8-B0DBD44D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57F9-F3AA-4351-9481-BA9AF3F5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6DD8-C019-4688-AE8D-FA09F4E0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6B13-52CB-426B-9D23-8FAF66D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FAF80-472A-48CD-A993-68CEFF5E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67341-6B00-4277-BB57-3F7CEA7C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1294D-0C7F-4CA4-B311-3D09DB73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40C1-62CB-4700-9251-C3F54CEFCE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039-44F2-43E3-88EC-F87EB84A3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388-CC13-4A06-BA59-F48D30988E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18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D7C0-A173-4F62-96D5-F424068B1A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9EA0-8CC2-4817-9531-3663BA73E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2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8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197-649A-4B24-8B57-2A2EBD443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3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B3E-429A-4A71-A96B-996245B79C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D8C4-861F-42EF-8A97-45AF79EFAED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Поражен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Monotype Corsiva"/>
              </a:rPr>
              <a:t>желудочно-кишечного тракта, вызванные паразитами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3" name="Picture 9" descr="j0240719"/>
          <p:cNvPicPr/>
          <p:nvPr/>
        </p:nvPicPr>
        <p:blipFill>
          <a:blip r:embed="rId1"/>
          <a:stretch/>
        </p:blipFill>
        <p:spPr>
          <a:xfrm>
            <a:off x="611280" y="4292640"/>
            <a:ext cx="1438200" cy="2259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0" descr="109309801542242de1ae828"/>
          <p:cNvPicPr/>
          <p:nvPr/>
        </p:nvPicPr>
        <p:blipFill>
          <a:blip r:embed="rId2"/>
          <a:stretch/>
        </p:blipFill>
        <p:spPr>
          <a:xfrm>
            <a:off x="6877080" y="476280"/>
            <a:ext cx="189720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resC4E8D078-0A01-022A-00E8-24FD3C667FD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анитарно – просветительская работ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рьба с моллюсками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етеринарные мероприятия, связанные с оздоровлением животны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Тениаринх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s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eniarhynchus saginatu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6" descr="цепень"/>
          <p:cNvPicPr/>
          <p:nvPr/>
        </p:nvPicPr>
        <p:blipFill>
          <a:blip r:embed="rId1"/>
          <a:stretch/>
        </p:blipFill>
        <p:spPr>
          <a:xfrm>
            <a:off x="179280" y="2205000"/>
            <a:ext cx="3888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35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5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точного диагноза необходимо обнаружение в фекалиях зрелых члеников  и  подсчёт количества боковых ветвей ма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йца нельзя отличить от яиц свиного цеп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покупать мяса, не прошедшего экспертизу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в пищу плохо проваренного или прожаренного мя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8" name="Picture 12" descr="ULITKa_o"/>
          <p:cNvPicPr/>
          <p:nvPr/>
        </p:nvPicPr>
        <p:blipFill>
          <a:blip r:embed="rId1"/>
          <a:stretch/>
        </p:blipFill>
        <p:spPr>
          <a:xfrm>
            <a:off x="4643280" y="4221000"/>
            <a:ext cx="26258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70" name="Picture 4" descr="j0149627"/>
          <p:cNvPicPr/>
          <p:nvPr/>
        </p:nvPicPr>
        <p:blipFill>
          <a:blip r:embed="rId1"/>
          <a:stretch/>
        </p:blipFill>
        <p:spPr>
          <a:xfrm>
            <a:off x="4319640" y="3429000"/>
            <a:ext cx="4824360" cy="3429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предупреждающие заражение крупного рогатого скот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ыявление и лечение больных, особенно работающих в животноводств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стройка уборных, не позволяющих скоту иметь доступ к фекалиям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храна территории от загрязнения фекалиями человек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мероприятия, направленные на предупреждение заражения человека, - организация ветеринарной экспертизы, осмотр туш рогатого скота на мясокомбинатах, бойнях, рынках с последующей выбраков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cc"/>
                </a:solidFill>
                <a:latin typeface="Monotype Corsiva"/>
              </a:rPr>
              <a:t>Трихоцефалез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84720" y="1628640"/>
            <a:ext cx="447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ichocephalus trichiur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7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333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5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450"/>
                            </p:stCondLst>
                            <p:childTnLst>
                              <p:par>
                                <p:cTn id="1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3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Жизненный цикл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власоглава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6" name="Picture 7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1780920" cy="2290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28600" cy="1495440"/>
          </a:xfrm>
          <a:prstGeom prst="rect">
            <a:avLst/>
          </a:prstGeom>
          <a:ln w="0">
            <a:noFill/>
          </a:ln>
        </p:spPr>
      </p:pic>
      <p:sp>
        <p:nvSpPr>
          <p:cNvPr id="578" name="Line 10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5580000" y="3789360"/>
            <a:ext cx="792360" cy="0"/>
          </a:xfrm>
          <a:prstGeom prst="line">
            <a:avLst/>
          </a:prstGeom>
          <a:ln w="76320">
            <a:solidFill>
              <a:srgbClr val="660066"/>
            </a:solidFill>
            <a:miter/>
            <a:headEnd len="med" type="diamond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14" descr=""/>
          <p:cNvPicPr/>
          <p:nvPr/>
        </p:nvPicPr>
        <p:blipFill>
          <a:blip r:embed="rId3"/>
          <a:stretch/>
        </p:blipFill>
        <p:spPr>
          <a:xfrm>
            <a:off x="6732720" y="2565360"/>
            <a:ext cx="1780920" cy="229068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15"/>
          <p:cNvSpPr/>
          <p:nvPr/>
        </p:nvSpPr>
        <p:spPr>
          <a:xfrm>
            <a:off x="179280" y="4856400"/>
            <a:ext cx="30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больного 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16"/>
          <p:cNvSpPr/>
          <p:nvPr/>
        </p:nvSpPr>
        <p:spPr>
          <a:xfrm>
            <a:off x="5654520" y="4867560"/>
            <a:ext cx="310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шечник здоров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в фекалиях. При микроскопии кала обнаруживают яйца возбудителя размерами 50х20 мкм, по форме напоминающие лимон. Половозрелые власоглавы имеют длину 3-5 см и иногда видны при ректороманоскоп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doc1"/>
          <p:cNvPicPr/>
          <p:nvPr/>
        </p:nvPicPr>
        <p:blipFill>
          <a:blip r:embed="rId1"/>
          <a:stretch/>
        </p:blipFill>
        <p:spPr>
          <a:xfrm>
            <a:off x="1403280" y="3645000"/>
            <a:ext cx="2051280" cy="28382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блюдение правил личной гигие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ытьё рук, овощей фр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потребление кипячёной 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0066"/>
                </a:solidFill>
                <a:latin typeface="Monotype Corsiva"/>
              </a:rPr>
              <a:t>Общественная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нитарно – просветительная раб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овая дегельминтизация населения с последующим уничтожением паразитов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звреживание фекалий, используемых как удобрение путём компостир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а среды от загрязнения (устройство канализации, водопровод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Monotype Corsiva"/>
              </a:rPr>
              <a:t>Аскаридоз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helmint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mato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caris lumbricoide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7" name="Picture 6" descr="15084"/>
          <p:cNvPicPr/>
          <p:nvPr/>
        </p:nvPicPr>
        <p:blipFill>
          <a:blip r:embed="rId1"/>
          <a:stretch/>
        </p:blipFill>
        <p:spPr>
          <a:xfrm>
            <a:off x="684360" y="1628640"/>
            <a:ext cx="305100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0"/>
            <a:ext cx="727236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езентацию подготовил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студент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106 групп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лечебного  факульте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Белякова Реги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Прямая кишка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319280" y="404640"/>
            <a:ext cx="482436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a5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Рентгенограмма круглого червя аскари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c2"/>
          <p:cNvPicPr/>
          <p:nvPr/>
        </p:nvPicPr>
        <p:blipFill>
          <a:blip r:embed="rId1"/>
          <a:stretch/>
        </p:blipFill>
        <p:spPr>
          <a:xfrm>
            <a:off x="900000" y="151128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Головной мозг с аскарид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наружение яиц аскарид в испражнен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гочная стадия аскаридоза: гиперэозинофилия и микроскопия мокроты (обнаруживают личинки аскарид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ологические методы (реакции преципитации, РИГА, РС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j0305257"/>
          <p:cNvPicPr/>
          <p:nvPr/>
        </p:nvPicPr>
        <p:blipFill>
          <a:blip r:embed="rId4"/>
          <a:stretch/>
        </p:blipFill>
        <p:spPr>
          <a:xfrm>
            <a:off x="7121520" y="620640"/>
            <a:ext cx="1612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Monotype Corsiva"/>
              </a:rPr>
              <a:t>Фасциолёз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ип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thelminth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Класс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remato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тря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igine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од и вид: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asciola hepat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612720" y="1986120"/>
            <a:ext cx="33670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25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450"/>
                            </p:stCondLst>
                            <p:childTnLst>
                              <p:par>
                                <p:cTn id="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5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66"/>
                </a:solidFill>
                <a:latin typeface="Monotype Corsiva"/>
              </a:rPr>
              <a:t>Диагно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диагностическое значение имеют иммунологические реакции: внутрикожная аллергическая проба, реакции преципи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слабой инвазии при исследовании кала применяют метод осаждения Горячева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употреблении в пищу пораженной фасциолами печени скота в кале могут быть обнаружены транзитные яйца. В этих случаях необходим повторный анализ через две недели после исключения из рациона печ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 употреблять для питья сырую воду, особенно из стоячих водоём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щательно мыть зелень и овощ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5" descr="pe00014_"/>
          <p:cNvPicPr/>
          <p:nvPr/>
        </p:nvPicPr>
        <p:blipFill>
          <a:blip r:embed="rId1"/>
          <a:stretch/>
        </p:blipFill>
        <p:spPr>
          <a:xfrm>
            <a:off x="2627280" y="4221000"/>
            <a:ext cx="3456000" cy="23274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cc0066"/>
                </a:solidFill>
                <a:latin typeface="Monotype Corsiva"/>
              </a:rPr>
              <a:t>Личная профилактик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1:41:05Z</dcterms:created>
  <dc:creator>1</dc:creator>
  <dc:description/>
  <dc:language>en-US</dc:language>
  <cp:lastModifiedBy>Ната</cp:lastModifiedBy>
  <dcterms:modified xsi:type="dcterms:W3CDTF">2010-08-07T16:05:07Z</dcterms:modified>
  <cp:revision>14</cp:revision>
  <dc:subject/>
  <dc:title>Поражения  желудочно-кишечного тракта, вызванные паразитами </dc:title>
</cp:coreProperties>
</file>