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72B-394D-4C24-826E-056BA1C1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4B8-9881-42CE-83E2-54149E7A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CD5-06BE-4A4C-9149-FB48358C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FB8-F108-4F5D-AFA4-E4D903E8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F7C8-5054-40A9-B458-97C8CC88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F5AA-3378-4AFC-AA54-CED4F0B1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6EF6-8E77-4D3B-810C-D4373AE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4C65-36F2-4373-B47F-0292F366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7339-F05A-4975-BB15-0E5E161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DFD5-FAC4-40E8-9B3C-BBB5724C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6A39-19DD-4009-85B1-EF6360CD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116-67CE-44BD-8A1C-D2927F26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894F-D43D-498B-BD71-2B98A763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B61D-1157-464B-8301-E27FCFA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00C2-319A-43A8-9C2D-4F8CD9B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6696-064D-4E9B-B6CE-5B4E6820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4E0A-6FAF-4959-8374-F3C3290C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10A-F2B6-4477-9D6B-BE5B96E1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95B-587B-4FC5-B677-E31C3B52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D48-39AB-4B52-8440-ED60E3AE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570-6D5C-494A-97A9-243D4D90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42F-B7DB-42C9-89F5-B2189109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EFE-438B-4CCF-8111-3EF2F0F3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717-7D24-4F23-AD3D-796B4F55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7CC8-ED44-4EDD-B1B0-98ACC57470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950D-A1DF-475B-9358-1F37AC9039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У ВПО «ВОЛЖСКИЙ ГОСУДАРСТВЕННЫЙ ИНЖЕНЕРНО-ПЕДАГОГИЧЕСКИ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НИВЕРСИТЕ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640" y="256500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 И П Л О М Н Ы Й    П Р О Е К 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тему: Стратегическое планирование в управлении коммунальным комплек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32360" y="4292640"/>
            <a:ext cx="396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УДЕНТ                      Д.С.Гус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А.Н.Голубц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348000" y="630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ижний Новгород 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Источниками финанс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диты, выделяемые муниципальным образованиям на подготовку к зим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составляющие 0,1% от восстановительной стоимости жилого фонда, и выделяемые отдельной строкой в бюджетах муниципальных образований для финансирования программы оснащения жилого фонда приборами учета тепловой энер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формирующиеся в жилищно-коммунальных организациях при оплате населением коммунальных услу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азработанные мероприятия позволя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кратить затраты на содержание и эксплуатацию жиль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экономические интересы населения при переходе отрасли ЖКХ на безубыточный режим функционир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надежное тепло и водоснабжение без расширения существующих энерго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пособствовать созданию экономического механизма стимулирующего процесс энергосбереж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учшить финансово-хозяйственную деятельность предприятия, повысить прибыльность, увеличить рентабельность, снизить расход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8001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ка стратегического плана организации жилищно-коммунальной сферы на примере ООО «Жилсервис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ъект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ество с ограниченной ответственностью «Жилсервис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мет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тратегическое планирование организаций жилищно-коммунальной сферы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68360" y="34776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Цель дипломного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549360"/>
            <a:ext cx="8001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Задачи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мотреть теоретические и методические основы стратегического планирования деятельности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анализировать деятельность организации жилищно-коммунальной сферы на примере ООО «Жилсервис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зить оценку воздействия факторов окружающей среды на деятельность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ить разработку стратегического плана предприятия с учетом влияния факторов внешней сре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сновать выбор стратегического плана предприятия с экономической точки зр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оре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екта заключается в изучении основных аспектов стратегического планирования организаций жилищно-коммунальной сфе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сследования состоит в том, что материалы исследования могут быть использованы в работе руководителя, менеджера предприя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понятия и определения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атегия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ированная модель действий, предназначенных для достижения целей предприятия. Содержанием стратегии служит набор правил принятия решений, используемый для определения основных направлени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одна из функций управления, которая представляет собой процесс выбора целей организации и путей их дости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тапы разработки стратегического план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ределение миссии и целей организ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реды, включающий в себя сбор информации, анализ сильных и слабых сторон фирмы, а также ее потенциальных возможностей на основании имеющейся внешней и внутренней информ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бор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лизация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ка и контроль выполн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виды деятельности ООО «Жилсерви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многоквартирным дом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обретение коммунальных ресур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луатация инженерных систем здан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ание жилищного фонда и нежилых поме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населению по сбору средств за коммунальные услу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предприятиям по платежам и расчетам за коммунальные и другие услуг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ые виды хозяйственной и коммерческ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я по повышению эффективности управления организации ООО «Жилсервис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ршенствование структуры управл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информационной систем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постоянного повышения квалификации работник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системы подбора, обучения, оценки и перемещения руководящих кад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по созданию культуры организац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работка стратегии развития организации на основе анализа ее сильных и слабых сторо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Мероприятия по внедрению энергосберегающих технолог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на системах теплоснабжения технологий стабилизационной обработки подпиточн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контурной и сетев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пароструйных насо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ка предизолированных тру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индивидуальных тепловых пунк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ащение муниципального жилого фонда и организаций бюджетной сферы приборами учета и регулирования энергоресурсов и 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06:34:18Z</dcterms:created>
  <dc:creator>DSGusev</dc:creator>
  <dc:description/>
  <dc:language>en-US</dc:language>
  <cp:lastModifiedBy>Ната</cp:lastModifiedBy>
  <dcterms:modified xsi:type="dcterms:W3CDTF">2010-06-26T09:22:46Z</dcterms:modified>
  <cp:revision>11</cp:revision>
  <dc:subject/>
  <dc:title>Слайд 1</dc:title>
</cp:coreProperties>
</file>