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AC9-EA9A-44BE-8B9D-935870D1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FC3-2DF2-47D3-9915-DA218214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6BC-DBCC-4221-AB84-31AD40AE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DCE-4423-4F7F-B4F4-3B0EA1A3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01A-32C3-4F1F-BBF5-EA640F4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B4B-A9E6-4651-B291-DB51F35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6F0-EA60-4C65-8A3A-CDF43C3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86F-9CAD-4747-B2A9-7CE57C35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CA0-9EAC-4429-9990-4B68267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581-FA15-41FD-AA6F-2D9881AC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928-D6F5-463F-8956-3DAD40F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766-8C58-45CE-9BEC-8F78F12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18E-ACF4-4B67-93D3-E57482CFB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119700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нфор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2637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л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979640" y="350028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34955" dir="18672881" blurRad="0" rotWithShape="0">
                    <a:srgbClr val="ffffcc"/>
                  </a:outerShdw>
                </a:effectLst>
                <a:latin typeface="Arial"/>
              </a:rPr>
              <a:t>Акімова Інеса Борисів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34955" dir="18672881" blurRad="0" rotWithShape="0">
                  <a:srgbClr val="ffff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00" y="429264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у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826920" y="5300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1. Гаєвський А.Ю. Інформатика 7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2. Зарецька Т.І. Інформатика 10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3. Корнієнко М.М. Інформатика: Довідник для учнів та абітуріє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749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Паперов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книжки, газети, перфострічки, перфока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Магніт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диски, стрі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гнітно-оптич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ехнологі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APPOINT"/>
          <p:cNvPicPr/>
          <p:nvPr/>
        </p:nvPicPr>
        <p:blipFill>
          <a:blip r:embed="rId1"/>
          <a:stretch/>
        </p:blipFill>
        <p:spPr>
          <a:xfrm rot="1162200">
            <a:off x="927000" y="21128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Носії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ringWHT"/>
          <p:cNvPicPr/>
          <p:nvPr/>
        </p:nvPicPr>
        <p:blipFill>
          <a:blip r:embed="rId2"/>
          <a:stretch/>
        </p:blipFill>
        <p:spPr>
          <a:xfrm rot="1203600">
            <a:off x="7596000" y="42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MAIL004"/>
          <p:cNvPicPr/>
          <p:nvPr/>
        </p:nvPicPr>
        <p:blipFill>
          <a:blip r:embed="rId3"/>
          <a:stretch/>
        </p:blipFill>
        <p:spPr>
          <a:xfrm rot="2021400">
            <a:off x="1692000" y="5157720"/>
            <a:ext cx="476280" cy="6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MAIL10"/>
          <p:cNvPicPr/>
          <p:nvPr/>
        </p:nvPicPr>
        <p:blipFill>
          <a:blip r:embed="rId4"/>
          <a:stretch/>
        </p:blipFill>
        <p:spPr>
          <a:xfrm rot="1105800">
            <a:off x="6300360" y="5157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ook_page_flip_md_wht"/>
          <p:cNvPicPr/>
          <p:nvPr/>
        </p:nvPicPr>
        <p:blipFill>
          <a:blip r:embed="rId5"/>
          <a:stretch/>
        </p:blipFill>
        <p:spPr>
          <a:xfrm rot="1153800">
            <a:off x="5866920" y="1988640"/>
            <a:ext cx="876600" cy="723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DISKMAN2"/>
          <p:cNvPicPr/>
          <p:nvPr/>
        </p:nvPicPr>
        <p:blipFill>
          <a:blip r:embed="rId6"/>
          <a:stretch/>
        </p:blipFill>
        <p:spPr>
          <a:xfrm>
            <a:off x="7164360" y="2565360"/>
            <a:ext cx="925560" cy="116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arnac"/>
          <p:cNvPicPr/>
          <p:nvPr/>
        </p:nvPicPr>
        <p:blipFill>
          <a:blip r:embed="rId7"/>
          <a:stretch/>
        </p:blipFill>
        <p:spPr>
          <a:xfrm>
            <a:off x="971640" y="476280"/>
            <a:ext cx="7696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CD_DEMOS"/>
          <p:cNvPicPr/>
          <p:nvPr/>
        </p:nvPicPr>
        <p:blipFill>
          <a:blip r:embed="rId8"/>
          <a:stretch/>
        </p:blipFill>
        <p:spPr>
          <a:xfrm>
            <a:off x="7308720" y="765000"/>
            <a:ext cx="120024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CD_MED"/>
          <p:cNvPicPr/>
          <p:nvPr/>
        </p:nvPicPr>
        <p:blipFill>
          <a:blip r:embed="rId9"/>
          <a:stretch/>
        </p:blipFill>
        <p:spPr>
          <a:xfrm>
            <a:off x="539640" y="3573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cd_med_clr"/>
          <p:cNvPicPr/>
          <p:nvPr/>
        </p:nvPicPr>
        <p:blipFill>
          <a:blip r:embed="rId10"/>
          <a:stretch/>
        </p:blipFill>
        <p:spPr>
          <a:xfrm>
            <a:off x="684360" y="3789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cd_sm_clr"/>
          <p:cNvPicPr/>
          <p:nvPr/>
        </p:nvPicPr>
        <p:blipFill>
          <a:blip r:embed="rId11"/>
          <a:stretch/>
        </p:blipFill>
        <p:spPr>
          <a:xfrm>
            <a:off x="611280" y="4006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ylizing_computer"/>
          <p:cNvPicPr/>
          <p:nvPr/>
        </p:nvPicPr>
        <p:blipFill>
          <a:blip r:embed="rId1"/>
          <a:stretch/>
        </p:blipFill>
        <p:spPr>
          <a:xfrm>
            <a:off x="6804000" y="2421000"/>
            <a:ext cx="1851120" cy="277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LOCK"/>
          <p:cNvPicPr/>
          <p:nvPr/>
        </p:nvPicPr>
        <p:blipFill>
          <a:blip r:embed="rId2"/>
          <a:stretch/>
        </p:blipFill>
        <p:spPr>
          <a:xfrm>
            <a:off x="971640" y="2133720"/>
            <a:ext cx="1982520" cy="193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468360" y="134136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пов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64000" y="242100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актуаль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68360" y="400536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корис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356000" y="4724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IV</a:t>
            </a: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доступ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03280" y="141300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ень готує реферат на урок історії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332000" y="2421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ляр виготовляє стілець за замовле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32000" y="35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нання лабораторної роботи учнем під керівництвом викл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86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ЛІТЕРАТУ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євський А.Ю. Інформатика 7-11 клас: стор. 5-11, 17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ецька Т.І. Інформатика 10-11 клас: стор. 3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нієнко М.М. Інформатика: Довідник для учнів та абітурієнтів: стор. 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BD21303_"/>
          <p:cNvPicPr/>
          <p:nvPr/>
        </p:nvPicPr>
        <p:blipFill>
          <a:blip r:embed="rId1"/>
          <a:stretch/>
        </p:blipFill>
        <p:spPr>
          <a:xfrm>
            <a:off x="611280" y="4581360"/>
            <a:ext cx="4743360" cy="2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8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тика. Інформація і повідомлення. Інформаційні процеси. Носії інформації. Форми і способи подання інформації. Види інформації. Кодування повідомлень. Властивості інформації. Поняття про сучасні засоби зберігання та опрацювання інформації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3384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741672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Навчаль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формулювати у учнів поняття про види та властивості інформації, про засоби обміну інформацією та її збереження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Розвиваюч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вивати просторове й логічне мислення, вміння робити висновки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Вихов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ховати в учнів інтерес до предмет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40464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Інформації та операцій над не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2268360" y="2060640"/>
            <a:ext cx="475164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</a:rPr>
              <a:t>ІНФОРМ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3708360" y="4653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Повідомленн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  <p:sp>
        <p:nvSpPr>
          <p:cNvPr id="54" name="AutoShape 17"/>
          <p:cNvSpPr/>
          <p:nvPr/>
        </p:nvSpPr>
        <p:spPr>
          <a:xfrm rot="7368600">
            <a:off x="2161080" y="3248640"/>
            <a:ext cx="1116000" cy="6127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69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 rot="3357000">
            <a:off x="4955760" y="3319560"/>
            <a:ext cx="1440000" cy="8683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55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9"/>
          <p:cNvSpPr txBox="1"/>
          <p:nvPr/>
        </p:nvSpPr>
        <p:spPr>
          <a:xfrm>
            <a:off x="1116000" y="4292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Дан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2"/>
          <p:cNvSpPr/>
          <p:nvPr/>
        </p:nvSpPr>
        <p:spPr>
          <a:xfrm>
            <a:off x="755640" y="1773360"/>
            <a:ext cx="345744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Принцип передач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826920" y="1484280"/>
            <a:ext cx="3446640" cy="162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76360" y="3645000"/>
            <a:ext cx="208764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796000" y="3213000"/>
            <a:ext cx="230508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10800000">
            <a:off x="5363640" y="5157360"/>
            <a:ext cx="345780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5364000" y="5013360"/>
            <a:ext cx="3448080" cy="138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ржувач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 rot="5400000">
            <a:off x="2230920" y="2961360"/>
            <a:ext cx="57600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 rot="5400000">
            <a:off x="6768000" y="4401360"/>
            <a:ext cx="57636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780000" y="3357720"/>
            <a:ext cx="1800000" cy="1152360"/>
          </a:xfrm>
          <a:custGeom>
            <a:avLst/>
            <a:gdLst>
              <a:gd name="textAreaLeft" fmla="*/ 225000 w 1800000"/>
              <a:gd name="textAreaRight" fmla="*/ 1575000 w 180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’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Інформаційні проц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042920" y="170028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ошук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908000" y="2492280"/>
            <a:ext cx="38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Обробк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2987640" y="328464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ередач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4067280" y="414972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береження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5076720" y="5084640"/>
            <a:ext cx="35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ахист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3" name="Picture 11" descr="ARROW"/>
          <p:cNvPicPr/>
          <p:nvPr/>
        </p:nvPicPr>
        <p:blipFill>
          <a:blip r:embed="rId1"/>
          <a:stretch/>
        </p:blipFill>
        <p:spPr>
          <a:xfrm>
            <a:off x="324000" y="1628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ARROW"/>
          <p:cNvPicPr/>
          <p:nvPr/>
        </p:nvPicPr>
        <p:blipFill>
          <a:blip r:embed="rId2"/>
          <a:stretch/>
        </p:blipFill>
        <p:spPr>
          <a:xfrm>
            <a:off x="1116000" y="249228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RROW"/>
          <p:cNvPicPr/>
          <p:nvPr/>
        </p:nvPicPr>
        <p:blipFill>
          <a:blip r:embed="rId3"/>
          <a:stretch/>
        </p:blipFill>
        <p:spPr>
          <a:xfrm>
            <a:off x="2195640" y="3284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ARROW"/>
          <p:cNvPicPr/>
          <p:nvPr/>
        </p:nvPicPr>
        <p:blipFill>
          <a:blip r:embed="rId4"/>
          <a:stretch/>
        </p:blipFill>
        <p:spPr>
          <a:xfrm>
            <a:off x="3276720" y="4076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ARROW"/>
          <p:cNvPicPr/>
          <p:nvPr/>
        </p:nvPicPr>
        <p:blipFill>
          <a:blip r:embed="rId5"/>
          <a:stretch/>
        </p:blipFill>
        <p:spPr>
          <a:xfrm>
            <a:off x="4284720" y="5013360"/>
            <a:ext cx="6476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ластивост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03280" y="1484280"/>
            <a:ext cx="655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овно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тупінь уявлення про об’єкт інформації, яка необхідна для прийняття правильного рі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03280" y="2852640"/>
            <a:ext cx="65534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орис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максимально можлива користь, яку здатна дати інформація для досягнення м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403280" y="4148280"/>
            <a:ext cx="655344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оступ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правдивість уявлень про джерело інформ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403280" y="5156280"/>
            <a:ext cx="6553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ктуаль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відповідальність інформації поточному моменту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ди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557360"/>
          <a:ext cx="8435880" cy="4032360"/>
        </p:xfrm>
        <a:graphic>
          <a:graphicData uri="http://schemas.openxmlformats.org/drawingml/2006/table">
            <a:tbl>
              <a:tblPr/>
              <a:tblGrid>
                <a:gridCol w="2597040"/>
                <a:gridCol w="2727360"/>
                <a:gridCol w="311148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сприйнят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відображе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успільним значенн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зу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д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юх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к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и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інов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oy_math_md_wht"/>
          <p:cNvPicPr/>
          <p:nvPr/>
        </p:nvPicPr>
        <p:blipFill>
          <a:blip r:embed="rId1"/>
          <a:stretch/>
        </p:blipFill>
        <p:spPr>
          <a:xfrm>
            <a:off x="1979640" y="1052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мірювання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Байт = 8 бі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Кіло байт (Кб) = 1024 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Гіга байт (Гб) = 1024 К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Тера байт (Тб) = 1024 Г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28:01Z</dcterms:created>
  <dc:creator>Computer</dc:creator>
  <dc:description/>
  <dc:language>en-US</dc:language>
  <cp:lastModifiedBy>www.PHILka.RU</cp:lastModifiedBy>
  <dcterms:modified xsi:type="dcterms:W3CDTF">2009-09-18T09:03:19Z</dcterms:modified>
  <cp:revision>2</cp:revision>
  <dc:subject/>
  <dc:title>Інформатика. Інформація і повідомлення. Інформаційні процеси. Носії інформації. Форми і способи подання інформації. Види інформації. Інформація і шум та їх взаємоперетворення. Кодування повідомлень за допомогою яких передається інформація. Властивості інформації. Інформаційні процеси: пошук, зберігання, збирання, опрацювання, подання, передавання, використання, захист інформації. Поняття про сучасні засоби зберігання та опрацювання інформації.</dc:title>
</cp:coreProperties>
</file>