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jpeg" ContentType="image/jpeg"/>
  <Override PartName="/ppt/media/image8.wmf" ContentType="image/x-wmf"/>
  <Override PartName="/ppt/media/image12.jpeg" ContentType="image/jpeg"/>
  <Override PartName="/ppt/media/image13.png" ContentType="image/png"/>
  <Override PartName="/ppt/media/image19.jpeg" ContentType="image/jpeg"/>
  <Override PartName="/ppt/media/image17.wmf" ContentType="image/x-wmf"/>
  <Override PartName="/ppt/media/image15.jpeg" ContentType="image/jpeg"/>
  <Override PartName="/ppt/media/image7.jpeg" ContentType="image/jpeg"/>
  <Override PartName="/ppt/media/image18.png" ContentType="image/png"/>
  <Override PartName="/ppt/media/image16.jpeg" ContentType="image/jpeg"/>
  <Override PartName="/ppt/media/image14.wmf" ContentType="image/x-wmf"/>
  <Override PartName="/ppt/media/image5.jpeg" ContentType="image/jpeg"/>
  <Override PartName="/ppt/media/image10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0A6-0806-4C79-AE43-A6CA6BE5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41A-389B-450F-B792-4FDF9842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7AF-55AE-4DD7-AA7F-33C4733D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36D9-894F-4E29-A9B6-C4E5AC40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DFD0-004B-48BA-B9BF-FB650507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A385-63BF-47D2-81CF-DD91E522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8EAB-893A-431A-880B-CD31B59B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D986-F199-4956-A3A8-C56C3431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D93F-A92E-417E-AC3B-0FAAE9F1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5DFE-1E45-4D6F-813C-278863C5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CC8E-A2AA-4A51-A42B-06CFA05F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D4C-80FC-4C4B-8AA7-EBDD1027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1B90-1BCB-4619-9A66-37A89A94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D204-D86F-4D9F-B7A9-7F32E61D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D1BC-C5F6-4EA9-A793-8D000A72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BCE1-9548-4DEB-A348-7669B11A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4847-17D0-4C02-ADBD-CEF6E5DA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F79-CCAB-43FC-9624-E436D64A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C2C-3EBE-4BB8-9D22-38E9C1F4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3D6C-5DB0-43C4-AF36-19D47E28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6008-4BBA-4AE3-AA46-937E3CDD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E10F-05AE-4F0A-9295-3ABEBD4C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0D2-6C2E-4760-98B5-999A16C6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3B6-3F78-4347-9251-24E69C31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AF52-84F8-41F8-9F98-E0B099A34A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A9AC-C8AF-4D64-92DC-44F56951FE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ОЦИАЛЬНАЯ  РЕАБИЛИТАЦИЯ ДЕТЕЙ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 НАРУШЕНИЕМ 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ОПОРНО-ДВИГАТЕЛЬНОГО АППАРАТА</a:t>
            </a: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НА ПРИМЕРЕ ДЕЯТЕЛЬНОСТИ СПЕЦИАЛИСТОВ</a:t>
            </a: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МУ СЗ «КОМПЛЕКСНЫЙ ЦЕНТР </a:t>
            </a: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СОЦИАЛЬНОГО ОБСЛУЖИВАНИЯ НАСЕЛЕНИЯ»</a:t>
            </a: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с. КИЧМЕНГСКИЙ ГОРОДОК)</a:t>
            </a:r>
            <a:br>
              <a:rPr sz="18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аза исследовани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униципальное Учрежд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циальной Защит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Комплексный центр социального обслуживания населени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. Кич – Городо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Отделение социального обслуживания на дому граждан пожилого возраста и инвалидов командой социальных работников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действовать интеграции детей-инвалидов в общество, их социальной адаптации и развитию способност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оддерживать и укреплять  психологическое и физическое здоровье детей-инвали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действовать их  социокультурной реабилит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азывать содействие в получении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Формировать у детей потребность в физическом совершенствовании, содействовать в осознании ими возможности целенаправленных занятий физической культурой, спор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азывать консультативную помощ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действовать в беспрепятственном доступе к информации и объектам социальной инфраструкту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ециалисты отде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036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ые работн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сихол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Медицинская сест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Инструктор по лечебной физкультур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пециалисты других отделений и образовательных учрежде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Социальный педаг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едагог дома детского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едагоги детской школы искус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едагоги музыкальной и воскресной шко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4020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го в проведенном исследовании приняло участие трое детей  с диагнозом детский церебральный парал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уровень интеллекта детей с ДЦП не у всех соответствует возрастной норм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11" descr="P1000208"/>
          <p:cNvPicPr/>
          <p:nvPr/>
        </p:nvPicPr>
        <p:blipFill>
          <a:blip r:embed="rId1"/>
          <a:stretch/>
        </p:blipFill>
        <p:spPr>
          <a:xfrm>
            <a:off x="5580000" y="4221000"/>
            <a:ext cx="3095640" cy="2232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P1000222"/>
          <p:cNvPicPr/>
          <p:nvPr/>
        </p:nvPicPr>
        <p:blipFill>
          <a:blip r:embed="rId2"/>
          <a:stretch/>
        </p:blipFill>
        <p:spPr>
          <a:xfrm>
            <a:off x="971640" y="4221000"/>
            <a:ext cx="3529080" cy="2330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"/>
          <p:cNvPicPr/>
          <p:nvPr/>
        </p:nvPicPr>
        <p:blipFill>
          <a:blip r:embed="rId3"/>
          <a:stretch/>
        </p:blipFill>
        <p:spPr>
          <a:xfrm>
            <a:off x="5940360" y="1052640"/>
            <a:ext cx="23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ечень услуг, предоставляемых в «КЦСОН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быто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психол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педаг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медицин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эконом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 – бытовые услуг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оставление транспорта для доставки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реждения для обучения, участия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льтурных мероприятиях, учрежд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равоохра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Сопровождение вне до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Сопровождение и обслуживание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нсорной комнате, кабинете ЛФК и массаж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" descr="100_0381"/>
          <p:cNvPicPr/>
          <p:nvPr/>
        </p:nvPicPr>
        <p:blipFill>
          <a:blip r:embed="rId1"/>
          <a:stretch/>
        </p:blipFill>
        <p:spPr>
          <a:xfrm>
            <a:off x="900000" y="4292640"/>
            <a:ext cx="3527640" cy="23032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100_0743"/>
          <p:cNvPicPr/>
          <p:nvPr/>
        </p:nvPicPr>
        <p:blipFill>
          <a:blip r:embed="rId2"/>
          <a:stretch/>
        </p:blipFill>
        <p:spPr>
          <a:xfrm>
            <a:off x="5572080" y="1785960"/>
            <a:ext cx="3143160" cy="20937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9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13" descr="100_1724"/>
          <p:cNvPicPr/>
          <p:nvPr/>
        </p:nvPicPr>
        <p:blipFill>
          <a:blip r:embed="rId3"/>
          <a:stretch/>
        </p:blipFill>
        <p:spPr>
          <a:xfrm>
            <a:off x="5508720" y="4292640"/>
            <a:ext cx="3240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Содержимое 2"/>
          <p:cNvGraphicFramePr/>
          <p:nvPr/>
        </p:nvGraphicFramePr>
        <p:xfrm>
          <a:off x="468360" y="404640"/>
          <a:ext cx="8385120" cy="597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Содержимое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385120" cy="59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0040" y="16430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–педагогические услуги</a:t>
            </a:r>
            <a:br>
              <a:rPr sz="2800"/>
            </a:br>
            <a:br>
              <a:rPr sz="2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действие в организации обучения на дому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мощь в выполнении домашнего задания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учение навыкам самообслуживания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учение поведению в быту и общественных местах, самоконтролю, навыкам общения и другим форам жизнедеятельност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Анимационные услуги (посещение выставок, экскурсий, праздников и других культурных мероприятий)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действие в получении образования с учетом физических и умственных способностей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Picture 1" descr="E:\Таня и Юля\P1000294.JPG"/>
          <p:cNvPicPr/>
          <p:nvPr/>
        </p:nvPicPr>
        <p:blipFill>
          <a:blip r:embed="rId1"/>
          <a:stretch/>
        </p:blipFill>
        <p:spPr>
          <a:xfrm>
            <a:off x="4932360" y="4076640"/>
            <a:ext cx="3297240" cy="23767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9" descr="100_0760"/>
          <p:cNvPicPr/>
          <p:nvPr/>
        </p:nvPicPr>
        <p:blipFill>
          <a:blip r:embed="rId2"/>
          <a:stretch/>
        </p:blipFill>
        <p:spPr>
          <a:xfrm>
            <a:off x="900000" y="4076640"/>
            <a:ext cx="33861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8"/>
          <p:cNvGraphicFramePr/>
          <p:nvPr/>
        </p:nvGraphicFramePr>
        <p:xfrm>
          <a:off x="539640" y="476280"/>
          <a:ext cx="820908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20908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-психологические услуг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сихологическое консультиров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сихологическая коррек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Тренин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сихологическая диагност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роведение занятий в групп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Бесе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9" descr="100_0748"/>
          <p:cNvPicPr/>
          <p:nvPr/>
        </p:nvPicPr>
        <p:blipFill>
          <a:blip r:embed="rId1"/>
          <a:stretch/>
        </p:blipFill>
        <p:spPr>
          <a:xfrm>
            <a:off x="5076720" y="2637000"/>
            <a:ext cx="3600720" cy="2604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WScan00031"/>
          <p:cNvPicPr/>
          <p:nvPr/>
        </p:nvPicPr>
        <p:blipFill>
          <a:blip r:embed="rId2"/>
          <a:stretch/>
        </p:blipFill>
        <p:spPr>
          <a:xfrm>
            <a:off x="1258920" y="3789360"/>
            <a:ext cx="2449440" cy="25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 исследова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цесс социальной реабилитации дете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нарушением опорно-двигательного аппарата (ОДА)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дмет исследова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ятельность специалистов по социальной работе, которая направлена на социальную реабилитацию детей с нарушением 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Object 9"/>
          <p:cNvGraphicFramePr/>
          <p:nvPr/>
        </p:nvGraphicFramePr>
        <p:xfrm>
          <a:off x="611280" y="549360"/>
          <a:ext cx="813744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49360"/>
                    <a:ext cx="813744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–медицинские услуг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00040" y="907560"/>
            <a:ext cx="82296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азание санитарно – гигиенических услуг (стрижка ногтей причесывани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действие в проведении медико-социальной экспертизы и получение ИП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роведение реабилитационных мероприятий социально медицинская характеристика в соответствии с ИП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еспечение техническими средствами ухода и реабилит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рганизация лечебно- оздоровительных мероприятий (массаж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провождение и занятия в тренажерной комна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провождение клиентов в учреждения здравоохранения, образования, соц.защи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1116000" y="4437000"/>
            <a:ext cx="3311640" cy="20462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7" descr=""/>
          <p:cNvPicPr/>
          <p:nvPr/>
        </p:nvPicPr>
        <p:blipFill>
          <a:blip r:embed="rId2"/>
          <a:stretch/>
        </p:blipFill>
        <p:spPr>
          <a:xfrm>
            <a:off x="4932360" y="4365720"/>
            <a:ext cx="3114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Object 10"/>
          <p:cNvGraphicFramePr/>
          <p:nvPr/>
        </p:nvGraphicFramePr>
        <p:xfrm>
          <a:off x="539640" y="549360"/>
          <a:ext cx="8136000" cy="56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813600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жидаемый результа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Повышение самооцен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Формирование адекватного отношения к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ему физическому состоя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Развитие компенсаторных умений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вы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Развитие коммуникативных навы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тей-инвали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Развитие творческих спосо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тей-инвали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Активизация внутренн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енциала сем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Самореализация родителей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фессиональн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ышение социальной значимости семь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итывающей ребенка-инвали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1"/>
          <a:stretch/>
        </p:blipFill>
        <p:spPr>
          <a:xfrm>
            <a:off x="731880" y="1195560"/>
            <a:ext cx="22064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стигнутый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результат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9200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екватная самооц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екватное отношение к своему физическому состоя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ренность в себ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стоя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илось больше друз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ились планы на будущ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лучшение физического состоя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словарного запаса, расширение кругозора (у детей с сохранным интеллекто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лучшение эмоционального самочув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9" descr="P1000191"/>
          <p:cNvPicPr/>
          <p:nvPr/>
        </p:nvPicPr>
        <p:blipFill>
          <a:blip r:embed="rId1"/>
          <a:stretch/>
        </p:blipFill>
        <p:spPr>
          <a:xfrm>
            <a:off x="6156360" y="2133720"/>
            <a:ext cx="26924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блемы в работ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оставление транспортных услуг (загруженность транспорта, отсутствие оборудования машин специальными креслами и ремня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специалистов узкого профиля (логопед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достаточно эффективное сотрудничество с учреждениями здравоохранения и образ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достаток методического обеспечения (литературы по работе с детьми с нарушениями ОД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ая загруженность специалис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специального образования у некоторых специалис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высокая оплата тру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комендац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осуществления транспортных услуг детям с нарушениями ОДА требуется предоставить отдельный специально оборудованный транспор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ение графика работы, в котором оговорено время подвоза детей к специалистам, и в первую очередь соблюдать интересы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лечение к работе специалистов узкого профиля, например, логопе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еспечение специалистов методической литературой, в которой бы описывалась работа социальных работников, социального педагога, психолога, инструктора по лечебной физкультуре и медицинской сестры с детьми с нарушениями 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личение времени работы специалистов с данной категорией детей  и достойная оплата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ация учебы для работников, не имеющих специального образования по работе с детьми с нарушениями 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крытие реабилитационного отделения по работе с детьми- инвали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24000" y="-830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за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внимание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28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изучение деятельности специалистов Комплексного Центра социального обслуживания населения, которая направлена на социальную реабилитацию детей с нарушением опорно–двигательного аппарата.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                                               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Задачи:</a:t>
            </a:r>
            <a:br>
              <a:rPr sz="28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* дать общую характеристику детей-инвалидов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* изучить проблемы социальной реабилитации детей-инвалидов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* дать характеристику социальной реабилитации детей с нарушением опорно–двигательного аппарата в деятельности социальных служб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* проанализировать и обобщить опыт работы специалистов Комплексного Центра социального обслуживания населения с. Кичменгский Городок, направленной на реабилитацию детей с нарушением опорно– двигательного аппарата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Методы исследования:</a:t>
            </a:r>
            <a:br>
              <a:rPr sz="54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етическ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 анализ литературы и систематизация информации по теме исследова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ктически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 анализ документов, анкетирова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7"/>
          <p:cNvSpPr/>
          <p:nvPr/>
        </p:nvSpPr>
        <p:spPr>
          <a:xfrm>
            <a:off x="928800" y="260280"/>
            <a:ext cx="7429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ипотез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предполагаем, что деятельность Комплексного Центра социального обслуживания населения, направленная на социальную реабилитацию детей с нарушением опорно– двигательного аппарата, должна отвечать следующим услови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личие нормативно–правовых документов, регламентирующих деятель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)наличие и взаимодействие специалистов разного профи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оциального работника, социального педагога, инструктора по лечебной физкультуре, психолога, медицинской сестр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) наличие условий для работы специалист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снащённость, санитарно–гигиенические условия, методическое обеспечение, микроклимат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) взаимодействие с семьями, в которых растут дети с нарушением опорно–двигательного аппарата, а также наличие и состояние информации о таких семьях и их потребност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57120" y="40464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валид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лицо, имеющее нарушение здоровья со стойким расстройством функций организма, обусловленное заболеваниями, последствиями травм или дефектами, приводящими к ограничению жизнедеятельности и вызывающее необходимость социальной защи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енок-инвали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лицо в возрасте до 18 лет, признанное в установленном порядке инвали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тегории детей-инвалид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нарушением слу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нарушением з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нарушением ре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ушением интеллектуального развит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нарушением опорно-двигательного аппар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комплексными нарушениями психофизического разви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эмоционально-волевыми нарушени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57120" y="40464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альная реабилитация 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комплекс мер, направленных на повышение уровня функциональных  способностей в быту и социу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ы социальной реабили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едостаточные формы социальной поддерж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арушение связей ребенка-инвалида  с окружающим ми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Отсутствие спецшкол и реабилитационных цен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облема получения профе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облема неравенства возможн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чины нарушения 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болевание нервной системы: детский церебральный паралич, полиомиел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ожденная патология 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обретенные заболевания и повреждения 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циальные услуги, предоставляемые детям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 нарушением ОД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42960" y="2204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быто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психол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педаг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медицин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- право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эконом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2:29:14Z</dcterms:created>
  <dc:creator>User</dc:creator>
  <dc:description/>
  <dc:language>en-US</dc:language>
  <cp:lastModifiedBy>Ната</cp:lastModifiedBy>
  <dcterms:modified xsi:type="dcterms:W3CDTF">2010-10-28T10:02:41Z</dcterms:modified>
  <cp:revision>41</cp:revision>
  <dc:subject/>
  <dc:title>Слайд 1</dc:title>
</cp:coreProperties>
</file>