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DC9-5936-4E3B-AFFB-6B75E1E0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667-D64A-4D99-BE17-6EC7186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C94-8FBE-44D7-B819-A7CE66A1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A9A-14C1-453D-B00F-582EDBA0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98B-DF1E-4D1A-84D8-63D2492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EEE-4545-4F41-B80B-64F29C2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106-4A4F-498F-A0EA-FCB33A00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55D-6924-470F-BFB8-BC1BDD47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958-B9C7-4A6B-BF27-8723984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124-2D49-47DD-BAAE-ED8BD3D6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868-EF4B-4170-A4D7-4C5B02BD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A2E-89AD-4502-87A3-9B1E55B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0A1-1CAE-48EA-86C3-882AF364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66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ка социально-медицинского обслуживания на дому граждан пожил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удентки 501 груп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ашериной Ольги Степан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ВК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734544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специфики социально-медицинского обслуживания на дому людей пожил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специфику социально-медицинского обслуживания на дому людей пожил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социологический опрос с людьми пожилого возраста по выявлению потребностей в социально-медицинском обслуживании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рекомендации по использованию материалов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за исслед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У ВО Комплексный центр социального обслуживания населения города Волог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Анкетирование людей пожил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Сравнительный анализ работы отделения за 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предполагаем, что социально-медицинское обслуживание на дому позволит более эффективно организовать социальную помощь, направленную на восстановление утраченных физических и психических способностей пожилых людей и может являться альтернативой определению их в стационарные учре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ая защита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мплекс социально-экономических мер, проводимых государством и направленная на социальное обслуживание нетрудоспособных граж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циальное обслуживан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деятельность социальных служб по социальной поддержке, оказанию услуг и материальной помощи людям, находящихся в трудной жизнен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ход –это ориентированная на личность услуга , оказываемая нуждающемуся в уходе человеку в его разных жизненных ситуац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ая поддержка – это вид социальной помощи, направленная на обеспечение граждан временно находящихся в трудной жизненной ситуации через услу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ая помощь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одействие лицам, лишенных необходимых условий для нормальной жизни, оказание им поддержки и выражение им сочув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806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ная жизненная ситуация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итуация объективно нарушающая жизнедеятельность гражданина, которую он не может преодолеть самостоятельно(инвалидность, болезнь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циально - медицинское-обслуживание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640" y="1773000"/>
            <a:ext cx="81360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получении медицинской, правовой, социально-психологической и натуральной видов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организации ритуальных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37:47Z</dcterms:created>
  <dc:creator>Customer</dc:creator>
  <dc:description/>
  <dc:language>en-US</dc:language>
  <cp:lastModifiedBy>111</cp:lastModifiedBy>
  <dcterms:modified xsi:type="dcterms:W3CDTF">2003-03-18T23:39:18Z</dcterms:modified>
  <cp:revision>8</cp:revision>
  <dc:subject/>
  <dc:title>Слайд 1</dc:title>
</cp:coreProperties>
</file>