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AE3-1E12-4C2F-9529-D4674B46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50A-B020-4FE4-8653-B41E0667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E14-3C75-4B50-A96C-2BBF4E1A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437-10EA-42C3-A3C0-CC8C7A91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7D6-0E55-428E-B60F-ED9E246E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DC9-91F6-4B69-9CF5-507CBFEC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5D0-B2FC-4885-9DC9-80583C0B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FA4-1812-44A8-A282-C7659AD6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0B1-CEA1-4F2B-B385-5E3C56DD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2EF-75F8-469E-8F5A-91C51C1B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CF6-960D-42DC-86E7-E3AA37B0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ED2-402C-4A5D-AAD6-3099480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AE9A-3B34-4655-ADE7-0FF3634EB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58920" y="765000"/>
            <a:ext cx="6985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Развитие быстроты у детей среднего школьного</a:t>
            </a:r>
            <a:br>
              <a:rPr sz="5000"/>
            </a:b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возраста на учебно-тренировочных занятиях по футбол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306440"/>
                <a:gridCol w="1306440"/>
                <a:gridCol w="1306800"/>
                <a:gridCol w="1304640"/>
                <a:gridCol w="1306800"/>
                <a:gridCol w="1306440"/>
                <a:gridCol w="1306440"/>
              </a:tblGrid>
              <a:tr h="253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испытуем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изме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изме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А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</a:t>
                      </a:r>
                      <a:r>
                        <a:rPr b="1" lang="ru-RU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de-DE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Абрамов Русл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вфеев Ант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обров Валер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анехин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асильев Влади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Домохин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Зуе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Иванов Серг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Лысаков Ник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Лысаков Серг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Мурин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Неуступов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Нифано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Осипов Андр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Софроно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 Сычев Ник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 Тарасов Ив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Труханов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Тюмаков Алекс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 Тюрин Ив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 Харев Пав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 Хлебников Ил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908000" y="1557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76280"/>
            <a:ext cx="8569080" cy="59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в выпускной квалификационной работе мы раскрыли цель поставленную перед нами. Проведя собственные исследования, получили определённые результаты, что быстроту на учебно – тренировочных занятиях по футболу  можно развивать через упражнения, которые соответствуют интересам и двигательным потребностям  детей среднего школьного возраста, стимулируют их эмоционально-волевые проявления и приучают к мобилизации максимальных усилий в нужный мо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55640" y="1125360"/>
            <a:ext cx="748980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явить развитие быстроты у детей среднего школьного возраста на учебно-тренировочных занятиях по футбо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116000" y="1052640"/>
            <a:ext cx="69850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Объект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и среднего школьного возра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быстроты на учебно-тренировочных занятиях по футбо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258920" y="1052640"/>
            <a:ext cx="705816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учащиеся среднего школьного возраста будут регулярно заниматься футболом, то это может способствовать развитию быстро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0"/>
            <a:ext cx="914400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анализировать существующую психолого-педагогическую литературу по данной проблеме исслед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исать процесс развития быстроты у детей среднего школьного возраста на учебно-тренировочных занятиях по футбол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ить влияние занятий футболом на развитие быстроты у детей среднего школьного возраста на учебно-тренировочных занятиях по футбол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анализировать динамику развития быстроты у детей среднего школьного возраста на учебно-тренировочных занятиях по футбол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914400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анализа и обобщения литературных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ир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наблю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71640" y="260280"/>
            <a:ext cx="741672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иболее известным показателем связи является ранговый коэффициент корреляции Спирмена, определяемый по следующей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 сумм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азность между рангами рассматриваемых призна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 число наблюдений (парны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1"/>
              <p:cNvSpPr txBox="1"/>
              <p:nvPr/>
            </p:nvSpPr>
            <p:spPr>
              <a:xfrm>
                <a:off x="2050920" y="2565360"/>
                <a:ext cx="457200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Этапы исследований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 ВК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анализ научно-методической литературы;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подбор методов исследов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- организация и проведение собственных исследов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та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описание и обработка результатов собственных исследований и вы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13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889308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База исследования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У «Вожегодская СОШ №1» на учащихся 5 классов, которые посещают секционное занятие по футболу в количестве 22 челов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7-06-16T09:19:37Z</dcterms:created>
  <dc:creator>1</dc:creator>
  <dc:description/>
  <dc:language>en-US</dc:language>
  <cp:lastModifiedBy>Максим</cp:lastModifiedBy>
  <dcterms:modified xsi:type="dcterms:W3CDTF">2010-10-30T18:19:23Z</dcterms:modified>
  <cp:revision>6</cp:revision>
  <dc:subject/>
  <dc:title>Слайд 1</dc:title>
</cp:coreProperties>
</file>