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E1CA-3DCC-4261-94BE-05C0347E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06D8A-D2F1-4282-A1DA-F99DB070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2314C-1408-4BBA-9B65-46B2AD44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A2872-2C1B-48D5-A72D-92B74D77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DACA-13CA-4938-BCA4-5720E070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DADD-C644-472B-BFF1-308E0934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48A6-0AFF-4EA5-BA30-7D5EE628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F4D7-0A4F-4BA5-80B3-D2739B0D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99935-6C40-4099-9C5A-C1962363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422F-DB20-49B2-9D5A-6D364665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EFE7-ACF2-4F0D-9F27-CEB9B66C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46C66-F9EE-492A-96AA-26EA67D5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0C02-8490-43AC-86C3-0DD37BBA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2F0E-0526-4831-B7F0-F1D966F0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AA78-8C77-4590-94E3-200FEE4E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9E43-BABA-48CB-A964-BC5BABE0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47FCB-0F9A-4F4E-8BB6-597F2938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4A6D-B8CF-490B-9F7C-E25E073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BCD3-FE72-442D-8E4A-F6D17004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15448-E328-4193-99D2-D221AE03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48B9D-E8B3-4319-84D9-D5D4746D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9D8A-9C31-41CF-9D72-C364388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A1EC7-232F-4C5D-8755-5B2A9D5E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31C3-3C1C-40D1-AD3E-D383E159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CA88-05CB-41EC-96F6-EDDC7C25E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FB56-3808-4A04-8D5D-4ADB50947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971640" y="836640"/>
            <a:ext cx="7488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Межпредметные связ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в развит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66"/>
                </a:solidFill>
                <a:uFillTx/>
                <a:latin typeface="Times New Roman"/>
              </a:rPr>
              <a:t>школьного химического образова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40388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риемы реализации межпредметных свя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Постановка межпредметных вопрос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полнение комплексных зад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Решение межпредметных зада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Выполнение межпредметных домашних задан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ение межпредметных контрольных раб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Использование комплексных  наглядных пособ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шение межпредметных учебных пробл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48320" y="620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Формы организации интегративного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грированный учебный д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ый факультати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ая внеклассная раб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Комплексная экскурс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мплексный семина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щественный смотр зн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66"/>
                </a:solidFill>
                <a:latin typeface="Times New Roman"/>
              </a:rPr>
              <a:t>Межпредметный уро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66"/>
                </a:solidFill>
                <a:latin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4360" y="1052640"/>
            <a:ext cx="7488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«…Это изумительная наука, знаете!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Её зоркий смелый взгля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проникает в огненную массу солнца, и во тьму земной кор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в невидимые частицы вашего сердца, в тайны строения кам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и в безмолвную жизнь дерева. Она смотрит, всюду и везде открывая гармонию, упорно ищет начало жизн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И она найдёт его она найдёт!..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М. Гор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3200"/>
            <a:ext cx="8177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99"/>
                </a:solidFill>
                <a:latin typeface="Berlin Sans FB Demi"/>
              </a:rPr>
              <a:t>Формирование </a:t>
            </a:r>
            <a:br>
              <a:rPr sz="3200"/>
            </a:br>
            <a:r>
              <a:rPr b="0" i="1" lang="en-US" sz="3200" spc="-1" strike="noStrike">
                <a:solidFill>
                  <a:srgbClr val="009999"/>
                </a:solidFill>
                <a:latin typeface="Berlin Sans FB Demi"/>
              </a:rPr>
              <a:t>всесторонней научной картины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33480" y="2185560"/>
            <a:ext cx="3611520" cy="3433320"/>
            <a:chOff x="2733480" y="2185560"/>
            <a:chExt cx="3611520" cy="3433320"/>
          </a:xfrm>
        </p:grpSpPr>
        <p:sp>
          <p:nvSpPr>
            <p:cNvPr id="110" name="_s4116"/>
            <p:cNvSpPr/>
            <p:nvPr/>
          </p:nvSpPr>
          <p:spPr>
            <a:xfrm flipH="1" flipV="1">
              <a:off x="3665520" y="3471120"/>
              <a:ext cx="438840" cy="218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4115"/>
            <p:cNvSpPr/>
            <p:nvPr/>
          </p:nvSpPr>
          <p:spPr>
            <a:xfrm>
              <a:off x="2733480" y="2831040"/>
              <a:ext cx="1002600" cy="8571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ГЕОГРАФ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4114"/>
            <p:cNvSpPr/>
            <p:nvPr/>
          </p:nvSpPr>
          <p:spPr>
            <a:xfrm flipH="1">
              <a:off x="3665520" y="4116240"/>
              <a:ext cx="440280" cy="216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113"/>
            <p:cNvSpPr/>
            <p:nvPr/>
          </p:nvSpPr>
          <p:spPr>
            <a:xfrm>
              <a:off x="2733480" y="4117680"/>
              <a:ext cx="1002600" cy="8571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МАТЕМАТИ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112"/>
            <p:cNvSpPr/>
            <p:nvPr/>
          </p:nvSpPr>
          <p:spPr>
            <a:xfrm>
              <a:off x="4538160" y="4328280"/>
              <a:ext cx="1080" cy="4341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111"/>
            <p:cNvSpPr/>
            <p:nvPr/>
          </p:nvSpPr>
          <p:spPr>
            <a:xfrm>
              <a:off x="4037040" y="4761720"/>
              <a:ext cx="1002600" cy="857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ИСТОР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110"/>
            <p:cNvSpPr/>
            <p:nvPr/>
          </p:nvSpPr>
          <p:spPr>
            <a:xfrm>
              <a:off x="4971240" y="4115160"/>
              <a:ext cx="438840" cy="217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109"/>
            <p:cNvSpPr/>
            <p:nvPr/>
          </p:nvSpPr>
          <p:spPr>
            <a:xfrm>
              <a:off x="5342400" y="4117680"/>
              <a:ext cx="1002600" cy="857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ЭК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4108"/>
            <p:cNvSpPr/>
            <p:nvPr/>
          </p:nvSpPr>
          <p:spPr>
            <a:xfrm flipV="1">
              <a:off x="4971240" y="3472200"/>
              <a:ext cx="438840" cy="216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4107"/>
            <p:cNvSpPr/>
            <p:nvPr/>
          </p:nvSpPr>
          <p:spPr>
            <a:xfrm>
              <a:off x="5342400" y="2829600"/>
              <a:ext cx="1002600" cy="857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БИОЛОГ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4106"/>
            <p:cNvSpPr/>
            <p:nvPr/>
          </p:nvSpPr>
          <p:spPr>
            <a:xfrm flipV="1">
              <a:off x="4538160" y="3041280"/>
              <a:ext cx="0" cy="433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4105"/>
            <p:cNvSpPr/>
            <p:nvPr/>
          </p:nvSpPr>
          <p:spPr>
            <a:xfrm>
              <a:off x="4037040" y="2185560"/>
              <a:ext cx="1002600" cy="8571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3333cc"/>
                  </a:solidFill>
                  <a:latin typeface="Arial"/>
                </a:rPr>
                <a:t>ФИЗИКА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4104"/>
            <p:cNvSpPr/>
            <p:nvPr/>
          </p:nvSpPr>
          <p:spPr>
            <a:xfrm>
              <a:off x="4037040" y="3474720"/>
              <a:ext cx="1002600" cy="8571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3333cc"/>
                  </a:solidFill>
                  <a:latin typeface="Arial"/>
                </a:rPr>
                <a:t>ХИМ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 flipH="1">
            <a:off x="3708360" y="4076640"/>
            <a:ext cx="432000" cy="24912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551480" y="4282920"/>
            <a:ext cx="1440" cy="5526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32360" y="4076640"/>
            <a:ext cx="507960" cy="2844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03640" y="3428640"/>
            <a:ext cx="466920" cy="22212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21240" y="2997360"/>
            <a:ext cx="19080" cy="5490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3429000"/>
            <a:ext cx="447840" cy="243000"/>
          </a:xfrm>
          <a:prstGeom prst="line">
            <a:avLst/>
          </a:prstGeom>
          <a:ln w="93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763200"/>
            <a:ext cx="821844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Berlin Sans FB"/>
              </a:rPr>
              <a:t>Межпредметные связи </a:t>
            </a:r>
            <a:br>
              <a:rPr sz="2800"/>
            </a:br>
            <a:br>
              <a:rPr sz="2400"/>
            </a:b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Главная дидактическая функция:</a:t>
            </a:r>
            <a:br>
              <a:rPr sz="2000"/>
            </a:br>
            <a:br>
              <a:rPr sz="20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Последовательное отражение в содержании естественнонаучных дисциплин объективных взаимосвязей, действующих в природ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2481120"/>
            <a:ext cx="41004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Дидактические принци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у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истемати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вязь теории с практ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знавательная актив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доступ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роч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гляд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мировоззренческая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направленнос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ложительный эмоциональный фо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очетание коллективного и индивидуального характера учеб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3280" y="2491920"/>
            <a:ext cx="404352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66"/>
                </a:solidFill>
                <a:uFillTx/>
                <a:latin typeface="Arial"/>
              </a:rPr>
              <a:t>Главные дидактические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повышение научности и последовательности учебной информ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стимулирование познавательных интересов и активного отношения обучающихся к усвоению зн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воспитание научных убеж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7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4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Повышение научности и последовательности учебн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8080"/>
            <a:ext cx="4038480" cy="53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  и информатик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пособствует приобретению новых знаний, развитию познавательного интереса (дополнительные знания по предмет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оздаёт: более доступные для учащихся схемы объяснения химических явлений; условия для развития пространственного мышления (пространственное видение молекулы и описание её свойств по увиденной модел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Формирует культуру оформления собственных исследований (презентации исследований, рефератов); навыки систематизации и архивирования матери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Позволяет осуществлять более эффективный контроль за усвоением знаний (компьютерное тестирование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150560"/>
            <a:ext cx="403848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  и  истор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пособствует выстраиванию иерархии исторического развития хи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оздаёт поле для новых знаниевых открытий учащих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Воспитывает трудолюбие, усердие (любое открытие является результатом многолетней работы учёны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Развивает кругозор, воображение (освещение исторических заслуг учёных, этапов открытий, выдвижение собственных гипотез и идей)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Формирует навык обобщения. (создание таблицы Менделеев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Повышение научности и последовательности учебн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 химией  и физик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Формирует представление о базисной основе химии (тема «Строение атома» впервые вводится  в курсе физики и является основой изучения хим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Способствует усвоению химических понятий путём переноса имеющихся знаний из курса физики в курс химии («Газообразное состояние вещества», «Электролитическая диссоциация», «Электролиз»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Использует теории и законы, общие для физики и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Использует физические понятия, величины и единицы изме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 химией  и математик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Способствует конкретизации математических знаний (с помощью графиков изображаются закономерности химических процес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Показывает прикладной характер математики (использование математического аппарата для описания процессов, протекающих в жизни; применение математических методов, способов при решении химических задач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Укрепляет измерительно-вычислительные и графические ум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Воспитывает культуру работы с математическими инструм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66"/>
                </a:solidFill>
                <a:latin typeface="Arial"/>
              </a:rPr>
              <a:t>Повышает эффективность обучения химии посредством алгоритмизации процесса обу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66"/>
                </a:solidFill>
                <a:uFillTx/>
                <a:latin typeface="Arial"/>
              </a:rPr>
              <a:t>Алгоритм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- математическое понятие, широко применяемое в обучении хим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c0066"/>
                </a:solidFill>
                <a:uFillTx/>
                <a:latin typeface="Arial"/>
              </a:rPr>
              <a:t>Алгоритмизация</a:t>
            </a:r>
            <a:r>
              <a:rPr b="1" lang="ru-RU" sz="1400" spc="-1" strike="noStrike">
                <a:solidFill>
                  <a:srgbClr val="cc0066"/>
                </a:solidFill>
                <a:latin typeface="Arial"/>
              </a:rPr>
              <a:t> - способ обучения химии, способствующий формированию общеучебных навыков, монологической речи, развитию коммуникативных способностей, экономии времени, выбору наиболее рационального способа решения, отсутствию эмоционального дискомфор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Алгоритм - </a:t>
            </a: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строгое предписание выполнения действий или 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                           деятельности, обязательно приводящее к      </a:t>
            </a:r>
            <a:br>
              <a:rPr sz="1800"/>
            </a:br>
            <a:r>
              <a:rPr b="1" i="1" lang="en-US" sz="1800" spc="-1" strike="noStrike">
                <a:solidFill>
                  <a:srgbClr val="6600cc"/>
                </a:solidFill>
                <a:latin typeface="Arial"/>
              </a:rPr>
              <a:t>                           достижению заранее поставленной задачи.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една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еимущества алгорит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752480"/>
            <a:ext cx="1828800" cy="520200"/>
          </a:xfrm>
          <a:prstGeom prst="borderCallout1">
            <a:avLst>
              <a:gd name="adj1" fmla="val 18750"/>
              <a:gd name="adj2" fmla="val -8333"/>
              <a:gd name="adj3" fmla="val -15421"/>
              <a:gd name="adj4" fmla="val 11084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Побуждает ученика к действ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371600"/>
            <a:ext cx="43434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Виды алгоритм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общеучеб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тематическ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едмет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66"/>
                </a:solidFill>
                <a:uFillTx/>
                <a:latin typeface="Arial"/>
              </a:rPr>
              <a:t>Применение способа алгоритмизации в изучении хим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решении задач и уравн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описании химически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проведение лабораторных, практических, контрольных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изучении, закреплении нового материала, при повторении изучен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при организации учеб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1762200"/>
            <a:ext cx="1709640" cy="520200"/>
          </a:xfrm>
          <a:prstGeom prst="borderCallout1">
            <a:avLst>
              <a:gd name="adj1" fmla="val 18750"/>
              <a:gd name="adj2" fmla="val -8333"/>
              <a:gd name="adj3" fmla="val -14037"/>
              <a:gd name="adj4" fmla="val -11324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Даёт чёткий ответ на вопрос «Как?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2970360"/>
            <a:ext cx="2328840" cy="520200"/>
          </a:xfrm>
          <a:prstGeom prst="borderCallout3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Чёткость, конкретность изложения действ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3657600"/>
            <a:ext cx="2417760" cy="307080"/>
          </a:xfrm>
          <a:prstGeom prst="borderCallout1">
            <a:avLst>
              <a:gd name="adj1" fmla="val -678"/>
              <a:gd name="adj2" fmla="val -53013"/>
              <a:gd name="adj3" fmla="val -681"/>
              <a:gd name="adj4" fmla="val 137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Лог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82680" y="4191120"/>
            <a:ext cx="2513160" cy="307080"/>
          </a:xfrm>
          <a:prstGeom prst="borderCallout1">
            <a:avLst>
              <a:gd name="adj1" fmla="val -652"/>
              <a:gd name="adj2" fmla="val -90649"/>
              <a:gd name="adj3" fmla="val -655"/>
              <a:gd name="adj4" fmla="val 1374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Простота вос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1400" y="4724280"/>
            <a:ext cx="2585880" cy="520200"/>
          </a:xfrm>
          <a:prstGeom prst="borderCallout1">
            <a:avLst>
              <a:gd name="adj1" fmla="val -634"/>
              <a:gd name="adj2" fmla="val -75450"/>
              <a:gd name="adj3" fmla="val -636"/>
              <a:gd name="adj4" fmla="val 16916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d"/>
                </a:solidFill>
                <a:latin typeface="Times New Roman"/>
              </a:rPr>
              <a:t>Лёгкость и быстрота запоми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cc"/>
                </a:solidFill>
                <a:uFillTx/>
                <a:latin typeface="Arial"/>
              </a:rPr>
              <a:t>Стимулирование познавательных интересов и активного отношения обучающихся к усвоению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4716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Реализация связей меж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66"/>
                </a:solidFill>
                <a:uFillTx/>
                <a:latin typeface="Arial"/>
              </a:rPr>
              <a:t>химией, экологией и биолог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Формирует правильное воззрение на науку о природе как результат обобщения человеческого опы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Показывает практическую связь науки с жизн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Объясняет: происходящие вокруг процессы; суть строения и функций организмов;  как и почему существуют организмы на Земле; как сохранить имеющееся многообраз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789360"/>
            <a:ext cx="85690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«Познание начинается с удивл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Аристо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Воспитание научных уб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484280"/>
            <a:ext cx="1511280" cy="71928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19640" y="1484280"/>
            <a:ext cx="1942920" cy="72072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уча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1484280"/>
            <a:ext cx="2158920" cy="727200"/>
          </a:xfrm>
          <a:prstGeom prst="flowChartProcess">
            <a:avLst/>
          </a:prstGeom>
          <a:solidFill>
            <a:srgbClr val="cccce6"/>
          </a:solidFill>
          <a:ln w="93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исследователь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уч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35280" y="981000"/>
            <a:ext cx="1440" cy="511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981000"/>
            <a:ext cx="0" cy="507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08720" y="981000"/>
            <a:ext cx="6480" cy="4827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1120" y="2841480"/>
            <a:ext cx="1857240" cy="180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исследова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лабораторная работ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66"/>
                </a:solidFill>
                <a:latin typeface="Arial"/>
              </a:rPr>
              <a:t>Урок – экспери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852640"/>
            <a:ext cx="2305080" cy="1797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Написание и защита рефер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Написание и презентация исследовательских раб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45240" y="2824200"/>
            <a:ext cx="2047680" cy="1554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Орган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амо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учите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Участие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конференция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семина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Учитель химии МОУ СОШ №7 г. Сыктывкара Н.О. Полле</a:t>
            </a: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9:26:39Z</dcterms:created>
  <dc:creator>Иевлева Елена Александровна</dc:creator>
  <dc:description/>
  <dc:language>en-US</dc:language>
  <cp:lastModifiedBy>Владелец</cp:lastModifiedBy>
  <dcterms:modified xsi:type="dcterms:W3CDTF">2010-04-23T14:48:35Z</dcterms:modified>
  <cp:revision>46</cp:revision>
  <dc:subject/>
  <dc:title>Слайд 1</dc:title>
</cp:coreProperties>
</file>