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BD9-4070-4B1C-AD6B-009EEC89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24D-1167-4116-9C7B-D788F6EA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A0F1-9A93-42F5-99BB-A9863D4A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780-5FB0-4574-9805-396268B5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F804-708B-4F10-9699-955726A4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9096-FA22-4D09-B12C-A5B05189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ABC9-B1C9-4EEA-942F-CB9DD256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51DE-BD02-4DD4-9CAB-87421824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7218-9734-4534-8C79-62FDE5D8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B99E-027B-4E92-A4A2-6E59E28C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2F51-49A7-4FDD-ACF1-E9B97D78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ED3-6F53-4904-8DEA-C433A94C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8E1F-77E3-4777-A128-4AEF6FDF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D7CD-3428-4571-AF65-6024C68F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7CF4-8DAE-4D34-91E4-3E774EC0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2FF4-E0A3-4389-9D3B-34B4F2AA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0495-CAEA-42A5-92F2-014415AC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A71B7-BD72-4656-A3DB-CFF2418B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2C700-6A06-4153-AE4D-D9015CC8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DD10-9610-4532-B740-3600072B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9E12B-F3C0-4098-8183-B5FCAE02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021F-9D6D-4AB4-A107-05A53AFE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2CF-05B6-4448-B381-40CA72D2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63460-423B-4972-986D-496DBE2B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1BB90-6C5D-49E1-BF31-C55CBEAB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4DD3E-3EFF-4F29-A189-7E38415C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4FC2F-6219-4904-8DBD-58EB7950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4448-E1D8-43FC-B489-87DEBFC8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FC020-B81E-4138-B604-EEDEDE70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36A13-3DAE-40C2-A413-FEF5D3C5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017EF-2BB6-4C42-8EB0-90D7D8DA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9D732-1B7B-4FB9-9B15-35DB07B8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66E29-4E7D-4DB2-A42C-15FC34DA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2DC-FB71-4B0C-B336-B745613A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39C5C-7FA0-4FD7-BED0-109C92C2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4B50B-AD02-47CB-94EA-C3E4DD2D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D58F3-5376-4200-909C-C8EE6CBA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D44FC-5284-493A-B5F3-C73D00CC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61D67-DF34-4B94-9B42-9E71B89B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8D253-1F2B-48FB-8160-55FFCE6A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71982-EF2A-4039-8753-2ECAB457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BC550-DE37-41C3-9EC3-A539B8AF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1AEE3-007A-4E71-B6A7-9A9C7290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CDC3D-89E6-455F-B4B2-ED62BBD5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EE0-6846-4F72-B6B8-86F03602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1AF11-22B1-4116-99CC-9AC2CD2C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8756D-B35F-4269-A49E-D2D31799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A9075-796E-48EF-81DB-C1AC8055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121CA-0CCB-4A2E-8A6C-6E997073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966BB-04B8-4F35-A18D-4D7B557C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1FA62-0FA3-4D20-A41C-A9AC6B25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5FECC-60F8-4A0C-9B24-D7CE1ED6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AAE51-4018-48DA-ABFA-7D0BA0C4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63C92-A429-4B7B-9022-26A53BD1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04639-34ED-4CAA-8663-7B0B6175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EEE-05C3-4C01-B805-7EFDE7E0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4B2CA-7827-4EE9-9AC3-8D06BE39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21928-68AD-4694-B72A-445A4CD1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5F5AF-B6CB-4D7E-9C0A-2366244D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B7358-0F49-4FA2-9CB5-7D924874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1EA16-1900-43ED-A26B-51DF036C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9825B-B6F1-4AD3-8262-25AB6BB0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4D49D-0F32-45CD-AB17-2A965061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5A1BA-49B5-4FDB-A84A-8AFB3CDF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DFAA5-84AB-4229-9503-4CDA5EC3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76107-F501-4522-B32B-F9BE3353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B71-7B6C-4629-9CA4-01A3481F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D4073-0023-4AE1-A180-4C0B7168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69EF6-82BC-4D84-B0E1-5992446B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7E97A-94CA-4E5E-85B5-4041DB83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4C2DA-369C-46CF-B5AC-5A7E2CEC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4D8B0-5204-4CFA-B5DC-7C9D61AD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41BD4-6A3E-4CC2-8E4D-9E7A1195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B4B42-A372-49AB-9971-6D673585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9791A-1B18-4714-8825-8C51EE1D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8D613-CEA6-4C62-BB00-D496066E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ED1AA-EB3B-4E7A-8D0C-753382CC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731-DE4D-4E08-8994-A12F2761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C770F-8F73-4135-B030-B3C0943F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B676F-805E-46AC-8533-77A2DF4E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0D2E0-A345-4AEF-A1E1-3F5F96A0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9C56A-D770-4A70-B51A-845CC832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B077C-C766-45AC-A483-C2F9E449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F23-3A03-412A-8062-A9284E9F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8917-1779-4856-A67A-43B688AB1B4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DBBD-8C0F-4124-9C6D-AD74A0BD84B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8F05-120A-4B81-871E-F40598AFE10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100F-DBD5-4FEA-BFB5-A162BB272C9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F476-6170-491A-99D7-372C3CA5B82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1025-99CE-4ED7-8F6F-C8FF58C64FC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3E45-9710-4CBC-A9EA-65D47488CA7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12484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572314"/>
                </a:solidFill>
                <a:latin typeface="Corbel"/>
              </a:rPr>
              <a:t>Ценностные ориентации современной молодёжи</a:t>
            </a:r>
            <a:endParaRPr b="0" lang="en-US" sz="5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429080" y="3857760"/>
            <a:ext cx="4500720" cy="2643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Выполнила: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студентка группы 2м курса специальность 050201 математи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Антропова Екатерина Олего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Руководител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Калинина Нина Викторовна, преподаватель педагогик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Что для Вас обозначает слово мечта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Содержимое 3" descr=""/>
          <p:cNvPicPr/>
          <p:nvPr/>
        </p:nvPicPr>
        <p:blipFill>
          <a:blip r:embed="rId1"/>
          <a:stretch/>
        </p:blipFill>
        <p:spPr>
          <a:xfrm>
            <a:off x="1434960" y="144792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56800" y="214200"/>
            <a:ext cx="807732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дя полное исследование анкетирования можно прийти к выводу, что базовые ценности – это семья, личностное счастье. Также формируется  положительное отношение к ЗОЖ, а отрицательное к таким явлениям как табакокурение и алкогол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2" descr="C:\Users\КАТЕРИНА\Desktop\фвлюопи\ква.jpeg"/>
          <p:cNvPicPr/>
          <p:nvPr/>
        </p:nvPicPr>
        <p:blipFill>
          <a:blip r:embed="rId1"/>
          <a:stretch/>
        </p:blipFill>
        <p:spPr>
          <a:xfrm rot="1423800">
            <a:off x="5457600" y="4287960"/>
            <a:ext cx="2786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071360" y="356760"/>
            <a:ext cx="786276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Прямоугольник 3" descr=""/>
          <p:cNvPicPr/>
          <p:nvPr/>
        </p:nvPicPr>
        <p:blipFill>
          <a:blip r:embed="rId1"/>
          <a:stretch/>
        </p:blipFill>
        <p:spPr>
          <a:xfrm>
            <a:off x="1481040" y="1816200"/>
            <a:ext cx="70405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071360" y="356760"/>
            <a:ext cx="807228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Молодёжь – это новое поколение, которое должно стать заменой своих родителей и опорой для общества и государств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3" descr="C:\Users\КАТЕРИНА\Desktop\фвлюопи\image2.jpeg"/>
          <p:cNvPicPr/>
          <p:nvPr/>
        </p:nvPicPr>
        <p:blipFill>
          <a:blip r:embed="rId1"/>
          <a:stretch/>
        </p:blipFill>
        <p:spPr>
          <a:xfrm rot="577800">
            <a:off x="4976280" y="3769920"/>
            <a:ext cx="3435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000080" y="0"/>
            <a:ext cx="7934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данной работы состоит в том, чтобы проанализировать ценностные ориентации современной молодеж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Задачам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нашей работы состоят в следующем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характеризовать современную молодёжь как социальную прослойку обществ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анализировать ценности современной молодеж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071360" y="214200"/>
            <a:ext cx="78627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 настоящее время современное общество находится в очень сложном положении. После смены политического режима страна ещё не опомнилась. Пошатнулись все устои, потерялись ценностные ориентации, исчезли духовно-нравственные идеалы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714240" y="0"/>
            <a:ext cx="822024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ного молодых людей занимаются спортом, особенно новыми видами (скейтборд, сноуборд, велоспорт). Человек, занимающийся спортом, заслуживает уважение. Но в основном всё же осадок того «смутного» времени остался. Сейчас всё же, не смотря на эти просветы, если пойти по улице можно увидеть много пьющих компаний, слоняющихся по улицам без де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Picture 3" descr="C:\Users\КАТЕРИНА\Desktop\фвлюопи\i.jpeg"/>
          <p:cNvPicPr/>
          <p:nvPr/>
        </p:nvPicPr>
        <p:blipFill>
          <a:blip r:embed="rId1"/>
          <a:stretch/>
        </p:blipFill>
        <p:spPr>
          <a:xfrm rot="567600">
            <a:off x="6453000" y="5170320"/>
            <a:ext cx="21906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214280" y="-36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нности не существуют объективно, подобно материальным вещам. Они являются результатом творчества каждого человека людей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Поэтому чтобы получить представление о ценностях всего общества нужно рассмотреть ценности каждого или большинства человек, составляющих это обществ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C:\Users\КАТЕРИНА\Desktop\фвлюопи\p1824_3b[1].jpg"/>
          <p:cNvPicPr/>
          <p:nvPr/>
        </p:nvPicPr>
        <p:blipFill>
          <a:blip r:embed="rId1"/>
          <a:stretch/>
        </p:blipFill>
        <p:spPr>
          <a:xfrm rot="924600">
            <a:off x="5622480" y="4803840"/>
            <a:ext cx="23670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для Вас такое счастье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1"/>
          <a:stretch/>
        </p:blipFill>
        <p:spPr>
          <a:xfrm>
            <a:off x="1000080" y="1143000"/>
            <a:ext cx="8143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для Вас любовь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"/>
          <p:cNvPicPr/>
          <p:nvPr/>
        </p:nvPicPr>
        <p:blipFill>
          <a:blip r:embed="rId1"/>
          <a:stretch/>
        </p:blipFill>
        <p:spPr>
          <a:xfrm>
            <a:off x="928800" y="1447920"/>
            <a:ext cx="80056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для Вас деньг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Содержимое 5" descr=""/>
          <p:cNvPicPr/>
          <p:nvPr/>
        </p:nvPicPr>
        <p:blipFill>
          <a:blip r:embed="rId1"/>
          <a:stretch/>
        </p:blipFill>
        <p:spPr>
          <a:xfrm>
            <a:off x="1434960" y="144792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21:25:27Z</dcterms:created>
  <dc:creator>КАТЕРИНА</dc:creator>
  <dc:description/>
  <dc:language>en-US</dc:language>
  <cp:lastModifiedBy>Максим</cp:lastModifiedBy>
  <dcterms:modified xsi:type="dcterms:W3CDTF">2010-12-17T12:48:21Z</dcterms:modified>
  <cp:revision>10</cp:revision>
  <dc:subject/>
  <dc:title>Ценностные ориентации современной молодёжи</dc:title>
</cp:coreProperties>
</file>