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7BC-C24A-4FFE-958C-7DA3FA4C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613-99D7-4A39-BD65-D0A43ABD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8F52-A599-4E5F-B14A-C5744514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7ED-402E-43AE-B1EF-3E3801CD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E582-21A9-40ED-9A46-2921EEE4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B73E-9BF2-4DB5-A3AF-4D58286E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32A1-76A9-46C3-B6EE-106AEFC3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9AF4-A6DC-49BB-B625-02F41081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4B3F-9E7A-47E6-B09B-AE65E986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342A-77CE-4FCC-B6EE-B89B2AA4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4750-AEA6-4CD1-B751-4FD8565C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93C3-67B8-42D4-B84F-8554FDA7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6A08-2FE4-444D-84FA-A49BA6B4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AD31-12F3-4D66-A361-85B1133C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4D3E-D87F-4063-9A90-2434B540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DC0D-CA33-4E94-90A9-B5FADA72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8C8C-FDE4-482F-BB2D-1FF50F1B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4CD4B-6EE0-4117-A3F8-9AAE179A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12AE6-DD5D-4850-9474-70B07583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92E04-AF24-4AEE-AAB7-90F1934C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1A6E5-7A4C-437A-9523-40655439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207F3-E35A-4931-A6A5-21BAB539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322-1820-494B-B400-F9ECA71F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A1B75-9891-4534-8580-D5363645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695B1-9A53-4841-85CC-8076E495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486FE-66CF-4426-9D20-4CDDE30A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000B7-8946-4DA5-A701-3F09B019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0708B-807C-4471-B548-EF2AEDC7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375B0-95EA-4B17-8074-C9BC9BD1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4AEBF-0908-4B8C-9EA7-8C5E99A3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DB2C9-42D8-46CC-82A0-32600420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76766-02CD-4CBA-975C-26D178F4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A5AD9-E252-468B-9909-25E6F250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9B5-BF0C-4B04-A980-DD9E6FE1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A371F-9BDD-4869-970F-B307A58A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3846D-C50E-4DF3-B054-CA75A63D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778BD-DC43-4576-BB40-5153819B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B79A3-029C-4F79-84C2-831D0F96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5FB60-0ACD-4268-9EFF-946F1DDF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429FF-81B5-4DCE-85D1-71868313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EB886-06ED-4648-B66D-832F5444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59A7A-2FB9-4CB9-A556-D721DAA4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DA6B5-6B01-4DB6-9498-ABC46E9A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FE3A7-5354-49C3-A1C7-BBECF3FF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052-EAEB-45E5-BFAB-81520049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C855B-B9EB-4BA0-8395-EC1B62B5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AFD0A-D604-449C-85C4-E6D3E863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C91C3-D691-4D4C-B242-0D0977D8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F77A7-728B-4FB5-8A51-F75E8BA8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328AF-9C28-4F88-86DC-DEA26EA7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25A4D-1116-4FE2-8598-6C74ED53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03C86-1A51-432F-BE81-E774973E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BF48F-8431-4342-B8AC-5098A199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1BA7E-BE4E-4FB2-9803-95239489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3BA46-1B65-4099-AD4E-CD9D4F14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5B7D-CC70-4E40-BB74-913FE1A9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4F211-BDBF-4155-B90D-89FC5183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0C53B-D0EF-4320-98DA-B9046000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E6AA8-5BFE-4349-BC15-2DDFCE5E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B7A66-CF53-48E1-8BDC-3D46DF98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62434-C272-4D83-BE0D-5BCBFAFE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63B06-79AA-43A4-87ED-30AC4C75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51E7B-6B14-4A1B-ADCF-4933369B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1AAE5-A6D5-411B-85C3-D856F7E0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53081-2120-4E4A-8E2D-7179B535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AE9C4-A4AF-4DA9-BDE1-0683CA12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EC8-FE4E-4733-9286-C7945D58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57D1E-204F-4026-BCD6-F9C6ECFA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B3BFD-3401-415D-9A06-F0D892FF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13938-83B6-4ED8-9411-594D38FF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54370-13C8-4F37-B8CA-AAE00C0C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EEC15-6F46-4D64-85BD-4B9ADDB9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D3D95-76BC-4C62-B589-B080C22E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90120-DF9D-487D-B6F0-C6E297DA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2AEF0-3836-4B2F-AD67-42E03B77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09B05-1799-4BA0-8F87-45CC37D2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450AF-8291-48E9-A016-CB9ED4E6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21D-8E70-41D7-9DB8-D7E409B0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46BF4-3905-445D-955F-F1A20F63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4B5F6-F07B-43EA-B02C-C3DBD085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61B6A-4088-475F-BB13-FBCC7A5E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B5FF3-4FD6-4150-8A5B-0A36EA6D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E7118-71C6-4266-A827-BF0DC1D2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F500-1C5F-4022-978A-67CE8E13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C124-8117-4E7D-BA79-B82103AAEFE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FEA3-FB44-4343-BE3A-A1155688403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E8C7-A33F-4217-984B-8886DB97536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825D-4407-4455-B654-D04185DF8F9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1109-E3F1-4862-A07E-9576FB1C224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3BF5-56C8-4938-8265-9436DC4E3E8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FF17-9CE3-40B3-9E6C-AE05953026F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12484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572314"/>
                </a:solidFill>
                <a:latin typeface="Corbel"/>
              </a:rPr>
              <a:t>Ценностные ориентации современной молодёжи</a:t>
            </a:r>
            <a:endParaRPr b="0" lang="en-US" sz="5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429080" y="3857760"/>
            <a:ext cx="4500720" cy="2643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Corbel"/>
              </a:rPr>
              <a:t>Выполнила: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студентка группы 2м курса специальность 050201 математи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Антропова Екатерина Олего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Corbel"/>
              </a:rPr>
              <a:t>Руководитель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Калинина Нина Викторовна, преподаватель педагогик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Что для Вас обозначает слово мечта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Содержимое 3" descr=""/>
          <p:cNvPicPr/>
          <p:nvPr/>
        </p:nvPicPr>
        <p:blipFill>
          <a:blip r:embed="rId1"/>
          <a:stretch/>
        </p:blipFill>
        <p:spPr>
          <a:xfrm>
            <a:off x="1434960" y="144792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56800" y="214200"/>
            <a:ext cx="807732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дя полное исследование анкетирования можно прийти к выводу, что базовые ценности – это семья, личностное счастье. Также формируется  положительное отношение к ЗОЖ, а отрицательное к таким явлениям как табакокурение и алкогол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2" descr="C:\Users\КАТЕРИНА\Desktop\фвлюопи\ква.jpeg"/>
          <p:cNvPicPr/>
          <p:nvPr/>
        </p:nvPicPr>
        <p:blipFill>
          <a:blip r:embed="rId1"/>
          <a:stretch/>
        </p:blipFill>
        <p:spPr>
          <a:xfrm rot="1423800">
            <a:off x="5457600" y="4287960"/>
            <a:ext cx="27860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071360" y="356760"/>
            <a:ext cx="786276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Прямоугольник 3" descr=""/>
          <p:cNvPicPr/>
          <p:nvPr/>
        </p:nvPicPr>
        <p:blipFill>
          <a:blip r:embed="rId1"/>
          <a:stretch/>
        </p:blipFill>
        <p:spPr>
          <a:xfrm>
            <a:off x="1481040" y="1816200"/>
            <a:ext cx="70405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071360" y="356760"/>
            <a:ext cx="807228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Молодёжь – это новое поколение, которое должно стать заменой своих родителей и опорой для общества и государств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3" descr="C:\Users\КАТЕРИНА\Desktop\фвлюопи\image2.jpeg"/>
          <p:cNvPicPr/>
          <p:nvPr/>
        </p:nvPicPr>
        <p:blipFill>
          <a:blip r:embed="rId1"/>
          <a:stretch/>
        </p:blipFill>
        <p:spPr>
          <a:xfrm rot="577800">
            <a:off x="4976280" y="3769920"/>
            <a:ext cx="3435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000080" y="0"/>
            <a:ext cx="7934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данной работы состоит в том, чтобы проанализировать ценностные ориентации современной молодеж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Задачам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нашей работы состоят в следующем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характеризовать современную молодёжь как социальную прослойку обществ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анализировать ценности современной молодеж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071360" y="214200"/>
            <a:ext cx="78627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 настоящее время современное общество находится в очень сложном положении. После смены политического режима страна ещё не опомнилась. Пошатнулись все устои, потерялись ценностные ориентации, исчезли духовно-нравственные идеалы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714240" y="0"/>
            <a:ext cx="822024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ного молодых людей занимаются спортом, особенно новыми видами (скейтборд, сноуборд, велоспорт). Человек, занимающийся спортом, заслуживает уважение. Но в основном всё же осадок того «смутного» времени остался. Сейчас всё же, не смотря на эти просветы, если пойти по улице можно увидеть много пьющих компаний, слоняющихся по улицам без де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Picture 3" descr="C:\Users\КАТЕРИНА\Desktop\фвлюопи\i.jpeg"/>
          <p:cNvPicPr/>
          <p:nvPr/>
        </p:nvPicPr>
        <p:blipFill>
          <a:blip r:embed="rId1"/>
          <a:stretch/>
        </p:blipFill>
        <p:spPr>
          <a:xfrm rot="567600">
            <a:off x="6453000" y="5170320"/>
            <a:ext cx="21906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214280" y="-36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Ценности не существуют объективно, подобно материальным вещам. Они являются результатом творчества каждого человека людей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Поэтому чтобы получить представление о ценностях всего общества нужно рассмотреть ценности каждого или большинства человек, составляющих это обществ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2" descr="C:\Users\КАТЕРИНА\Desktop\фвлюопи\p1824_3b[1].jpg"/>
          <p:cNvPicPr/>
          <p:nvPr/>
        </p:nvPicPr>
        <p:blipFill>
          <a:blip r:embed="rId1"/>
          <a:stretch/>
        </p:blipFill>
        <p:spPr>
          <a:xfrm rot="924600">
            <a:off x="5622480" y="4803840"/>
            <a:ext cx="23670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то для Вас такое счастье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Содержимое 3" descr=""/>
          <p:cNvPicPr/>
          <p:nvPr/>
        </p:nvPicPr>
        <p:blipFill>
          <a:blip r:embed="rId1"/>
          <a:stretch/>
        </p:blipFill>
        <p:spPr>
          <a:xfrm>
            <a:off x="1000080" y="1143000"/>
            <a:ext cx="8143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то для Вас любовь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3" descr=""/>
          <p:cNvPicPr/>
          <p:nvPr/>
        </p:nvPicPr>
        <p:blipFill>
          <a:blip r:embed="rId1"/>
          <a:stretch/>
        </p:blipFill>
        <p:spPr>
          <a:xfrm>
            <a:off x="928800" y="1447920"/>
            <a:ext cx="80056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то для Вас деньги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Содержимое 5" descr=""/>
          <p:cNvPicPr/>
          <p:nvPr/>
        </p:nvPicPr>
        <p:blipFill>
          <a:blip r:embed="rId1"/>
          <a:stretch/>
        </p:blipFill>
        <p:spPr>
          <a:xfrm>
            <a:off x="1434960" y="144792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21:25:27Z</dcterms:created>
  <dc:creator>КАТЕРИНА</dc:creator>
  <dc:description/>
  <dc:language>en-US</dc:language>
  <cp:lastModifiedBy>Максим</cp:lastModifiedBy>
  <dcterms:modified xsi:type="dcterms:W3CDTF">2010-12-17T12:48:21Z</dcterms:modified>
  <cp:revision>10</cp:revision>
  <dc:subject/>
  <dc:title>Ценностные ориентации современной молодёжи</dc:title>
</cp:coreProperties>
</file>