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9C6-C1E4-4002-8F29-8BDA600A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0BD-11B7-4FB1-8BEF-10031CFF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0B7-9C62-46CE-82F1-27CEAD4D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BDE-267F-4F78-B525-C8CC148D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F7EE-EB9F-4C4C-B050-66BCA84A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06AB-3080-40F8-9656-22D3AC6F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3843-C479-4DB7-8301-F8B47B48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13BC-8C04-47C0-B60B-A3D4EA5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B0FF-0A9E-49A0-8E5F-A7C8315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67D7-FF78-4239-8C13-CC0D3DFD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4E2A-426C-4963-85AF-47A043B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349-9E97-4C81-B3B0-A6C5C048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D8D3-ECA6-4FC8-ADF9-B811EEA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FAB0-4951-4B9C-9D56-264C50D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D7CF-543F-4489-A2A9-1B36088E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EDCB-B5E4-4A4C-8A8F-298AC288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EF26-2D88-4653-9E22-A1252C67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A5E-6EB1-4CF3-819B-0943B0F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C29-49E2-49A2-B6A8-F289C95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DC2-2FDB-445A-9AD8-E9A8941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B12-F0AD-4C55-9468-44157CCE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F6C-37BB-443B-A00A-BF199D0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390-1EA2-4D2A-81C3-EDD0656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54A-969D-4414-864E-DB746BF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0054-6479-48B7-A581-C85C01606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2B73-DDB6-48C9-B0BA-F2812215ED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ой целью данной курсовой работы является получение небольшого числа ключевых (наиболее информативных) параметров, дающих объективную и точную картину финансового состояния банка, его прибылей и убытков, изменений в структуре активов и пассивов, в расчетах с дебиторами и кредиторам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туальный подход, используемый в Европе, базируется на выявлении банковских рисков, их оценке и эффективности управления и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нансовые взаимоотношения Казахстана с другими странами продолжают носить долговой характер. За период с 2004 г. по 2007 г. и первое полугодие 2006 г. темпы роста внешних обя­зательств по сравнению с объемом на конец предыдущего года составляли 40%, 70%, 90% и 40% соответствен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онец 2007 года в стране действовало 35 банков второго уровня с суммарным собственным капиталом 1760,3  млрд. тенге, который увеличился за год на 46,9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казатели адекватности собственного капитала банковского сектора по состоянию на 1 декабря 2007 года составили К1-0,11 (при нормативе-0,06)(для банка участником которого является банковский холдинг, норматив-0,05), К2-0,14 9при нормативе-0,12)(для банка, участником которого является банковский холдинг, норматив-0,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в, все показатели можно с уверенностью сказать, что все относительные показатели и их уровень показывают и характеризуют долгосрочную перспективу и хорошую тенденцию к дальнейшему развитию банковского сектора Республики Казахста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результатам 2007 года АО «Народный Банк Казахстана» сохранил лидирующие позиции среди трех банков по темпам роста привлеченных депозитов клиентов, в итоге, на конец года Банк вышел на первое место по объемам клиентских депози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финансовым состоянием понимается способность банка финансировать свою деятельность. Финансовое состояние - комплексное понятие. Оно характеризуется обеспеченностью финансовыми ресурсами, необходимыми для нормального функционирования банка, целесообразностью их  размещения и эффективностью использования, финансовыми взаимоотношениями с другими юридическими и физическими лицами, платежеспособностью и финансовой устойчив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0348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8956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76880" y="-3546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956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688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688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82600" y="2017800"/>
          <a:ext cx="7637400" cy="4373640"/>
        </p:xfrm>
        <a:graphic>
          <a:graphicData uri="http://schemas.openxmlformats.org/drawingml/2006/table">
            <a:tbl>
              <a:tblPr/>
              <a:tblGrid>
                <a:gridCol w="4141800"/>
                <a:gridCol w="1087560"/>
                <a:gridCol w="2408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 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7 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1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ый 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спределенный чистый до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5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3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активов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обязательств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собственного капитала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уставного капитала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на средние активы ROA (&gt;1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на средний собственный капитал RO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ценивая текущее положение банка на финансовом рынке Казахстана, и определяя перспективные планы, можно с уверенностью говорить об оптимистичном прогнозе дальнейшего  развития АО «Народный Банк Казахстана» как одного из крупнейших банков страны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ей перспективой развития должно стать совершенствование методик анализа. Совершенствование методик анализа должно происходить на базе накопления опыта межбанковского кредитования у казахстанских банков.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следовать теоретические аспекты финансового анали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ть проблему финансовой деятельности ба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ить перспективы развития оценки финансового состояния ба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и укрепление института банковского аудита в Казахстане должно в дальнейшем сказаться на качестве отчетности и, соответственно, на дистанционном анализ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результате анализа работы АО «Народный банк» и его финансового состояния было выявлено, что банк является доходным и его финансовое положение устойчивым, т.к. результаты анализа показали увеличение почти всех показателей бан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ивая текущее положение  банка на  финансовом рынке Казахстана, и определяя перспективные планы, можно с уверенностью говорить об оптимистическом прогнозе дальнейшего развития АО «Народный Банк Казахстана» как одного из крупнейших банков страны имеется в виду ближайшее будущее и долгосрочную перспектив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 направлением реализации выработанных стратегических задач должно стать повышение эффективности деятельности Банка за счет улучшения качества и доходности активов, активизация работы с проблемными кредитами, усиление диверсификации кредитного портфел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нансовый анализ направлен на изучение финансового состояния банка, использования его финансовых ресурсов. Надо определить, что представляет финансовое состояние банка, и каковы его характерные признаки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ежеспособность и финансовая устойчивость являются важнейшими  характеристиками финансово-экономической деятельности банка в условиях рыночной экономи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ктуальность темы: В условиях рыночной экономики многие традиционные взгляды, касающиеся изученности проблемы как рационально организовать финансовую деятельность банка для его дальнейшего процветания; как повысить эффективность управления финансовыми ресурсами; насколько правильно банк управляет финансовыми ресурсами в течение определенного периода, требует своего нового теоретического обосн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финансовую устойчивость банка влияет огромное многообразие факторов таких, ка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ожение банка на  рынк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го потенциал в деловом сотрудничеств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ень зависимости от внешних кредиторов и инвест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ичие неплатежеспособных дебит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ффективность хозяйственных и финансовых операций и т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з финансового состояния банка является составной частью общего финансового анализа. По мнению аналитиков, экспресс-анализ целесообразно выполнять в три этапа: подготовительный этап, предварительный обзор финансовой отчетности, экономическое чтение и анализ отчетн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овременных условиях банку, чтобы преодолеть проблемы и выжить необходимо, проявить инициативу, предприимчивость и бережливость для улучшения финансового состояния и для повышения эффективности производст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птуальный подход, использованный органами банковского надзора США при формировании комплексной оценки устойчивости банков, получивший название CAMELS основан 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ке и анализе совокупности факторов, влияющих на финансовое состояние банка   -   достаточности    капитала,    качества    активов,    ликвидности,    прибыльности, менеджмента, чувствительности к риск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нии рейтинговой модели оце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артизации рейтингового процес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53:45Z</dcterms:created>
  <dc:creator>User</dc:creator>
  <dc:description/>
  <dc:language>en-US</dc:language>
  <cp:lastModifiedBy>User</cp:lastModifiedBy>
  <dcterms:modified xsi:type="dcterms:W3CDTF">2008-05-06T13:32:34Z</dcterms:modified>
  <cp:revision>2</cp:revision>
  <dc:subject/>
  <dc:title>Слайд 1</dc:title>
</cp:coreProperties>
</file>