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4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3199-2BEC-42DE-AEC2-89646642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F5B1-B955-4926-85C6-AA77614E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05FB-DA8D-448F-9CB1-F4E100411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C108-21FF-42D2-8AF9-57350CA5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956E-51A7-4C29-A59C-C725AB4B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FDFB-2038-49EF-B94D-4A938F9F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33B6-CCA4-48A9-AE56-67E4797D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D752-5E67-479C-8990-6C7CBF23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4D2F-275C-4FA4-AB62-89413C47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586B-580D-43AB-AB4C-81A6CC39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C95C-AEFA-4A09-9571-8544160F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20D9-73B6-4A2C-BE40-4645FF47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4D72-B6A3-43F9-93BC-9B2725EB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D227-4DDB-41EC-82C2-5BECE285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206C-09EC-4BA0-8B50-1480A731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ABF2-E2B2-4B46-B2E6-0C5FCD13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8154-2E76-4949-9BC7-F6F24598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3127-CB68-4582-A8C8-5348768B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2DE6-0F96-4AF4-837A-71430C29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9E93-6C70-479E-B6F6-80F28A30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0B81-A6BD-4EF1-A592-01EE5E07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C2F3-4D6D-42F6-9DAE-9E8FAEFF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DA41-C95E-4FEA-9685-F572DA09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2508-E04E-4BD6-8FB6-F5D6D0EB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2866-5CC7-4CD6-BF54-02F4BCE86E1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CFB8-50B9-494D-9605-70F8FBAEC82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2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09440" y="1365120"/>
            <a:ext cx="904716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429080" y="4000680"/>
            <a:ext cx="4286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ила Антропова Екатерина, группа 3 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2" descr="C:\Users\КАТЕРИНА\Desktop\Экономика\full_1_Kopiyanews.jpg"/>
          <p:cNvPicPr/>
          <p:nvPr/>
        </p:nvPicPr>
        <p:blipFill>
          <a:blip r:embed="rId1"/>
          <a:stretch/>
        </p:blipFill>
        <p:spPr>
          <a:xfrm>
            <a:off x="714240" y="642960"/>
            <a:ext cx="7286760" cy="4930920"/>
          </a:xfrm>
          <a:prstGeom prst="rect">
            <a:avLst/>
          </a:prstGeom>
          <a:ln w="0">
            <a:noFill/>
          </a:ln>
        </p:spPr>
      </p:pic>
      <p:sp>
        <p:nvSpPr>
          <p:cNvPr id="112" name="Управляющая кнопка: возврат 4"/>
          <p:cNvSpPr/>
          <p:nvPr/>
        </p:nvSpPr>
        <p:spPr>
          <a:xfrm>
            <a:off x="8072280" y="5786280"/>
            <a:ext cx="785880" cy="78588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ервый этап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рождение предпринимательских отношений на Рус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Второй этап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царский пери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Третий этап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оветский пери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Четвертый этап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современный период в истории частного предпринимательства в Росси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3" descr=""/>
          <p:cNvPicPr/>
          <p:nvPr/>
        </p:nvPicPr>
        <p:blipFill>
          <a:blip r:embed="rId1"/>
          <a:stretch/>
        </p:blipFill>
        <p:spPr>
          <a:xfrm>
            <a:off x="208080" y="-6480"/>
            <a:ext cx="8942400" cy="153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2908440" y="1481040"/>
            <a:ext cx="35352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-23760" y="-6480"/>
            <a:ext cx="9339120" cy="1670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2627280" y="1627200"/>
            <a:ext cx="427356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-128520" y="208080"/>
            <a:ext cx="9461520" cy="1528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2981160" y="1908000"/>
            <a:ext cx="3389400" cy="42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353880" y="19080"/>
            <a:ext cx="8296560" cy="1407960"/>
          </a:xfrm>
          <a:prstGeom prst="rect">
            <a:avLst/>
          </a:prstGeom>
          <a:ln w="0">
            <a:noFill/>
          </a:ln>
        </p:spPr>
      </p:pic>
      <p:grpSp>
        <p:nvGrpSpPr>
          <p:cNvPr id="122" name="Рисунок 2"/>
          <p:cNvGrpSpPr/>
          <p:nvPr/>
        </p:nvGrpSpPr>
        <p:grpSpPr>
          <a:xfrm>
            <a:off x="1762200" y="1792440"/>
            <a:ext cx="5943600" cy="4395600"/>
            <a:chOff x="1762200" y="1792440"/>
            <a:chExt cx="5943600" cy="4395600"/>
          </a:xfrm>
        </p:grpSpPr>
        <p:pic>
          <p:nvPicPr>
            <p:cNvPr id="123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1762200" y="1792440"/>
              <a:ext cx="5943600" cy="43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1828800" y="1832040"/>
              <a:ext cx="5486400" cy="39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828800" y="1166400"/>
            <a:ext cx="5486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2" descr="C:\Users\КАТЕРИНА\Desktop\Экономика\1234.jpg"/>
          <p:cNvPicPr/>
          <p:nvPr/>
        </p:nvPicPr>
        <p:blipFill>
          <a:blip r:embed="rId3"/>
          <a:stretch/>
        </p:blipFill>
        <p:spPr>
          <a:xfrm>
            <a:off x="1857240" y="1214280"/>
            <a:ext cx="54295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3" descr=""/>
          <p:cNvPicPr/>
          <p:nvPr/>
        </p:nvPicPr>
        <p:blipFill>
          <a:blip r:embed="rId1"/>
          <a:stretch/>
        </p:blipFill>
        <p:spPr>
          <a:xfrm>
            <a:off x="3230640" y="208080"/>
            <a:ext cx="5919840" cy="6441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КАТЕРИНА\Desktop\Экономика\image002.jpeg"/>
          <p:cNvPicPr/>
          <p:nvPr/>
        </p:nvPicPr>
        <p:blipFill>
          <a:blip r:embed="rId2"/>
          <a:stretch/>
        </p:blipFill>
        <p:spPr>
          <a:xfrm>
            <a:off x="214200" y="500040"/>
            <a:ext cx="328608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2" descr=""/>
          <p:cNvPicPr/>
          <p:nvPr/>
        </p:nvPicPr>
        <p:blipFill>
          <a:blip r:embed="rId1"/>
          <a:stretch/>
        </p:blipFill>
        <p:spPr>
          <a:xfrm>
            <a:off x="66600" y="-66600"/>
            <a:ext cx="9199800" cy="1109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-360" y="999720"/>
            <a:ext cx="70722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Гражданин вправе заниматься предпринимательской деят-стью без образования юридического лица с момента государственной регистрации в качестве индивидуального пред-принимател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 Глава крестьянского (фермерского) хозяйства, осуществляющего деятельность без образования юридического лица (статья 257), признается предпринимателем с момента государственной регистрации крестьянского (фермерского) хоз-в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 К предпринимательской деятельности граждан, осуществляемой без образования юридического лица, соответственно применяются правила настоящего Кодекса, которые регулируют деятельность юри-дических лиц, являющихся коммерческими организациями, если иное не вытекает из закона, иных правовых актов или существа правоотнош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. Гражданин, осуществляющий предпринимательскую дея-ть без образования юридического лица с нарушением требований пункта 1 настоящей статьи, не вправе ссылаться в отношении заключенных им при этом сделок на то, что он не является предпринимателем. Суд может применить к таким сделкам правила настоящего Кодекса об обязательствах, связанных с осуществлением предпринимательской деятель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7000920" y="1214280"/>
            <a:ext cx="21430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йти государственную регистрацию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тать на налоговый учет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учить статистические коды (ОКПО, ОКВЭД, др.) в территориальном органе Росcтата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тать на учет в отделении Пенсионного фонда РФ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тать на учет в Фонде социального страхования (в случае найма предпринимателем работников по трудовым договорам)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готовить печа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Управляющая кнопка: в конец 4"/>
          <p:cNvSpPr/>
          <p:nvPr/>
        </p:nvSpPr>
        <p:spPr>
          <a:xfrm>
            <a:off x="8429760" y="60008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15496" y="10800"/>
                </a:moveTo>
                <a:lnTo>
                  <a:pt x="4990" y="17806"/>
                </a:lnTo>
                <a:lnTo>
                  <a:pt x="4990" y="3794"/>
                </a:lnTo>
                <a:close/>
              </a:path>
              <a:path fill="darken" w="23993" h="21600">
                <a:moveTo>
                  <a:pt x="17341" y="3794"/>
                </a:moveTo>
                <a:lnTo>
                  <a:pt x="17341" y="17806"/>
                </a:lnTo>
                <a:lnTo>
                  <a:pt x="19003" y="17806"/>
                </a:lnTo>
                <a:lnTo>
                  <a:pt x="19003" y="3794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Заголовок 1" descr=""/>
          <p:cNvPicPr/>
          <p:nvPr/>
        </p:nvPicPr>
        <p:blipFill>
          <a:blip r:embed="rId2"/>
          <a:stretch/>
        </p:blipFill>
        <p:spPr>
          <a:xfrm>
            <a:off x="-268200" y="4492800"/>
            <a:ext cx="8504280" cy="2371680"/>
          </a:xfrm>
          <a:prstGeom prst="rect">
            <a:avLst/>
          </a:prstGeom>
          <a:ln w="0">
            <a:noFill/>
          </a:ln>
        </p:spPr>
      </p:pic>
      <p:sp>
        <p:nvSpPr>
          <p:cNvPr id="93" name="Управляющая кнопка: возврат 4"/>
          <p:cNvSpPr/>
          <p:nvPr/>
        </p:nvSpPr>
        <p:spPr>
          <a:xfrm>
            <a:off x="357120" y="285840"/>
            <a:ext cx="500040" cy="64296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642960"/>
              <a:gd name="textAreaBottom" fmla="*/ 610560 h 642960"/>
            </a:gdLst>
            <a:ahLst/>
            <a:rect l="textAreaLeft" t="textAreaTop" r="textAreaRight" b="textAreaBottom"/>
            <a:pathLst>
              <a:path w="21600" h="27769">
                <a:moveTo>
                  <a:pt x="0" y="0"/>
                </a:moveTo>
                <a:lnTo>
                  <a:pt x="21600" y="0"/>
                </a:lnTo>
                <a:lnTo>
                  <a:pt x="21600" y="27769"/>
                </a:lnTo>
                <a:lnTo>
                  <a:pt x="0" y="27769"/>
                </a:lnTo>
                <a:close/>
              </a:path>
              <a:path fill="lightenLess" w="21600" h="277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9">
                <a:moveTo>
                  <a:pt x="21600" y="0"/>
                </a:moveTo>
                <a:lnTo>
                  <a:pt x="21600" y="27769"/>
                </a:lnTo>
                <a:lnTo>
                  <a:pt x="20200" y="26369"/>
                </a:lnTo>
                <a:lnTo>
                  <a:pt x="20200" y="1400"/>
                </a:lnTo>
                <a:close/>
              </a:path>
              <a:path fill="darkenLess" w="21600" h="27769">
                <a:moveTo>
                  <a:pt x="21600" y="27769"/>
                </a:moveTo>
                <a:lnTo>
                  <a:pt x="0" y="27769"/>
                </a:lnTo>
                <a:lnTo>
                  <a:pt x="1400" y="26369"/>
                </a:lnTo>
                <a:lnTo>
                  <a:pt x="20200" y="26369"/>
                </a:lnTo>
                <a:close/>
              </a:path>
              <a:path fill="lighten" w="21600" h="27769">
                <a:moveTo>
                  <a:pt x="0" y="277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9"/>
                </a:lnTo>
                <a:close/>
              </a:path>
              <a:path fill="darken" w="21600" h="27769">
                <a:moveTo>
                  <a:pt x="3794" y="10577"/>
                </a:moveTo>
                <a:lnTo>
                  <a:pt x="7301" y="10577"/>
                </a:lnTo>
                <a:lnTo>
                  <a:pt x="7301" y="15913"/>
                </a:lnTo>
                <a:cubicBezTo>
                  <a:pt x="7301" y="16835"/>
                  <a:pt x="8102" y="17566"/>
                  <a:pt x="9138" y="17566"/>
                </a:cubicBezTo>
                <a:lnTo>
                  <a:pt x="10800" y="17566"/>
                </a:lnTo>
                <a:cubicBezTo>
                  <a:pt x="11836" y="17566"/>
                  <a:pt x="12636" y="16835"/>
                  <a:pt x="12636" y="15913"/>
                </a:cubicBezTo>
                <a:lnTo>
                  <a:pt x="12636" y="10577"/>
                </a:lnTo>
                <a:lnTo>
                  <a:pt x="10800" y="10577"/>
                </a:lnTo>
                <a:lnTo>
                  <a:pt x="14308" y="7070"/>
                </a:lnTo>
                <a:lnTo>
                  <a:pt x="17981" y="10577"/>
                </a:lnTo>
                <a:lnTo>
                  <a:pt x="16144" y="10577"/>
                </a:lnTo>
                <a:lnTo>
                  <a:pt x="16144" y="15913"/>
                </a:lnTo>
                <a:cubicBezTo>
                  <a:pt x="16144" y="18680"/>
                  <a:pt x="13568" y="21239"/>
                  <a:pt x="10800" y="21239"/>
                </a:cubicBezTo>
                <a:lnTo>
                  <a:pt x="9138" y="21239"/>
                </a:lnTo>
                <a:cubicBezTo>
                  <a:pt x="6370" y="21239"/>
                  <a:pt x="3794" y="18680"/>
                  <a:pt x="3794" y="15913"/>
                </a:cubicBez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767120" y="268200"/>
            <a:ext cx="4473720" cy="5310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886280" cy="6934320"/>
          </a:xfrm>
          <a:prstGeom prst="rect">
            <a:avLst/>
          </a:prstGeom>
          <a:ln w="0">
            <a:noFill/>
          </a:ln>
        </p:spPr>
      </p:pic>
      <p:sp>
        <p:nvSpPr>
          <p:cNvPr id="96" name="Управляющая кнопка: возврат 4"/>
          <p:cNvSpPr/>
          <p:nvPr/>
        </p:nvSpPr>
        <p:spPr>
          <a:xfrm>
            <a:off x="8001000" y="5786280"/>
            <a:ext cx="857160" cy="85752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520"/>
              <a:gd name="textAreaBottom" fmla="*/ 802080 h 85752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  <a:path fill="darken" w="21600" h="21609">
                <a:moveTo>
                  <a:pt x="3794" y="7497"/>
                </a:moveTo>
                <a:lnTo>
                  <a:pt x="7301" y="7497"/>
                </a:lnTo>
                <a:lnTo>
                  <a:pt x="7301" y="12832"/>
                </a:lnTo>
                <a:cubicBezTo>
                  <a:pt x="7301" y="13755"/>
                  <a:pt x="8102" y="14486"/>
                  <a:pt x="9138" y="14486"/>
                </a:cubicBezTo>
                <a:lnTo>
                  <a:pt x="10800" y="14486"/>
                </a:lnTo>
                <a:cubicBezTo>
                  <a:pt x="11836" y="14486"/>
                  <a:pt x="12636" y="13755"/>
                  <a:pt x="12636" y="12832"/>
                </a:cubicBezTo>
                <a:lnTo>
                  <a:pt x="12636" y="7497"/>
                </a:lnTo>
                <a:lnTo>
                  <a:pt x="10800" y="7497"/>
                </a:lnTo>
                <a:lnTo>
                  <a:pt x="14308" y="3990"/>
                </a:lnTo>
                <a:lnTo>
                  <a:pt x="17981" y="7497"/>
                </a:lnTo>
                <a:lnTo>
                  <a:pt x="16144" y="7497"/>
                </a:lnTo>
                <a:lnTo>
                  <a:pt x="16144" y="12832"/>
                </a:lnTo>
                <a:cubicBezTo>
                  <a:pt x="16144" y="15600"/>
                  <a:pt x="13568" y="18159"/>
                  <a:pt x="10800" y="18159"/>
                </a:cubicBezTo>
                <a:lnTo>
                  <a:pt x="9138" y="18159"/>
                </a:lnTo>
                <a:cubicBezTo>
                  <a:pt x="6370" y="18159"/>
                  <a:pt x="3794" y="15600"/>
                  <a:pt x="3794" y="12832"/>
                </a:cubicBez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3" descr=""/>
          <p:cNvPicPr/>
          <p:nvPr/>
        </p:nvPicPr>
        <p:blipFill>
          <a:blip r:embed="rId1"/>
          <a:stretch/>
        </p:blipFill>
        <p:spPr>
          <a:xfrm>
            <a:off x="1852560" y="-450720"/>
            <a:ext cx="5499000" cy="1358640"/>
          </a:xfrm>
          <a:prstGeom prst="rect">
            <a:avLst/>
          </a:prstGeom>
          <a:ln w="0">
            <a:noFill/>
          </a:ln>
        </p:spPr>
      </p:pic>
      <p:grpSp>
        <p:nvGrpSpPr>
          <p:cNvPr id="98" name="Рисунок 4"/>
          <p:cNvGrpSpPr/>
          <p:nvPr/>
        </p:nvGrpSpPr>
        <p:grpSpPr>
          <a:xfrm>
            <a:off x="1762200" y="1792440"/>
            <a:ext cx="5943600" cy="4395600"/>
            <a:chOff x="1762200" y="1792440"/>
            <a:chExt cx="5943600" cy="4395600"/>
          </a:xfrm>
        </p:grpSpPr>
        <p:pic>
          <p:nvPicPr>
            <p:cNvPr id="99" name="Рисунок 4" descr=""/>
            <p:cNvPicPr/>
            <p:nvPr/>
          </p:nvPicPr>
          <p:blipFill>
            <a:blip r:embed="rId2"/>
            <a:stretch/>
          </p:blipFill>
          <p:spPr>
            <a:xfrm>
              <a:off x="1762200" y="1792440"/>
              <a:ext cx="5943600" cy="43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1828800" y="1832040"/>
              <a:ext cx="5486400" cy="39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828800" y="1166400"/>
            <a:ext cx="5486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2" descr="C:\Users\КАТЕРИНА\Desktop\Экономика\big_443.jpg"/>
          <p:cNvPicPr/>
          <p:nvPr/>
        </p:nvPicPr>
        <p:blipFill>
          <a:blip r:embed="rId3"/>
          <a:stretch/>
        </p:blipFill>
        <p:spPr>
          <a:xfrm>
            <a:off x="1643040" y="714240"/>
            <a:ext cx="6000840" cy="5953320"/>
          </a:xfrm>
          <a:prstGeom prst="rect">
            <a:avLst/>
          </a:prstGeom>
          <a:ln w="0">
            <a:noFill/>
          </a:ln>
        </p:spPr>
      </p:pic>
      <p:sp>
        <p:nvSpPr>
          <p:cNvPr id="103" name="Управляющая кнопка: возврат 7"/>
          <p:cNvSpPr/>
          <p:nvPr/>
        </p:nvSpPr>
        <p:spPr>
          <a:xfrm>
            <a:off x="8072280" y="5786280"/>
            <a:ext cx="785880" cy="78588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571680"/>
            <a:ext cx="8229600" cy="57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едеральная служба государственной статистики (Росстат, ранее Госкомстат) является федеральным органом исполнительной власти, осуществляющим функции по формированию официальной статистической информации о социальном, экономическом, демографическом и экологическом положении страны (далее — статистическая информация), а также функции по контролю и надзору в области государственной статистической деятельности на территории Российской Федер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Управляющая кнопка: возврат 8"/>
          <p:cNvSpPr/>
          <p:nvPr/>
        </p:nvSpPr>
        <p:spPr>
          <a:xfrm>
            <a:off x="8072280" y="5786280"/>
            <a:ext cx="785880" cy="78588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357200" y="357120"/>
            <a:ext cx="6357960" cy="5838840"/>
          </a:xfrm>
          <a:prstGeom prst="rect">
            <a:avLst/>
          </a:prstGeom>
          <a:ln w="0">
            <a:noFill/>
          </a:ln>
        </p:spPr>
      </p:pic>
      <p:sp>
        <p:nvSpPr>
          <p:cNvPr id="108" name="Управляющая кнопка: возврат 4"/>
          <p:cNvSpPr/>
          <p:nvPr/>
        </p:nvSpPr>
        <p:spPr>
          <a:xfrm>
            <a:off x="8072280" y="5786280"/>
            <a:ext cx="785880" cy="78588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08:12:29Z</dcterms:created>
  <dc:creator>КАТЕРИНА</dc:creator>
  <dc:description/>
  <dc:language>en-US</dc:language>
  <cp:lastModifiedBy>Максим</cp:lastModifiedBy>
  <dcterms:modified xsi:type="dcterms:W3CDTF">2010-12-17T12:52:41Z</dcterms:modified>
  <cp:revision>22</cp:revision>
  <dc:subject/>
  <dc:title>Слайд 1</dc:title>
</cp:coreProperties>
</file>