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0AA-AFAB-47AC-849A-16F5F481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269-5188-49E1-9654-E90418AD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921-E90F-4C7B-921D-6AB4BCA3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A4C-AB27-4178-B1E0-B5485164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9C9-02BB-41AA-8434-6BB61A1E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7C8-EBFD-4F46-A45E-214B2A61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2C8-49AF-4332-A7CF-BB001A02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1BF-24D4-4DB2-AB3F-4755F60C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C3F-CCCC-4D6D-9AEE-4C5E8153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7AE-9FA5-49D4-A1E6-60A4EAB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80F-D345-4B38-A362-8572A61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534-B773-4DBB-871D-AC61A738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1836-3247-4D29-833F-443D83645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141264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кл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324000" y="2298600"/>
            <a:ext cx="8423280" cy="172404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2"/>
          <a:stretch/>
        </p:blipFill>
        <p:spPr>
          <a:xfrm>
            <a:off x="5126040" y="4432320"/>
            <a:ext cx="38419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дресации в соответствии с нерасширенным Frame Rel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894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раметры качества обслуживания Frame Rel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552600" y="1557360"/>
            <a:ext cx="811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CIR=B(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/T(c) — макс гарантированная полоса пропуск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EI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(B(c) + B(e))/T(c) — макс негарантированная полоса пропуск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(c) - количество бит, гарантированно передаваемых за время T(c) даже при перегрузке сети, B(e) — максимальное количество бит, которые могут быть переданы за время T(c) при недогрузке с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1692360" y="3187800"/>
            <a:ext cx="61801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ти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.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2" descr=""/>
          <p:cNvPicPr/>
          <p:nvPr/>
        </p:nvPicPr>
        <p:blipFill>
          <a:blip r:embed="rId1"/>
          <a:stretch/>
        </p:blipFill>
        <p:spPr>
          <a:xfrm>
            <a:off x="328680" y="1590840"/>
            <a:ext cx="84866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заимоотношения между объектами сети Х.2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303200" y="1916280"/>
            <a:ext cx="6516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ецификация Х.25 в эталонной модели O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313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ть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ame Re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2" descr=""/>
          <p:cNvPicPr/>
          <p:nvPr/>
        </p:nvPicPr>
        <p:blipFill>
          <a:blip r:embed="rId1"/>
          <a:stretch/>
        </p:blipFill>
        <p:spPr>
          <a:xfrm>
            <a:off x="328680" y="1590840"/>
            <a:ext cx="83581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ть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ame Re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2" descr=""/>
          <p:cNvPicPr/>
          <p:nvPr/>
        </p:nvPicPr>
        <p:blipFill>
          <a:blip r:embed="rId1"/>
          <a:stretch/>
        </p:blipFill>
        <p:spPr>
          <a:xfrm>
            <a:off x="371520" y="1773360"/>
            <a:ext cx="85899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имущества FR перед технологиями X.25 и ISD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86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руктурная схема сети Frame Rel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425520" y="1628640"/>
            <a:ext cx="8350200" cy="31687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423720" y="4797360"/>
            <a:ext cx="835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T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ata Terminal Equipment) – аппаратура передачи данных (маршрутизаторы, мосты, П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C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ata Circuit-Terminating Equipment) – оконечное оборудование канала передачи данных (телекоммуникационное оборудование, обеспечивающее доступ к се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ормат ка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6240" y="5477040"/>
            <a:ext cx="871524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126640" cy="503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552600" y="2060640"/>
            <a:ext cx="811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е Фла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кадр начинается и замыкается «флагом» — последовательностью «01111110». Данное поле выполняет функцию обрамления кад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ле Адрес (Заголов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 Адрес кадра Frame Relay, кроме собственно адресной информации, содержит также и дополнительные поля управления потоком данных и уведомлений о перегрузке канала и имеет следующую структур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2:39:35Z</dcterms:created>
  <dc:creator>Антоха</dc:creator>
  <dc:description/>
  <dc:language>en-US</dc:language>
  <cp:lastModifiedBy>Антоха</cp:lastModifiedBy>
  <dcterms:modified xsi:type="dcterms:W3CDTF">2010-11-03T03:34:28Z</dcterms:modified>
  <cp:revision>8</cp:revision>
  <dc:subject/>
  <dc:title>Доклад</dc:title>
</cp:coreProperties>
</file>