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B6A7-D435-4F53-8C6A-8F400A907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C117-3B60-4404-9B17-0883476A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BCE0-F4F8-4153-AB32-60A71ECE9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1611-EEB0-4DF0-8956-7C10AF50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431C-4D01-424F-B2E3-6058710F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3B54-D433-4023-953E-8728611B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842F-26EA-4C82-AC19-19725988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AA24-068E-466E-841D-121C1BFA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53CB-FF86-4C78-8C49-95D90001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3F71-A460-4086-B8D3-C2768271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3485-27F1-4F41-9916-4AD2123A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15C1-B21C-44BF-BF14-D078394D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3FA6-9957-414E-A37F-3B012FC1794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5318-5783-40D3-B702-E93EEA9ADD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26920" y="1412640"/>
            <a:ext cx="38163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кла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одзаголовок 2" descr=""/>
          <p:cNvPicPr/>
          <p:nvPr/>
        </p:nvPicPr>
        <p:blipFill>
          <a:blip r:embed="rId1"/>
          <a:stretch/>
        </p:blipFill>
        <p:spPr>
          <a:xfrm>
            <a:off x="208080" y="2230560"/>
            <a:ext cx="8746920" cy="1755720"/>
          </a:xfrm>
          <a:prstGeom prst="rect">
            <a:avLst/>
          </a:prstGeom>
          <a:ln w="0">
            <a:noFill/>
          </a:ln>
        </p:spPr>
      </p:pic>
      <p:pic>
        <p:nvPicPr>
          <p:cNvPr id="43" name="Подзаголовок 2" descr=""/>
          <p:cNvPicPr/>
          <p:nvPr/>
        </p:nvPicPr>
        <p:blipFill>
          <a:blip r:embed="rId2"/>
          <a:stretch/>
        </p:blipFill>
        <p:spPr>
          <a:xfrm>
            <a:off x="5126040" y="4432320"/>
            <a:ext cx="3841920" cy="20541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AEDB-3EA8-4CA4-921D-1E9E4AA65A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QL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1557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англ. Structured Query Language — «язык структурированных запросов») — универсальный компьютерный информационно-логический язык, появившийся в результате разработки реляционной модели данных, применяемый для создания, модификации и управления данными в реляционных базах данны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нципиально отличается от традиционных алгоритмических языков программирования прежде всего тем, что он относится к непроцедурным языкам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настоящее время получил очень широкое распространение и фактически превратился в стандартный язык реляционных баз данных. Стандарт на язык SQL был выпущен Американским национальным институтом стандартов (ANSI) в 1986 г., а в 1987 г. Международная организация стандартов (ISO) приняла его в качестве международного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A921-3B9D-4014-AAF2-FD7E1BEC8A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хема взаимодействия клиентского приложения с сервером Б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260D-CDA1-4DC2-A3CB-7F263225BC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017720" y="1773360"/>
            <a:ext cx="7153200" cy="43527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9D00-4D2D-41DB-A0D8-092823B8EB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684360" y="692280"/>
            <a:ext cx="770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зык SQL позволяет только манипулировать данными, но в нем отсутствуют средства создания экранного интерфейса, что необходимо для пользовательских приложений. Для создания этого интерфейса служат универсальные языки третьего поколения (C, C++, Pascal) или проблемно-ориентированные языки четвертого поко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xBase, Informix 4Gl, Progress, Jam,..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и языки содержат необходимые операт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вода / вывода на экран, а также операторы структурного программирова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овместимост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8000" y="1557000"/>
            <a:ext cx="8434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се конкретные реализации языка несколько отличаются друг от друга. В интересах самих же производителей гарантировать, чтобы их реализация соответствовала современным стандартам ANSI в части переносимости и удобства работы пользователей. Тем не менее каждая реализация SQL содержит усовершенствования, отвечающие требованиям того или иного сервера баз данных. Эти усовершенствования или расширения языка SQL представляют собой дополнительные команды и опции, являющиеся добавлениями к стандартному пакету и доступные в данной конкретной реализаци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До 1996 года вопросами соответствия коммерческих реализаций SQL стандарту занимался в основном Национальный институт стандартов и технологий (NIST), который и устанавливал уровень соответствия стандарт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741B-53D3-43CA-8887-6717CFA4B5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92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терактивный (или автономный) SQL дает возможность пользователям непосредственно извлекать информацию из базы или записывать в нее данные. Информация, получаемая по запросу SQL, может быть выдана на экран, в файл или на принте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татический SQL позволяет записать фиксированный исполняемый код SQL, он обычно используется в приложениях на процедурных язык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Встроенный SQL определен как код SQL, который включен в исходный текст программы, написанной на другом языке программирования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Модульный SQL. Операторы SQL записаны в отдельных модулях, которые компонуются с модулями основного языка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инамический SQL дает возможность генерировать код SQL во время исполнения приложения и используется вместо статического SQL в тех случаях, когда при разработке приложения необходимый код SQL еще не может быть определен или зависит от того, какой выбор сделает пользователь. (диалоговые среды для построения запросов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715B-0868-4CB6-B839-E775F8C123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92040"/>
          </a:xfrm>
          <a:prstGeom prst="rect">
            <a:avLst/>
          </a:prstGeom>
          <a:ln w="0">
            <a:noFill/>
          </a:ln>
        </p:spPr>
      </p:pic>
      <p:pic>
        <p:nvPicPr>
          <p:cNvPr id="59" name="Объект 2" descr=""/>
          <p:cNvPicPr/>
          <p:nvPr/>
        </p:nvPicPr>
        <p:blipFill>
          <a:blip r:embed="rId2"/>
          <a:stretch/>
        </p:blipFill>
        <p:spPr>
          <a:xfrm>
            <a:off x="401760" y="1262160"/>
            <a:ext cx="8285040" cy="4973400"/>
          </a:xfrm>
          <a:prstGeom prst="rect">
            <a:avLst/>
          </a:prstGeom>
          <a:ln w="0">
            <a:noFill/>
          </a:ln>
        </p:spPr>
      </p:pic>
      <p:sp>
        <p:nvSpPr>
          <p:cNvPr id="6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0019-BB02-4CFA-A406-AB9A8739A4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еимущества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B250-9BDA-44A3-A8BF-A8AA975DB2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андартност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зависимость от конкретных СУБД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зможность переноса с одной вычислительной системы на другую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еляционная основа язы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зможность создания интерактивных запрос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еспечение различного представления данных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зможность динамического изменения и расширения структуры БД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ддержка архитектуры клиент-серве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едостатки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6978-12DE-40CF-B0A3-C16E076B7D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86920" y="1773000"/>
            <a:ext cx="71298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соответствие реляционной модели данных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ложност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ступления от стандарт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ложность работы с иерархическими структурам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02:39:35Z</dcterms:created>
  <dc:creator>Антоха</dc:creator>
  <dc:description/>
  <dc:language>en-US</dc:language>
  <cp:lastModifiedBy>Антоха</cp:lastModifiedBy>
  <dcterms:modified xsi:type="dcterms:W3CDTF">2010-12-23T03:37:55Z</dcterms:modified>
  <cp:revision>17</cp:revision>
  <dc:subject/>
  <dc:title>Доклад</dc:title>
</cp:coreProperties>
</file>