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42E-4238-41FF-8F76-172F05F3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5F7-055A-4C89-A1EB-B18C2DBB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C90-2DA3-4F9F-A0EB-633DE8BB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832-5B6A-4B5B-B296-838F4498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C23-B954-4CEC-95C4-85126DB0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2EA-E711-4B97-8A61-F7CAE048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D2C-2B0C-41D3-9A43-73D17E6D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505-CA5D-4605-9C23-A188ED76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6A2-1643-4FF8-8F98-23235E0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FD0-ED5A-4516-B842-DE55AB0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186-1042-4AED-864F-E4D6D44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62E-DA0A-472A-A455-2C656933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ED82-603E-4450-8697-5521EFD6F0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BAE3-3317-4B17-B25E-5865E087A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4287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04a7b"/>
                </a:solidFill>
                <a:latin typeface="Calibri"/>
              </a:rPr>
              <a:t>автор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: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учень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11-Б клас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Гудухін Віталі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DEC-397D-4238-BC38-5C1B71E005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3A6-4643-4A1E-AB3B-C47F12352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9" descr=""/>
          <p:cNvPicPr/>
          <p:nvPr/>
        </p:nvPicPr>
        <p:blipFill>
          <a:blip r:embed="rId2"/>
          <a:stretch/>
        </p:blipFill>
        <p:spPr>
          <a:xfrm>
            <a:off x="-128520" y="195120"/>
            <a:ext cx="9321840" cy="981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ru.jpg"/>
          <p:cNvPicPr/>
          <p:nvPr/>
        </p:nvPicPr>
        <p:blipFill>
          <a:blip r:embed="rId3"/>
          <a:stretch/>
        </p:blipFill>
        <p:spPr>
          <a:xfrm>
            <a:off x="1285920" y="1357200"/>
            <a:ext cx="63579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7375e"/>
                </a:solidFill>
                <a:latin typeface="Calibri"/>
              </a:rPr>
              <a:t>Для переходу на початок програми натисніть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F923-B758-4F51-9A9A-7DCB327BB5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2A1C-768B-4E8D-A8BC-A0923BD1B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10" descr=""/>
          <p:cNvPicPr/>
          <p:nvPr/>
        </p:nvPicPr>
        <p:blipFill>
          <a:blip r:embed="rId1"/>
          <a:stretch/>
        </p:blipFill>
        <p:spPr>
          <a:xfrm>
            <a:off x="-146160" y="1298520"/>
            <a:ext cx="9350640" cy="118908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4286160" y="571500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1</a:t>
            </a:r>
            <a:r>
              <a:rPr b="0" i="1" lang="en-US" sz="4400" spc="-1" strike="noStrike">
                <a:solidFill>
                  <a:srgbClr val="e46c0a"/>
                </a:solidFill>
                <a:latin typeface="Calibri"/>
              </a:rPr>
              <a:t>.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Види мов програмування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2. Основні поняття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3. Синтаксис мов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5226-1F5F-4979-80B1-D0F65787F2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5FC-2D1B-4D81-A12B-ADFC18444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7" descr=""/>
          <p:cNvPicPr/>
          <p:nvPr/>
        </p:nvPicPr>
        <p:blipFill>
          <a:blip r:embed="rId2"/>
          <a:stretch/>
        </p:blipFill>
        <p:spPr>
          <a:xfrm>
            <a:off x="1652760" y="0"/>
            <a:ext cx="58878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-2215080" y="1714680"/>
            <a:ext cx="9501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8291-33EA-402D-883C-5C9CFDE41C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3CAC-5D0D-4D18-BB73-CD6DE7B3E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9" descr=""/>
          <p:cNvPicPr/>
          <p:nvPr/>
        </p:nvPicPr>
        <p:blipFill>
          <a:blip r:embed="rId1"/>
          <a:stretch/>
        </p:blipFill>
        <p:spPr>
          <a:xfrm>
            <a:off x="347760" y="23760"/>
            <a:ext cx="862020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2" descr="Ris_1002.gif"/>
          <p:cNvPicPr/>
          <p:nvPr/>
        </p:nvPicPr>
        <p:blipFill>
          <a:blip r:embed="rId2"/>
          <a:stretch/>
        </p:blipFill>
        <p:spPr>
          <a:xfrm>
            <a:off x="428760" y="1357200"/>
            <a:ext cx="8358120" cy="4838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лгоритм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ивається зрозуміле і точне розпорядження виконавцю виконати послідовність дій, спрямованих на досягнення зазначеної мети чи на розв'язання поставленої задач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DBCD-2283-406C-8290-E2FDE4398A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7024-F178-4FC8-B09F-2A729EA0F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7" descr=""/>
          <p:cNvPicPr/>
          <p:nvPr/>
        </p:nvPicPr>
        <p:blipFill>
          <a:blip r:embed="rId1"/>
          <a:stretch/>
        </p:blipFill>
        <p:spPr>
          <a:xfrm>
            <a:off x="652320" y="0"/>
            <a:ext cx="7473960" cy="114624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2560" y="1213920"/>
            <a:ext cx="86439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04a7b"/>
                </a:solidFill>
                <a:latin typeface="Calibri"/>
              </a:rPr>
              <a:t>Ліній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E3FB-65E0-485E-8C6C-E32FC5CFEB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2B0-BDB9-4EA2-AEDE-295DD47E4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9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354240" cy="7794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2"/>
          <a:stretch/>
        </p:blipFill>
        <p:spPr>
          <a:xfrm>
            <a:off x="1060560" y="30240"/>
            <a:ext cx="6699240" cy="113328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4" descr="Ris_1001.gif"/>
          <p:cNvPicPr/>
          <p:nvPr/>
        </p:nvPicPr>
        <p:blipFill>
          <a:blip r:embed="rId3"/>
          <a:stretch/>
        </p:blipFill>
        <p:spPr>
          <a:xfrm>
            <a:off x="3357720" y="2071800"/>
            <a:ext cx="2428560" cy="4214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Розгалуж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CB2-02DC-4032-80F0-F0501E7847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C922-8BDA-4C98-8EE8-B1D484813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Ris_2001.gif"/>
          <p:cNvPicPr/>
          <p:nvPr/>
        </p:nvPicPr>
        <p:blipFill>
          <a:blip r:embed="rId1"/>
          <a:stretch/>
        </p:blipFill>
        <p:spPr>
          <a:xfrm>
            <a:off x="642960" y="1785960"/>
            <a:ext cx="79945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Цикліч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054B-F6A7-4AC0-900D-6A0F7D6B89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968-4E82-4B69-B270-800388FBD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Ris_30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16556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7933c"/>
                </a:solidFill>
                <a:latin typeface="Calibri"/>
              </a:rPr>
              <a:t>В будь-якій мові програмування можна виділити чотири типи елементів, що використовуються при побудові описів прогр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286080" y="3499920"/>
            <a:ext cx="87868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имвол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лова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вираз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                          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команди (оператор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2713-5ED7-4FC3-94F1-00C2A59FFC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1202-F547-471F-AEB2-BF5AEA7F3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0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6778800" cy="118764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11" descr="pabcnet.jpg"/>
          <p:cNvPicPr/>
          <p:nvPr/>
        </p:nvPicPr>
        <p:blipFill>
          <a:blip r:embed="rId1"/>
          <a:stretch/>
        </p:blipFill>
        <p:spPr>
          <a:xfrm>
            <a:off x="1428840" y="1428840"/>
            <a:ext cx="61484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5D69-BB17-4E14-A9F6-7194FF5F97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7FB-72EE-4CAF-993E-B66471C8B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7" descr=""/>
          <p:cNvPicPr/>
          <p:nvPr/>
        </p:nvPicPr>
        <p:blipFill>
          <a:blip r:embed="rId2"/>
          <a:stretch/>
        </p:blipFill>
        <p:spPr>
          <a:xfrm>
            <a:off x="-298440" y="36360"/>
            <a:ext cx="9698040" cy="1133640"/>
          </a:xfrm>
          <a:prstGeom prst="rect">
            <a:avLst/>
          </a:prstGeom>
          <a:ln w="0">
            <a:noFill/>
          </a:ln>
        </p:spPr>
      </p:pic>
      <p:sp>
        <p:nvSpPr>
          <p:cNvPr id="111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6:57:58Z</dcterms:created>
  <dc:creator>Гудухин Виталий</dc:creator>
  <dc:description/>
  <dc:language>en-US</dc:language>
  <cp:lastModifiedBy>Гудухин Виталий</cp:lastModifiedBy>
  <dcterms:modified xsi:type="dcterms:W3CDTF">2009-06-05T17:20:25Z</dcterms:modified>
  <cp:revision>60</cp:revision>
  <dc:subject/>
  <dc:title> </dc:title>
</cp:coreProperties>
</file>