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AE74-B1D4-4837-B031-3E7FBDFBB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68E1-D46B-471B-BEC1-CC13CED4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D3F1B5-73E2-4C9E-8AF8-14C8D571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5EF9AE-B956-408C-AF2C-10C61FE8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22A797-78B9-4684-8B67-500954AD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F5754C-CAE7-4DA2-A512-D8EBAD54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94D93A-1B7B-4DCC-8DD0-95307986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6C7803-D549-49CC-9187-E7DD5FB5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4AD32F-E5F2-4E08-A4D9-9ED6887E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06F346-718E-4B68-903F-29BA146E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B0E49B-203F-4B78-B79F-351CA770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BE6A4-E32E-42F9-A4C3-6B703910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22E3-3203-4B0E-B0C4-13730DD5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05E3E-538B-4D69-8DFD-BB2D4862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8D4AD-64C6-4061-9C7F-141209E4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8F22D-4E9A-461E-8847-A8FCD24E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3255F-2A75-4636-BF6A-FE6D78EA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5015D-FF46-40D6-81DE-11E1BEF0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C1673-A392-4D0D-8DE3-92855FBA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609D5-265C-4B10-B070-8C19BC7C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9D92E-49C5-4F79-BECB-5B8000FE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2687D-66C5-42B9-AC58-DDC145C4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991DF-80C4-414C-94AE-75C39FCB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3940-C4B5-438A-852C-4137AE4A4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6438AB-7A63-482B-B305-66DE1FF1C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3F828-BCC9-4835-80F1-B4F51CB75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3DB4C-C075-4FA4-9458-6E0ACF5E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D7051-688E-405B-9BD9-F04CB7B0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CFDA8-05F6-47BE-9764-D8A4846C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6F130-6F7C-4584-92CA-469A5703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FBC1A-193D-407A-93DB-615BE9B9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035C8-AE49-4590-B021-F57C2F6F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4E388-FF7C-4A74-B963-752D0324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6FD96-CBCD-4328-8FE9-75DEB90C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F35C-5693-4B95-A71C-60D3450BE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E290E-7AA4-4A23-9AD0-6840A413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2DCB4-783D-4035-A4DB-F4A86490A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80B51-CD57-49AD-AAC1-C3BEDBB6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A69FF3-6EC5-4215-A9C5-604A0C487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DEA649-1A7F-44AD-B382-24E8C605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7E4D99-1D3D-463E-A4F4-5ED2CBE3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9BBF88-05DC-4A6E-9D45-08E95784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BBDBF-38E6-4462-9405-67309D4C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51A8A-1EA4-4D8D-9512-053A6B85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B28700-5AFE-43FF-BB49-E479854D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7EE5-636B-4144-9220-F8156BDC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F8147-4733-4EEC-B85C-D9030606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1EEA22-C165-4220-B357-A710BD3E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7E731-402C-4C02-A8BC-7CDD2FD8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FA11EB-34E3-4FB0-901B-896349BB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61C27-AE0D-4E93-B051-70461E791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4DC0E4-AB2B-4387-B479-647CCF523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189AC0-BD95-4E15-BDF5-787D862E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B8CEAB-9473-4AFA-AF9A-5A8BD92C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4C3011-7E79-48CE-BBA1-38B858B2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A24F5F-0C7A-4ACB-9CFC-3C0C90CF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C3BD-5D31-4245-A96E-3F76AD73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75D5FE-A7E2-4EB2-AB2F-D339E931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BC1964-575D-45D1-90BA-36849F32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344F6E-FEBF-4416-8076-85DC7145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27ED25-5383-4B89-90DC-53210B05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7BDFE3-6EB2-4A9C-BEA4-C10B16D1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DFDAD7-4126-4436-995E-A72923365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D85D27-2919-4F76-8E53-BFA15C08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A593F8-1EE5-4A1E-A310-A2B315305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6E77E8-D754-4CF9-9F83-995039DA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674C88-5C95-4CD6-A2F2-373DC9F5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4E48-09DD-43DC-A5D2-1E6F6B78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D135C1-B75D-4CD1-A634-307F1128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AAED9A-0CD8-45DC-A99D-B4210210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569E8C-2D9F-4D1B-BB7B-4093C1E8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16EAB8-489B-4552-B74D-DC1798F2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54EA91-64B2-45BA-A422-2171F3BC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44E813-4726-485F-99D5-A40A1F51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2D842F-D2F6-4A0C-8ACE-70CECAC7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203A2D-9FEA-454E-95BA-90E13E514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3F029D-B51A-46A5-9B2F-2E2CFA963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D060-A38E-4789-8CA6-390049BC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92BD-5AA9-4D72-8F55-E668FDF8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87EB-1E78-446E-B145-A4ABC3CA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5D15-BF9B-4137-850E-F81DA2EB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93D4-173B-42FA-9920-8835F39A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8E9A-07C4-4E2F-83BB-4B871BBB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DAD9-97FF-4BF4-B5E2-7FC4AE2F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80AA-5BEB-4662-AB73-0329FA66B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DA64-5A1C-49FE-B454-F32283E4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B3458-7E60-4204-B1B1-3AD2A94AB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4C29B-FD92-49F2-A034-398F12B4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83787-D387-420D-9C51-ECAC460B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B15B5-3FCE-4F61-854D-34122BE5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66816-E22D-4209-93C4-C9C573E4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EAFD-1CB7-40DC-B2FB-0CCCDF63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092A6-A27B-474A-B09E-5C16ED0A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707F3-F422-46F6-A57E-3A543DEB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870A9-974F-4552-BDEE-EA29B399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B1EB3-9389-4B73-8960-840791CD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12F92-A4ED-410D-8937-D9A3D9EC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E5DDD-093E-4AD3-AD74-9892FA655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BCA50-20B4-4AF2-8D1D-26D2B80E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10AF7-2B37-49D6-B982-D214FEDD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20C33-01B3-4EFA-B5DC-E35FEA55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281B1-E552-4043-9D6E-7236E54D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068F-786D-4048-A7B6-46BCE06E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90989-A628-44F2-BE29-88BD427C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D686D-A06B-4567-A0CB-DA39A434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DA659-ADA9-4EBF-9624-A9C8DDC8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E9D03-00C4-454B-9605-A28F3BA7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CD59B-BEE1-4739-8305-FDC0FE5F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BEAAA-5AD9-4F65-9A26-8C5BB97B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4B704-B02F-4036-9592-008D7D2F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C1A4D-25F3-46FE-AE9C-1852C27B4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3ED9B-DFFA-47C4-87B7-A0A438EB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95B5E-31D5-48F1-A834-2C9267E79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6C71-0748-4816-A11E-968A357D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4E545-FD5F-430B-BD41-04A84225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CFFC8-D544-4E49-8B23-28C10A9B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F24A4-A13B-4B2E-9AC4-9B7912C7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E386A-47DD-4AC5-BC85-37E2418C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8C8BB-042D-495C-B846-F341BE97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4E891-3EB0-4291-92E0-BDDF1EE5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DF710-42ED-4552-A804-B7CA0C0F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68C6E-06D4-4AFB-807E-6B15288A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18BE6-11A0-450D-A5D7-30D5CCFE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1CF5F-125A-4F88-9E24-0DBD64E44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54FE-E32A-4535-8D90-8E3C92A2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2CF65-0924-4EF7-BAA1-DA3E1F64E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49423-758A-44F2-A2C7-1B6BF1C6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03B50-6F22-4826-B686-F6909246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34423-5D8D-4985-B8B7-5FC4A251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A0A06-EE87-436E-A080-B1B9CE15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DFD6A-F704-4C44-AD73-236E729C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145F2-36CC-4C1D-8781-45A1DD42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4F46B-A26B-4073-998F-882BE22A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B2697-4B36-4BDE-984D-637CBAC3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FD25E-51F7-4447-816B-B84D8673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CC0E-1D8E-4466-9F48-54B9A084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A80D7-6092-4A16-940C-DD0CDE1F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6122E-072F-41F2-9281-70FCB1E58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EDB92-2A24-4172-BAB4-32677012F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263E65-556A-4975-A1A2-EDAF5ECCB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A3E93B-C2ED-42DF-94DB-D01D217A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451F38-E45D-4216-AC53-37CC07A6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8FE387-05F3-44CC-BDF9-8FF5D2D3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926443-1DE3-409B-AD53-B3E5ED88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CEFEF3-4898-4A3D-B51C-9CFB7B29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79B1EF-DA81-49E0-8D59-5480B081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533C-941E-4DF4-A507-3272423B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49089D-2330-489C-B4ED-DDBE950E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AA9B5E-9863-4A7A-A368-9806A703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D66BC4-565B-4896-ADD7-E354FFFD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C254E4-54A1-47BD-84ED-ED1180FAA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6772E0-3E8C-4198-B8BE-C4AB78D1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A3F19-581C-476A-9F57-DE0CE176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962A5-B37E-4A26-81B0-6ED7EC03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A708B-D7F0-4970-96BE-F0DE2AFA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DE1AE-615F-443E-9132-0361E809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6E49F-5C76-4355-A52E-11D9A64A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35A2-5F7B-470E-A3D8-3E3CC312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6455B-62A2-4A93-88B1-80B96E5E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979C7-C827-409E-BD14-00DF4F17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8AA50-A274-47E2-889F-483DD9D8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62AEB-0329-4128-8A46-4726238F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1DCD2-6ADB-409A-8BDC-139AC9BF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CC285-CE94-41C6-A432-60AE4AB1B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59D9D-F3BA-4513-BD25-F08B16B42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33BD7B-034B-4649-AFF4-64B87771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6EE08E-92F1-4BE3-A577-0A19BB65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00474A-F97C-4E39-9FF4-F5FE5FD9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AF9D-8E99-40A3-BDA6-C0B6F722522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791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33B6-EAF2-43FC-876E-3AB3EFD09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04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55" name="PlaceHolder 1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224E-6F58-40E4-811C-189441272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09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C7DD-5FC1-4020-9224-826314F5B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dt" idx="3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sldNum" idx="3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D590-135E-4DC3-98A5-ACEB216EC5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146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147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152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15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3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19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19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20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dt" idx="4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 type="ftr" idx="4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 type="sldNum" idx="4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9004-9A0B-4D81-A8BE-97640C78CE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6E1D-9F0B-4837-BCB4-7A593B96811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4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9A9F-EC93-4F26-ADDB-ECE36F68B36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90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FB92-730C-46FA-A819-B88DCE62771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66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70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95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9F7D-B9D5-42A5-8E9D-09A0A8F5FB3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44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48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DF48-60FC-44C8-8CF6-1D8DEF784D1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C1EB-AB58-4049-B825-46F5148C4B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42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40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B087-F19F-4E30-80A7-9DE31F0C45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48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534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49" name="PlaceHolder 1"/>
          <p:cNvSpPr>
            <a:spLocks noGrp="1"/>
          </p:cNvSpPr>
          <p:nvPr>
            <p:ph type="sldNum" idx="2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AD36-1E83-4E53-A840-93BA769A4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dt" idx="2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ftr" idx="2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2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"/>
              </a:rPr>
              <a:t>Решение транспортной задачи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ыполнил студент группы ПО-08: Гудов Александ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верил преподаватель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анасенко Наталья Алексее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Транспортная задач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S Exc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щая таблиц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7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5952960" cy="1333440"/>
          </a:xfrm>
          <a:prstGeom prst="rect">
            <a:avLst/>
          </a:prstGeom>
          <a:ln w="0">
            <a:noFill/>
          </a:ln>
        </p:spPr>
      </p:pic>
      <p:pic>
        <p:nvPicPr>
          <p:cNvPr id="1278" name="" descr=""/>
          <p:cNvPicPr/>
          <p:nvPr/>
        </p:nvPicPr>
        <p:blipFill>
          <a:blip r:embed="rId2"/>
          <a:stretch/>
        </p:blipFill>
        <p:spPr>
          <a:xfrm>
            <a:off x="2286000" y="4038480"/>
            <a:ext cx="3962520" cy="2243160"/>
          </a:xfrm>
          <a:prstGeom prst="rect">
            <a:avLst/>
          </a:prstGeom>
          <a:ln w="0">
            <a:noFill/>
          </a:ln>
        </p:spPr>
      </p:pic>
      <p:sp>
        <p:nvSpPr>
          <p:cNvPr id="1279" name=""/>
          <p:cNvSpPr/>
          <p:nvPr/>
        </p:nvSpPr>
        <p:spPr>
          <a:xfrm>
            <a:off x="380880" y="33526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Поиск реш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2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2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Транспортная задач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вод целевой функц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2" name="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792468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600"/>
                            </p:stCondLst>
                            <p:childTnLst>
                              <p:par>
                                <p:cTn id="3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2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Транспортная задач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аключени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курсовой работе изложены основные подходы и методы решения транспортной задачи, являющейся одной из наиболее распространенных задач линейного программирования. Решение данной задачи позволяет разработать наиболее рациональные пути и способы транспортирования товаров, устранить чрезмерно дальние, встречные, повторные перевозки. Все это сокращает время продвижения товаров, уменьшает затраты предприятий и фирм, связанные с осуществлением процессов снабжения сырьем, материалами, топливом, оборудованием и т.д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данной курсовой работе поставлена задача: минимизировать затраты на транспортировку продукции потребителям. При выполнении курсовой работы были использованы знания по предметам: «Математические методы», «Пакеты прикладных программ». Решение было проведено с помощью пакетов прикладных программ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icrosoft Excel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и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icrosoft Word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Результаты ручного просчёта сравнивались с результатами, полученными в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icrosoft Excel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2000"/>
                                        <p:tgtEl>
                                          <p:spTgt spid="1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Транспортная задач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Цель работы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f00"/>
                </a:solidFill>
                <a:latin typeface="Verdana"/>
              </a:rPr>
              <a:t>Основной целью задачи является минимизировать затраты на транспортировку продукции потребителям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Транспортная задача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6879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словие 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Три предприятия данного экономического района могут производить однородную продукцию, в количествах соответственно равных А1, А2 и А3 единиц. Эта продукция должна быть поставлена 5-и потребителям в количествах, соответственно равных В1, В2, В3, В4 и В5 единиц. Затраты связанные с производством и доставкой продукции, задаются матрицей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1=180; А2=350; А3=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1=110; В2=90; В3=120; В4=80; В5=1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=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8" name=""/>
          <p:cNvGraphicFramePr/>
          <p:nvPr/>
        </p:nvGraphicFramePr>
        <p:xfrm>
          <a:off x="2133720" y="4114800"/>
          <a:ext cx="2077920" cy="912960"/>
        </p:xfrm>
        <a:graphic>
          <a:graphicData uri="http://schemas.openxmlformats.org/drawingml/2006/table">
            <a:tbl>
              <a:tblPr/>
              <a:tblGrid>
                <a:gridCol w="415080"/>
                <a:gridCol w="493920"/>
                <a:gridCol w="338040"/>
                <a:gridCol w="415440"/>
                <a:gridCol w="415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9" name=""/>
          <p:cNvSpPr/>
          <p:nvPr/>
        </p:nvSpPr>
        <p:spPr>
          <a:xfrm>
            <a:off x="2133720" y="4038480"/>
            <a:ext cx="75960" cy="990720"/>
          </a:xfrm>
          <a:custGeom>
            <a:avLst/>
            <a:gdLst>
              <a:gd name="textAreaLeft" fmla="*/ 22320 w 75960"/>
              <a:gd name="textAreaRight" fmla="*/ 76320 w 75960"/>
              <a:gd name="textAreaTop" fmla="*/ 41040 h 990720"/>
              <a:gd name="textAreaBottom" fmla="*/ 94968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3962520" y="4038480"/>
            <a:ext cx="75960" cy="990720"/>
          </a:xfrm>
          <a:custGeom>
            <a:avLst/>
            <a:gdLst>
              <a:gd name="textAreaLeft" fmla="*/ 0 w 75960"/>
              <a:gd name="textAreaRight" fmla="*/ 53280 w 75960"/>
              <a:gd name="textAreaTop" fmla="*/ 41040 h 990720"/>
              <a:gd name="textAreaBottom" fmla="*/ 9496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Транспортная задач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тематическая моде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уст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j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 количество груза перевозимого из пункт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пункт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1=40; А2=50; В1=20; В2=30; В3=40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5 7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=   4 6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елевая функция имеет вид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граничение по запасам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11 + Х12 + Х13 &lt;= 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21 + Х22 + Х23 &lt;= 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j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&gt;=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граничение по спросу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11 + Х21 &lt;= 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12 + Х22 &lt;= 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13 + Х23 &lt;= 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1143000" y="1905120"/>
            <a:ext cx="76320" cy="609480"/>
          </a:xfrm>
          <a:custGeom>
            <a:avLst/>
            <a:gdLst>
              <a:gd name="textAreaLeft" fmla="*/ 22320 w 76320"/>
              <a:gd name="textAreaRight" fmla="*/ 7632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1981080" y="190512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380880" y="3200400"/>
            <a:ext cx="152640" cy="533520"/>
          </a:xfrm>
          <a:custGeom>
            <a:avLst/>
            <a:gdLst>
              <a:gd name="textAreaLeft" fmla="*/ 97560 w 152640"/>
              <a:gd name="textAreaRight" fmla="*/ 153000 w 15264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380880" y="43434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1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1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1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1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1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500"/>
                                        <p:tgtEl>
                                          <p:spTgt spid="1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1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" dur="500"/>
                                        <p:tgtEl>
                                          <p:spTgt spid="1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1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1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1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" dur="500"/>
                                        <p:tgtEl>
                                          <p:spTgt spid="1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" dur="1000"/>
                                        <p:tgtEl>
                                          <p:spTgt spid="1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Транспортная задач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457200" y="914040"/>
            <a:ext cx="82296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тапы решения транспортной задач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Получение начального реш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Проверка решений на оптималь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Усовершенствование несовершенных реш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нтуитивный подх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верка на оптимальность и пересмотр несовершенных решений предусматривает анализ каждой пустой ячейки. Это выполняется так: одна единица перемещается в пустую ячейку и рассматривается влияние этого перемещения на стоимость. Если стоимость увеличилась, то это значит, что использование ячейки увеличило бы общие затраты. Если стоимость осталась не изменой, это значит альтернативный план с той же общей стоимостью. Если анализ показывает уменьшение – это значит возможно лучшее реш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Транспортная задача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038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атематическое реш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7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оставление первоначальной таблицы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57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61" name=""/>
          <p:cNvGraphicFramePr/>
          <p:nvPr/>
        </p:nvGraphicFramePr>
        <p:xfrm>
          <a:off x="380880" y="2057400"/>
          <a:ext cx="8382240" cy="3622680"/>
        </p:xfrm>
        <a:graphic>
          <a:graphicData uri="http://schemas.openxmlformats.org/drawingml/2006/table">
            <a:tbl>
              <a:tblPr/>
              <a:tblGrid>
                <a:gridCol w="760680"/>
                <a:gridCol w="761760"/>
                <a:gridCol w="763560"/>
                <a:gridCol w="760680"/>
                <a:gridCol w="761760"/>
                <a:gridCol w="765360"/>
                <a:gridCol w="761760"/>
                <a:gridCol w="760680"/>
                <a:gridCol w="763560"/>
                <a:gridCol w="761760"/>
                <a:gridCol w="760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5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2" name=""/>
          <p:cNvSpPr/>
          <p:nvPr/>
        </p:nvSpPr>
        <p:spPr>
          <a:xfrm>
            <a:off x="380880" y="571500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айдем целевую функцию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Z=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10*7+70*12+20*8+120*6+80*5+130*3+20*4=3360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4400"/>
                            </p:stCondLst>
                            <p:childTnLst>
                              <p:par>
                                <p:cTn id="175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77" dur="2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6400"/>
                            </p:stCondLst>
                            <p:childTnLst>
                              <p:par>
                                <p:cTn id="1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1" dur="3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Транспортная задач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4038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Оценивание пустых ячеек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65" name=""/>
          <p:cNvGraphicFramePr/>
          <p:nvPr/>
        </p:nvGraphicFramePr>
        <p:xfrm>
          <a:off x="457200" y="1371600"/>
          <a:ext cx="7620120" cy="2070000"/>
        </p:xfrm>
        <a:graphic>
          <a:graphicData uri="http://schemas.openxmlformats.org/drawingml/2006/table">
            <a:tbl>
              <a:tblPr/>
              <a:tblGrid>
                <a:gridCol w="692280"/>
                <a:gridCol w="693720"/>
                <a:gridCol w="691920"/>
                <a:gridCol w="692280"/>
                <a:gridCol w="693720"/>
                <a:gridCol w="692280"/>
                <a:gridCol w="693720"/>
                <a:gridCol w="691920"/>
                <a:gridCol w="692280"/>
                <a:gridCol w="693720"/>
                <a:gridCol w="692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1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1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1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6" name=""/>
          <p:cNvGraphicFramePr/>
          <p:nvPr/>
        </p:nvGraphicFramePr>
        <p:xfrm>
          <a:off x="457200" y="3581280"/>
          <a:ext cx="7620120" cy="3105000"/>
        </p:xfrm>
        <a:graphic>
          <a:graphicData uri="http://schemas.openxmlformats.org/drawingml/2006/table">
            <a:tbl>
              <a:tblPr/>
              <a:tblGrid>
                <a:gridCol w="692280"/>
                <a:gridCol w="693720"/>
                <a:gridCol w="691920"/>
                <a:gridCol w="692280"/>
                <a:gridCol w="693720"/>
                <a:gridCol w="692280"/>
                <a:gridCol w="693720"/>
                <a:gridCol w="691920"/>
                <a:gridCol w="692280"/>
                <a:gridCol w="693720"/>
                <a:gridCol w="692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13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1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9" dur="2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Транспортная задач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556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Четвертый шаг заполнения таблицы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69" name=""/>
          <p:cNvGraphicFramePr/>
          <p:nvPr/>
        </p:nvGraphicFramePr>
        <p:xfrm>
          <a:off x="457200" y="1447920"/>
          <a:ext cx="8305560" cy="3622680"/>
        </p:xfrm>
        <a:graphic>
          <a:graphicData uri="http://schemas.openxmlformats.org/drawingml/2006/table">
            <a:tbl>
              <a:tblPr/>
              <a:tblGrid>
                <a:gridCol w="755640"/>
                <a:gridCol w="755640"/>
                <a:gridCol w="752400"/>
                <a:gridCol w="755640"/>
                <a:gridCol w="754200"/>
                <a:gridCol w="758520"/>
                <a:gridCol w="754200"/>
                <a:gridCol w="755640"/>
                <a:gridCol w="752400"/>
                <a:gridCol w="755640"/>
                <a:gridCol w="755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5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0" name=""/>
          <p:cNvSpPr/>
          <p:nvPr/>
        </p:nvSpPr>
        <p:spPr>
          <a:xfrm>
            <a:off x="457200" y="533412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айдем целевую функцию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=120*4+60*6+110+90*8+20*5+130*3+20*4=224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6" dur="2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Транспортная задач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Оценивание ячеек на 4 шаге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73" name=""/>
          <p:cNvGraphicFramePr/>
          <p:nvPr/>
        </p:nvGraphicFramePr>
        <p:xfrm>
          <a:off x="533520" y="1295280"/>
          <a:ext cx="7696080" cy="2186280"/>
        </p:xfrm>
        <a:graphic>
          <a:graphicData uri="http://schemas.openxmlformats.org/drawingml/2006/table">
            <a:tbl>
              <a:tblPr/>
              <a:tblGrid>
                <a:gridCol w="698400"/>
                <a:gridCol w="703080"/>
                <a:gridCol w="698760"/>
                <a:gridCol w="698400"/>
                <a:gridCol w="698400"/>
                <a:gridCol w="701640"/>
                <a:gridCol w="698760"/>
                <a:gridCol w="698400"/>
                <a:gridCol w="698400"/>
                <a:gridCol w="703440"/>
                <a:gridCol w="69840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1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4" name=""/>
          <p:cNvGraphicFramePr/>
          <p:nvPr/>
        </p:nvGraphicFramePr>
        <p:xfrm>
          <a:off x="533520" y="3581280"/>
          <a:ext cx="7696080" cy="2587680"/>
        </p:xfrm>
        <a:graphic>
          <a:graphicData uri="http://schemas.openxmlformats.org/drawingml/2006/table">
            <a:tbl>
              <a:tblPr/>
              <a:tblGrid>
                <a:gridCol w="698400"/>
                <a:gridCol w="701640"/>
                <a:gridCol w="700200"/>
                <a:gridCol w="698400"/>
                <a:gridCol w="698400"/>
                <a:gridCol w="701640"/>
                <a:gridCol w="698760"/>
                <a:gridCol w="698400"/>
                <a:gridCol w="700200"/>
                <a:gridCol w="701640"/>
                <a:gridCol w="698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a</cp:lastModifiedBy>
  <dcterms:modified xsi:type="dcterms:W3CDTF">2010-12-13T15:27:28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